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861-1A49-4D10-A0CA-9B92A281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496-DB68-4EE3-8A19-433EAE2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853-F8D2-48A7-89BB-DAA15B31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C1-E7CE-4AD2-A157-D3F0805C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A9B-52B8-471B-80DA-852DA170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8E4-D537-4ED9-AB40-4A777E9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BD2-C02D-4240-A356-4A51B89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FBBC-5552-4347-9E94-6BDECB9C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65B9-945B-47A1-BE5E-40C59BE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4635-F345-478B-B597-5987C98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B014-093A-4A23-81DD-4E9811C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526-0DC9-4DA5-ACE3-4E1F00AA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34A0-533F-4888-A1C9-CC60FBE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447-BF24-4AEE-B62D-31455AE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88D-836F-4ABA-BD34-55311422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8B40-35D9-4683-9AFC-696E0490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0CD5-CFBB-47DE-B54B-1B99C952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887-5725-4489-8E3A-76CB0ED2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488-CB0E-40DD-9A15-304B631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7B3-FBD3-436B-B61D-E8C2A42C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F0F-4400-4C19-895C-00AE7677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CC9-8FFA-4493-B890-DF6FCCE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BCF-448E-4CC9-8AD0-1988BF8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E1E-BFD8-4EF4-9874-BB6633D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DEB-59EE-4FD9-BF7A-C72291BC843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BD2-9B59-42A8-ADE7-5FFD48849AE2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armacología Cardiovascul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   Riñon  y Coraz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I  Vasos Sanguín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iu 01"/>
          <p:cNvPicPr/>
          <p:nvPr/>
        </p:nvPicPr>
        <p:blipFill>
          <a:blip r:embed="rId1"/>
          <a:stretch/>
        </p:blipFill>
        <p:spPr>
          <a:xfrm>
            <a:off x="1714680" y="1428840"/>
            <a:ext cx="5911560" cy="52210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/>
          <p:cNvSpPr/>
          <p:nvPr/>
        </p:nvSpPr>
        <p:spPr>
          <a:xfrm rot="20148000">
            <a:off x="5314680" y="3894120"/>
            <a:ext cx="947520" cy="355680"/>
          </a:xfrm>
          <a:prstGeom prst="rightArrow">
            <a:avLst>
              <a:gd name="adj1" fmla="val 50000"/>
              <a:gd name="adj2" fmla="val 400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 rot="20106600">
            <a:off x="6992640" y="4538520"/>
            <a:ext cx="689040" cy="381240"/>
          </a:xfrm>
          <a:prstGeom prst="leftArrow">
            <a:avLst>
              <a:gd name="adj1" fmla="val 50000"/>
              <a:gd name="adj2" fmla="val 35026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7 Flecha derecha"/>
          <p:cNvSpPr/>
          <p:nvPr/>
        </p:nvSpPr>
        <p:spPr>
          <a:xfrm rot="1516800">
            <a:off x="4959360" y="2478240"/>
            <a:ext cx="977760" cy="357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6 Marco"/>
          <p:cNvSpPr/>
          <p:nvPr/>
        </p:nvSpPr>
        <p:spPr>
          <a:xfrm>
            <a:off x="5286240" y="3214800"/>
            <a:ext cx="1000440" cy="357120"/>
          </a:xfrm>
          <a:custGeom>
            <a:avLst/>
            <a:gdLst>
              <a:gd name="textAreaLeft" fmla="*/ 44640 w 1000440"/>
              <a:gd name="textAreaRight" fmla="*/ 955800 w 100044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00125" h="357187">
                <a:moveTo>
                  <a:pt x="0" y="0"/>
                </a:moveTo>
                <a:lnTo>
                  <a:pt x="1000125" y="0"/>
                </a:lnTo>
                <a:lnTo>
                  <a:pt x="1000125" y="357187"/>
                </a:lnTo>
                <a:lnTo>
                  <a:pt x="0" y="357187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955477" y="312539"/>
                </a:lnTo>
                <a:lnTo>
                  <a:pt x="955477" y="4464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Economizadores de 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 y 9    Spironolact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Antagoniza a Aldostero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. Recamb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cel.prin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de K+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(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el.interca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0  Amilorida, Triamtereno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Inhib.Canales de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Independientes de Aldosterona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del epitelio re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Ahorradores de Potasi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vitar pérdida excesiva de potasio ( K&lt;&lt;Na/extra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rrestan alcalosis metabólica de otros diurétic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yuvantes de diuréticos más potentes en la H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horradores de Potasio / E.Adv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kalemia.Con función renal alterada o exc.ingest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les K de fárma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idosis Hipercloré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piro : Trastornos G.I.  Contraindicada en úlcera pèp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inecomastia / Irregularidades menstru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Otros Diu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1.-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itol, Urea, Gluc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Glicerina e Isosorbide oftal.o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cia  es  f [dosis]   iv.  (infus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3"/>
          <p:cNvSpPr/>
          <p:nvPr/>
        </p:nvSpPr>
        <p:spPr>
          <a:xfrm rot="20071200">
            <a:off x="2555640" y="1372680"/>
            <a:ext cx="220680" cy="640080"/>
          </a:xfrm>
          <a:prstGeom prst="downArrow">
            <a:avLst>
              <a:gd name="adj1" fmla="val 42037"/>
              <a:gd name="adj2" fmla="val 36243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143160" y="4800600"/>
            <a:ext cx="514440" cy="38088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4 Elipse"/>
          <p:cNvSpPr/>
          <p:nvPr/>
        </p:nvSpPr>
        <p:spPr>
          <a:xfrm>
            <a:off x="1214280" y="2714760"/>
            <a:ext cx="50040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5 Flecha izquierda"/>
          <p:cNvSpPr/>
          <p:nvPr/>
        </p:nvSpPr>
        <p:spPr>
          <a:xfrm rot="1716000">
            <a:off x="1890360" y="2940120"/>
            <a:ext cx="581040" cy="288720"/>
          </a:xfrm>
          <a:prstGeom prst="leftArrow">
            <a:avLst>
              <a:gd name="adj1" fmla="val 50000"/>
              <a:gd name="adj2" fmla="val 4991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6 Flecha arriba"/>
          <p:cNvSpPr/>
          <p:nvPr/>
        </p:nvSpPr>
        <p:spPr>
          <a:xfrm>
            <a:off x="5286240" y="5786280"/>
            <a:ext cx="214560" cy="50040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Mecanismo  Diuréticos Osmót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úbulo proximal y Asa descendente delg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“ perme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l agu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fecto  sobre Grad. Osm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Osmol.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   Con dilución de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4:  La  diluc.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0 :     Manitol        vasodil.  arteriola  afer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 FPR y VFG)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5 Flecha derecha"/>
          <p:cNvSpPr/>
          <p:nvPr/>
        </p:nvSpPr>
        <p:spPr>
          <a:xfrm>
            <a:off x="3132000" y="5734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Uso de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ofilaxis de la insuficiencia renal aguda(IRA) y daño tubular. Mantienen diuresis y evitan anuria en casos de : politraumatismos, cirugías  CV de alta complejidad, ictericias graves o transfusiones incompatibles (aún a bajas vFG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ntoxicaciones agudas (barbitúricos, salicilatos, bromuros), forzar la diuresis y eliminar fármacos.  Impedir precipitación de fármacos y toxi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edema cerebral o presión intracraneana. De origen traumático o quirúrgico. Reducción volumen y presión del LC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presión  intraocular, previo a cirugía glaucom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Osmóticos / E.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o agudo del líquido extracelular , expansión plasmática o hipervol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pulmon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indicado en  edema   asociado  a   IC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hidratación e hipernatrem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Xantinas y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iu 01"/>
          <p:cNvPicPr/>
          <p:nvPr/>
        </p:nvPicPr>
        <p:blipFill>
          <a:blip r:embed="rId1"/>
          <a:stretch/>
        </p:blipFill>
        <p:spPr>
          <a:xfrm>
            <a:off x="1285920" y="1249200"/>
            <a:ext cx="6000840" cy="538956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3"/>
          <p:cNvSpPr/>
          <p:nvPr/>
        </p:nvSpPr>
        <p:spPr>
          <a:xfrm rot="20305200">
            <a:off x="6892920" y="28159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4"/>
          <p:cNvSpPr/>
          <p:nvPr/>
        </p:nvSpPr>
        <p:spPr>
          <a:xfrm rot="19578000">
            <a:off x="6678360" y="517824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785960" y="3357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6 Elipse"/>
          <p:cNvSpPr/>
          <p:nvPr/>
        </p:nvSpPr>
        <p:spPr>
          <a:xfrm>
            <a:off x="1143000" y="3214800"/>
            <a:ext cx="35712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2"/>
          <p:cNvSpPr/>
          <p:nvPr/>
        </p:nvSpPr>
        <p:spPr>
          <a:xfrm rot="658800">
            <a:off x="2914560" y="1915920"/>
            <a:ext cx="223920" cy="495000"/>
          </a:xfrm>
          <a:prstGeom prst="downArrow">
            <a:avLst>
              <a:gd name="adj1" fmla="val 50000"/>
              <a:gd name="adj2" fmla="val 5526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2.- Xantin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0    -  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odilatación   arteriolar  renal  con ↑ FP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estimulan coraz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1   -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absorción tubular de  Na  y  C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3.-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meclociclina (deriv.tetraciclin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1 y 12     Antagonista de ADH  en  R-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iu 06"/>
          <p:cNvPicPr/>
          <p:nvPr/>
        </p:nvPicPr>
        <p:blipFill>
          <a:blip r:embed="rId1"/>
          <a:stretch/>
        </p:blipFill>
        <p:spPr>
          <a:xfrm>
            <a:off x="3132000" y="404640"/>
            <a:ext cx="5586480" cy="608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230040" y="38088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cuarét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5 Elipse"/>
          <p:cNvSpPr/>
          <p:nvPr/>
        </p:nvSpPr>
        <p:spPr>
          <a:xfrm>
            <a:off x="3000240" y="2357280"/>
            <a:ext cx="995400" cy="5670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/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4 Flecha curvada hacia la izquierda"/>
          <p:cNvSpPr/>
          <p:nvPr/>
        </p:nvSpPr>
        <p:spPr>
          <a:xfrm>
            <a:off x="7429680" y="2500200"/>
            <a:ext cx="928440" cy="2000520"/>
          </a:xfrm>
          <a:custGeom>
            <a:avLst/>
            <a:gdLst>
              <a:gd name="textAreaLeft" fmla="*/ 124200 w 928440"/>
              <a:gd name="textAreaRight" fmla="*/ 804240 w 928440"/>
              <a:gd name="textAreaTop" fmla="*/ 412920 h 2000520"/>
              <a:gd name="textAreaBottom" fmla="*/ 147168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3479010"/>
                <a:lnTo>
                  <a:pt x="5400" y="21317"/>
                </a:lnTo>
                <a:lnTo>
                  <a:pt x="0" y="19093"/>
                </a:lnTo>
                <a:lnTo>
                  <a:pt x="5400" y="16303"/>
                </a:lnTo>
                <a:lnTo>
                  <a:pt x="5400" y="17556"/>
                </a:lnTo>
                <a:arcTo wR="21600" hR="8920" stAng="3479010" swAng="-3277658"/>
                <a:lnTo>
                  <a:pt x="21385" y="10174"/>
                </a:lnTo>
                <a:arcTo wR="21600" hR="8920" stAng="-201352" swAng="-5198648"/>
                <a:close/>
              </a:path>
              <a:path fill="darkenLess"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-201352"/>
                <a:lnTo>
                  <a:pt x="21385" y="10174"/>
                </a:lnTo>
                <a:arcTo wR="21600" hR="8920" stAng="-201352" swAng="-5198648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6 Marco"/>
          <p:cNvSpPr/>
          <p:nvPr/>
        </p:nvSpPr>
        <p:spPr>
          <a:xfrm>
            <a:off x="6588000" y="1916280"/>
            <a:ext cx="2160720" cy="57600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eclocic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Inotróp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UCÓSIDOS      CARDÍACOS 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RDIOTÓ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TROS  INÓTRO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cciones Farmacológ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elocidad  de 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 Refractario  Efe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atis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Acción sobre miocar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Incremento del desarrollo de tens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Times New Roman"/>
              </a:rPr>
              <a:t>1.1.-</a:t>
            </a: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 Nivel de A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2133720"/>
            <a:ext cx="7543800" cy="426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ññññññññl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429000" y="3276720"/>
            <a:ext cx="2362320" cy="19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Times New Roman"/>
              </a:rPr>
              <a:t>ATP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791320" y="41911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43828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5790960" y="4724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24382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27160" y="3851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77840" y="38005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78168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5238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553080" y="2895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781680" y="2895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791320" y="4723920"/>
            <a:ext cx="76176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640080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Glucósi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428472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859280" y="2205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28472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485928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-43"/>
          <p:cNvPicPr/>
          <p:nvPr/>
        </p:nvPicPr>
        <p:blipFill>
          <a:blip r:embed="rId1"/>
          <a:stretch/>
        </p:blipFill>
        <p:spPr>
          <a:xfrm>
            <a:off x="1371600" y="24120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-2"/>
          <p:cNvPicPr/>
          <p:nvPr/>
        </p:nvPicPr>
        <p:blipFill>
          <a:blip r:embed="rId1"/>
          <a:stretch/>
        </p:blipFill>
        <p:spPr>
          <a:xfrm>
            <a:off x="684360" y="7650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2 Marco"/>
          <p:cNvSpPr/>
          <p:nvPr/>
        </p:nvSpPr>
        <p:spPr>
          <a:xfrm>
            <a:off x="5572080" y="2857680"/>
            <a:ext cx="2786040" cy="1214280"/>
          </a:xfrm>
          <a:custGeom>
            <a:avLst/>
            <a:gdLst>
              <a:gd name="textAreaLeft" fmla="*/ 108000 w 2786040"/>
              <a:gd name="textAreaRight" fmla="*/ 2678040 w 2786040"/>
              <a:gd name="textAreaTop" fmla="*/ 108000 h 1214280"/>
              <a:gd name="textAreaBottom" fmla="*/ 1106280 h 1214280"/>
            </a:gdLst>
            <a:ahLst/>
            <a:rect l="textAreaLeft" t="textAreaTop" r="textAreaRight" b="textAreaBottom"/>
            <a:pathLst>
              <a:path w="2786063" h="1214438">
                <a:moveTo>
                  <a:pt x="0" y="0"/>
                </a:moveTo>
                <a:lnTo>
                  <a:pt x="2786063" y="0"/>
                </a:lnTo>
                <a:lnTo>
                  <a:pt x="2786063" y="1214438"/>
                </a:lnTo>
                <a:lnTo>
                  <a:pt x="0" y="1214438"/>
                </a:lnTo>
                <a:close/>
                <a:moveTo>
                  <a:pt x="108267" y="108267"/>
                </a:moveTo>
                <a:lnTo>
                  <a:pt x="108267" y="1106171"/>
                </a:lnTo>
                <a:lnTo>
                  <a:pt x="2677796" y="1106171"/>
                </a:lnTo>
                <a:lnTo>
                  <a:pt x="2677796" y="108267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1.2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la Inhibición de la Na/K-ATP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nsecuencia Prima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ación     ( N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/ K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&gt; 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la señal desencadena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cundariamente modi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quilibrio del ( C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391520" y="2743200"/>
            <a:ext cx="1218960" cy="35812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cardio-ren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Diuré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con Efecto Inótropo Posi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5867280" y="98100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643280" y="2060640"/>
            <a:ext cx="792360" cy="792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859280" y="3500280"/>
            <a:ext cx="433440" cy="865440"/>
          </a:xfrm>
          <a:custGeom>
            <a:avLst/>
            <a:gdLst>
              <a:gd name="textAreaLeft" fmla="*/ 57960 w 433440"/>
              <a:gd name="textAreaRight" fmla="*/ 375480 w 43344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1.3.-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Acción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Fuerza Resum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da depolarización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TPasa Sarcolema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(Na/K)i  &gt; 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cambiador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tocondrial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tículo Sarcoplásmico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 0+1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lc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&gt; N   en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{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.Sar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}              Miofibrillas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na/Tropomiosina/Troponina: T, I,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iosina/ATP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859280" y="4653000"/>
            <a:ext cx="719280" cy="288720"/>
          </a:xfrm>
          <a:custGeom>
            <a:avLst/>
            <a:gdLst>
              <a:gd name="textAreaLeft" fmla="*/ 112320 w 719280"/>
              <a:gd name="textAreaRight" fmla="*/ 629640 w 719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4 Flecha izquierda"/>
          <p:cNvSpPr/>
          <p:nvPr/>
        </p:nvSpPr>
        <p:spPr>
          <a:xfrm>
            <a:off x="5867280" y="4221000"/>
            <a:ext cx="642960" cy="2858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5 Rectángulo redondeado"/>
          <p:cNvSpPr/>
          <p:nvPr/>
        </p:nvSpPr>
        <p:spPr>
          <a:xfrm>
            <a:off x="6429240" y="2000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6 Flecha derecha"/>
          <p:cNvSpPr/>
          <p:nvPr/>
        </p:nvSpPr>
        <p:spPr>
          <a:xfrm>
            <a:off x="4429080" y="214308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-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cciones sobre 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Tejido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locidad  de 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íodo  Refractario  Efe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tomatismo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1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Disminución Frecuenc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 Direc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Potencial Umb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vDDL o  pend. Fase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mento del PDM del marcap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irecto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nsibilización  Rm del nodo 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joramiento Fuerza-Bainbridg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16360" y="1916280"/>
            <a:ext cx="3886200" cy="4419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87280" y="1916280"/>
            <a:ext cx="3529080" cy="43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           Frecuencia  vs  D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Farmacológ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 Dir / Indi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Pot. Um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ot.Diast.M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recuenc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do 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7636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May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en ATP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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ra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D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tomatismo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cos Ectópic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643040" y="100008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2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erapéuticas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do SA: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eve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r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ricula / Purkinje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óxicas] 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odos los  niveles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endiente fase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os ectóp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0080" y="468000"/>
            <a:ext cx="6562800" cy="98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Picture 3" descr="Tox-automatismo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3.-</a:t>
            </a:r>
            <a:r>
              <a:rPr b="0" lang="es-ES" sz="3500" spc="-1" strike="noStrike">
                <a:solidFill>
                  <a:srgbClr val="ffcc66"/>
                </a:solidFill>
                <a:latin typeface="Arial"/>
              </a:rPr>
              <a:t>   Velocidad de Conducción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Picture 5" descr="v de Conducción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4.-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Período refractario efectiv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2" name="Picture 7" descr="P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C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cción Cardíac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5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Excitabil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Picture 3" descr="Excitabilidad"/>
          <p:cNvPicPr/>
          <p:nvPr/>
        </p:nvPicPr>
        <p:blipFill>
          <a:blip r:embed="rId1"/>
          <a:stretch/>
        </p:blipFill>
        <p:spPr>
          <a:xfrm>
            <a:off x="133200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3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fectos Adversos/Tóxic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Cardía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ítmias progresivas en  f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lasmática]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asístoles  ventriculares  y  Auricular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 A-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 con  Bloqu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Ventricular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ibrilación  Vent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4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teracciones de lo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EN EF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orción GI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iácidos, Kaolin-Pect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ilidad GI s/H+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etoclopram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Metab.Hepático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nitoína.Fenilbutazon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rbitúricos,Spironolact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UMENTAN EF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.GI  y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.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agonistas Muscar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los Desplazan de Proteínas Plasmática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inid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Depletan K</a:t>
            </a:r>
            <a:r>
              <a:rPr b="1" lang="es-MX" sz="1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uréticos, Anfoteri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5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asociada a Fibrilación  Au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Taquicardia Compensatoria de la I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Frecuencia Ventricular de las arritmias auriculares de alta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nsformar Arritmias y Taquicardias Supra Ventriculares a ritmo sinus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sis usuales de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2492280"/>
          <a:ext cx="7186320" cy="2857680"/>
        </p:xfrm>
        <a:graphic>
          <a:graphicData uri="http://schemas.openxmlformats.org/drawingml/2006/table">
            <a:tbl>
              <a:tblPr/>
              <a:tblGrid>
                <a:gridCol w="2395440"/>
                <a:gridCol w="2395440"/>
                <a:gridCol w="23954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aque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-1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-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n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ar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5-0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-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6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tra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tornos (o fármacos) que  reduzcan conducción AV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AV     y       Síndrome de W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iocardiopatía Hipertró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farto Agudo Miocárd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POC con Hipox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del Hipertenso con alta postca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ffcc66"/>
                </a:solidFill>
                <a:latin typeface="Arial"/>
              </a:rPr>
              <a:t>OTROS  INÓTROPOS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GONIST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  FOSFODIESTER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Arial"/>
              </a:rPr>
              <a:t>Agonistas  </a:t>
            </a:r>
            <a:r>
              <a:rPr b="1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1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p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but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106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gonistas-</a:t>
            </a:r>
            <a:r>
              <a:rPr b="0" lang="el-GR" sz="4400" spc="-1" strike="noStrike">
                <a:solidFill>
                  <a:srgbClr val="ffcc66"/>
                </a:solidFill>
                <a:latin typeface="Arial"/>
              </a:rPr>
              <a:t>β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Picture 2" descr="d-30"/>
          <p:cNvPicPr/>
          <p:nvPr/>
        </p:nvPicPr>
        <p:blipFill>
          <a:blip r:embed="rId1"/>
          <a:stretch/>
        </p:blipFill>
        <p:spPr>
          <a:xfrm>
            <a:off x="2000160" y="1428840"/>
            <a:ext cx="5794560" cy="6337080"/>
          </a:xfrm>
          <a:prstGeom prst="rect">
            <a:avLst/>
          </a:prstGeom>
          <a:ln w="0">
            <a:noFill/>
          </a:ln>
        </p:spPr>
      </p:pic>
      <p:sp>
        <p:nvSpPr>
          <p:cNvPr id="192" name="3 Flecha curvada hacia la izquierda"/>
          <p:cNvSpPr/>
          <p:nvPr/>
        </p:nvSpPr>
        <p:spPr>
          <a:xfrm>
            <a:off x="5429160" y="1143000"/>
            <a:ext cx="642960" cy="1000080"/>
          </a:xfrm>
          <a:custGeom>
            <a:avLst/>
            <a:gdLst>
              <a:gd name="textAreaLeft" fmla="*/ 86040 w 642960"/>
              <a:gd name="textAreaRight" fmla="*/ 556920 w 642960"/>
              <a:gd name="textAreaTop" fmla="*/ 185400 h 1000080"/>
              <a:gd name="textAreaBottom" fmla="*/ 7174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3310415"/>
                <a:lnTo>
                  <a:pt x="5400" y="21345"/>
                </a:lnTo>
                <a:lnTo>
                  <a:pt x="0" y="17768"/>
                </a:lnTo>
                <a:lnTo>
                  <a:pt x="5400" y="13681"/>
                </a:lnTo>
                <a:lnTo>
                  <a:pt x="5400" y="15778"/>
                </a:lnTo>
                <a:arcTo wR="21600" hR="8017" stAng="3310415" swAng="-3028213"/>
                <a:lnTo>
                  <a:pt x="21088" y="9752"/>
                </a:lnTo>
                <a:arcTo wR="21600" hR="8017" stAng="-282202" swAng="-5117798"/>
                <a:close/>
              </a:path>
              <a:path fill="darkenLess"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-282202"/>
                <a:lnTo>
                  <a:pt x="21088" y="9752"/>
                </a:lnTo>
                <a:arcTo wR="21600" hR="8017" stAng="-282202" swAng="-511779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R-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                 Fuerza   &gt;&gt;   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 R-Dopamina  D1                            Vasodila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echo  renal  (preferente cortez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senté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ro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sis altas vasocontricción                   R-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3 Flecha derecha"/>
          <p:cNvSpPr/>
          <p:nvPr/>
        </p:nvSpPr>
        <p:spPr>
          <a:xfrm>
            <a:off x="2000160" y="24289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5 Conector recto de flecha"/>
          <p:cNvCxnSpPr/>
          <p:nvPr/>
        </p:nvCxnSpPr>
        <p:spPr>
          <a:xfrm>
            <a:off x="3714840" y="3214800"/>
            <a:ext cx="643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7" name="7 Conector recto de flecha"/>
          <p:cNvCxnSpPr/>
          <p:nvPr/>
        </p:nvCxnSpPr>
        <p:spPr>
          <a:xfrm>
            <a:off x="4071600" y="5785920"/>
            <a:ext cx="7866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tiarrítmic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a  bajas  d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2-4 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1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-10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0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y shock cardiogén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6286680" y="2500200"/>
            <a:ext cx="1368360" cy="1214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909771"/>
                <a:lnTo>
                  <a:pt x="6390" y="21262"/>
                </a:lnTo>
                <a:lnTo>
                  <a:pt x="0" y="17280"/>
                </a:lnTo>
                <a:lnTo>
                  <a:pt x="6390" y="12622"/>
                </a:lnTo>
                <a:lnTo>
                  <a:pt x="6390" y="14782"/>
                </a:lnTo>
                <a:arcTo wR="21600" hR="7560" stAng="2909771" swAng="-255233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2 Rectángulo"/>
          <p:cNvSpPr/>
          <p:nvPr/>
        </p:nvSpPr>
        <p:spPr>
          <a:xfrm>
            <a:off x="755640" y="1989000"/>
            <a:ext cx="65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acciones cardiovasculares de la dopamina son dosis   dependientes. La infusión endovenosa contínua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2 a 5 ug/kg/min. aumenta la contractilidad miocárd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l volumen minuto y el flujo sanguíneo ren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con pequeñ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 frecuencia cardíaca y con reducción de la resistencia periférica tot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 esta dosis se incrementa la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iuresi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los pacientes con ICC, lo que se debe a la combinación de efectos inotrópicos y vasodilatador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but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   2,5-15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/Kg/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&gt;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Inótropo (+)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n   taq.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   y    vasocontricción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(resist.vasc. no se modif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 y  shock cardiogé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falla ventricular aguda se asocia a Nit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cocardiograma  con  Dobutam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66"/>
                </a:solidFill>
                <a:latin typeface="Arial"/>
              </a:rPr>
              <a:t>Inhibidores  de  Fosfodiesterasa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ipiridí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067280" y="2637000"/>
            <a:ext cx="547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l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sna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mobend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rbaze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lm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vosimend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7 Llamada de flecha hacia arriba"/>
          <p:cNvSpPr/>
          <p:nvPr/>
        </p:nvSpPr>
        <p:spPr>
          <a:xfrm>
            <a:off x="3500280" y="4357800"/>
            <a:ext cx="928800" cy="1571400"/>
          </a:xfrm>
          <a:prstGeom prst="upArrowCallout">
            <a:avLst>
              <a:gd name="adj1" fmla="val 20354"/>
              <a:gd name="adj2" fmla="val 17926"/>
              <a:gd name="adj3" fmla="val 20287"/>
              <a:gd name="adj4" fmla="val 131135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hibi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9 Flecha curvada hacia abajo"/>
          <p:cNvSpPr/>
          <p:nvPr/>
        </p:nvSpPr>
        <p:spPr>
          <a:xfrm>
            <a:off x="3786120" y="3357720"/>
            <a:ext cx="1214640" cy="642960"/>
          </a:xfrm>
          <a:custGeom>
            <a:avLst/>
            <a:gdLst>
              <a:gd name="textAreaLeft" fmla="*/ 243360 w 1214640"/>
              <a:gd name="textAreaRight" fmla="*/ 891000 w 12146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6" hR="21600" stAng="10800000" swAng="5400000"/>
                <a:lnTo>
                  <a:pt x="11514" y="0"/>
                </a:lnTo>
                <a:arcTo wR="8656" hR="21600" stAng="-5400000" swAng="3432369"/>
                <a:lnTo>
                  <a:pt x="21325" y="16200"/>
                </a:lnTo>
                <a:lnTo>
                  <a:pt x="18741" y="21600"/>
                </a:lnTo>
                <a:lnTo>
                  <a:pt x="15607" y="16200"/>
                </a:lnTo>
                <a:lnTo>
                  <a:pt x="17037" y="16200"/>
                </a:lnTo>
                <a:arcTo wR="8656" hR="21600" stAng="-1967631" swAng="-3202118"/>
                <a:lnTo>
                  <a:pt x="10085" y="296"/>
                </a:lnTo>
                <a:arcTo wR="8656" hR="21600" stAng="-5630252" swAng="-5169748"/>
                <a:close/>
              </a:path>
              <a:path fill="darkenLess" w="21600" h="21600">
                <a:moveTo>
                  <a:pt x="0" y="21600"/>
                </a:moveTo>
                <a:arcTo wR="8656" hR="21600" stAng="10800000" swAng="5400000"/>
                <a:lnTo>
                  <a:pt x="8656" y="0"/>
                </a:lnTo>
                <a:arcTo wR="8656" hR="21600" stAng="-5400000" swAng="230252"/>
                <a:lnTo>
                  <a:pt x="10085" y="296"/>
                </a:lnTo>
                <a:arcTo wR="8656" hR="21600" stAng="-5630252" swAng="-516974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hibidores de Fosfodiester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DE tipo III se encuentra en músculo cardíaco y en músculo li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 inhibición aumenta el AMP-c y con est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menta desarrollo de t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gasto cardíaco, reducción pres.pulmonar  y la resist.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riférica total.         Sin grandes cambios en frecuencia y pres.ar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URÉTICOS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odilatación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atación Arteriol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Reducen 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LA  E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AGT-I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sistencia periférica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Dis.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secreción Aldoster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Dis.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3 Abrir corchete"/>
          <p:cNvSpPr/>
          <p:nvPr/>
        </p:nvSpPr>
        <p:spPr>
          <a:xfrm>
            <a:off x="928800" y="4500720"/>
            <a:ext cx="71280" cy="1000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000080"/>
              <a:gd name="textAreaBottom" fmla="*/ 99720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5"/>
                  <a:pt x="0" y="129"/>
                </a:cubicBezTo>
                <a:lnTo>
                  <a:pt x="0" y="21471"/>
                </a:lnTo>
                <a:cubicBezTo>
                  <a:pt x="0" y="21536"/>
                  <a:pt x="108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en 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ntagonistas de  Angiotensina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  R - A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nder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rbe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razón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ejido Excitocond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itmo y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allas del Rit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286760" y="1500120"/>
            <a:ext cx="1093680" cy="1584360"/>
          </a:xfrm>
          <a:custGeom>
            <a:avLst/>
            <a:gdLst>
              <a:gd name="textAreaLeft" fmla="*/ 146520 w 1093680"/>
              <a:gd name="textAreaRight" fmla="*/ 947160 w 1093680"/>
              <a:gd name="textAreaTop" fmla="*/ 273600 h 1584360"/>
              <a:gd name="textAreaBottom" fmla="*/ 11660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2661134"/>
                <a:lnTo>
                  <a:pt x="7200" y="21173"/>
                </a:lnTo>
                <a:lnTo>
                  <a:pt x="0" y="17280"/>
                </a:lnTo>
                <a:lnTo>
                  <a:pt x="7200" y="12533"/>
                </a:lnTo>
                <a:lnTo>
                  <a:pt x="7200" y="14505"/>
                </a:lnTo>
                <a:arcTo wR="21600" hR="7466" stAng="2661134" swAng="-2269171"/>
                <a:lnTo>
                  <a:pt x="20504" y="9814"/>
                </a:lnTo>
                <a:arcTo wR="21600" hR="7466" stAng="-391963" swAng="-5008037"/>
                <a:close/>
              </a:path>
              <a:path fill="darkenLess"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-391963"/>
                <a:lnTo>
                  <a:pt x="20504" y="9814"/>
                </a:lnTo>
                <a:arcTo wR="21600" hR="7466" stAng="-391963" swAng="-5008037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Antiarrítm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Antidisrrítmico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-13-a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rritmias / Dis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erioe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lusión  coronaria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Reperfu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squemia miocárdica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rritm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Tipos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lu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Vent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s de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38592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eneración 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r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ática 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ment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óm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encadenada 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malía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loqu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entr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143000" y="1905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6 Conector recto"/>
          <p:cNvSpPr/>
          <p:nvPr/>
        </p:nvSpPr>
        <p:spPr>
          <a:xfrm>
            <a:off x="5357880" y="3571920"/>
            <a:ext cx="20718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8 Conector recto"/>
          <p:cNvSpPr/>
          <p:nvPr/>
        </p:nvSpPr>
        <p:spPr>
          <a:xfrm>
            <a:off x="7429680" y="3571920"/>
            <a:ext cx="0" cy="1716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10 Conector recto"/>
          <p:cNvSpPr/>
          <p:nvPr/>
        </p:nvSpPr>
        <p:spPr>
          <a:xfrm flipH="1">
            <a:off x="5357880" y="3573360"/>
            <a:ext cx="1440" cy="1714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13 Conector recto"/>
          <p:cNvSpPr/>
          <p:nvPr/>
        </p:nvSpPr>
        <p:spPr>
          <a:xfrm>
            <a:off x="5357880" y="5286240"/>
            <a:ext cx="2071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19 Conector recto"/>
          <p:cNvSpPr/>
          <p:nvPr/>
        </p:nvSpPr>
        <p:spPr>
          <a:xfrm>
            <a:off x="1500120" y="3643200"/>
            <a:ext cx="3214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21 Conector recto"/>
          <p:cNvSpPr/>
          <p:nvPr/>
        </p:nvSpPr>
        <p:spPr>
          <a:xfrm flipH="1">
            <a:off x="4714920" y="3645000"/>
            <a:ext cx="1440" cy="2498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23 Conector recto"/>
          <p:cNvSpPr/>
          <p:nvPr/>
        </p:nvSpPr>
        <p:spPr>
          <a:xfrm flipH="1">
            <a:off x="1498680" y="3643200"/>
            <a:ext cx="1440" cy="2502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29 Conector recto"/>
          <p:cNvSpPr/>
          <p:nvPr/>
        </p:nvSpPr>
        <p:spPr>
          <a:xfrm>
            <a:off x="1500120" y="6143760"/>
            <a:ext cx="314316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                Grupo II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aín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opir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xile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e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r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m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ind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pr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ebut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 Grupo III             Grupo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mioda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ret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lp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ta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lof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ano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ra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tiaz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alo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eprid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i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razón Bom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iocardio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Tensión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érdida de 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      INÓTRO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858000" y="1285920"/>
            <a:ext cx="1454040" cy="1584360"/>
          </a:xfrm>
          <a:custGeom>
            <a:avLst/>
            <a:gdLst>
              <a:gd name="textAreaLeft" fmla="*/ 194760 w 1454040"/>
              <a:gd name="textAreaRight" fmla="*/ 1259280 w 14540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.A.  Grupo I     vs     Cinétic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Interacción con Can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a              Cinética   Inter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b                 Cinética   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c                  Cinética   L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b   /  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tipo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Lidocaí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muy rápido del  Canal Na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í   en diástole están disoc. del Canal  y   no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 y  Q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lo tanto son eficaces para Suprimir Aumentos Rápidos de Frecuencia (extrasísto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b /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ventr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.Ventricular :  Fase aguda  y  crónica  postinfar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irugía cardíaca, intox. digitál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Arial"/>
              </a:rPr>
              <a:t>Grupo  I a   /  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   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Quinidi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erad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baj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Inhibe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súbitos de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alt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ducción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 directo depresor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SA 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Frecuencia Sinusal  y  Ectóp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rìcula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,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  y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utomatism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AV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AV   (&gt;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ventrìculo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E   (&gt;QRS)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a  /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Auriculares y ventric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arritmias auric.* y ventric. resistentes a Lido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utter y Fibrilación Auricular*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WPW:  Aumenta PRE de la vía acces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.Indirecto*:     Anticolinérgico en  Nodo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&gt;&gt;Pr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 / 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br>
              <a:rPr sz="4400"/>
            </a:b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Propafeno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uladores más potentes del Canal de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lenta del Canal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  interacción   m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longada que el diástole fisiológico, por tanto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mayor grado de inhibición de iNa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y QRS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iesgo arritm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3 Abrir llave"/>
          <p:cNvSpPr/>
          <p:nvPr/>
        </p:nvSpPr>
        <p:spPr>
          <a:xfrm>
            <a:off x="1500120" y="4786200"/>
            <a:ext cx="142920" cy="10717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1720"/>
              <a:gd name="textAreaBottom" fmla="*/ 10681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/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primen intensamente la i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, la  Exci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conducción intracardíaca:  Nodo AV  y  vías acces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o*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: extrasístoles o taquicar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 y  de la unión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índromes de preexitación como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* Bajo estricto control méd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cc66"/>
                </a:solidFill>
                <a:latin typeface="Arial"/>
              </a:rPr>
              <a:t>1 </a:t>
            </a:r>
            <a:br>
              <a:rPr sz="24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tipo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ropranol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ntagonismo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Nodo SA y AV, His-Purkinje , A&gt;&gt;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:    Frecuencia  SA   y  conducción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n   PRE   Nodo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 vCond. Ventricular  (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primen  automatismo  subsidiario  anómalo (i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fuerza contráctil (A&gt;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s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ritmias secundari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l incremento del tono simpático: asociadas a estrés, ansiedad, ejercicio, feocromocitoma, hipertiroidismo, anestesia por halot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Taquiarritmias Supraventricular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asociadas a hipertensión arterial, angina o post infar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trolar la frecuencia ventricular 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taq.supraventric.   y en arritmias ventriculares (asocias a QT largo) intox.        digitálica, miocardiopatía obstructiva o prolapso mit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ig"/>
          <p:cNvPicPr/>
          <p:nvPr/>
        </p:nvPicPr>
        <p:blipFill>
          <a:blip r:embed="rId1"/>
          <a:stretch/>
        </p:blipFill>
        <p:spPr>
          <a:xfrm>
            <a:off x="228600" y="826920"/>
            <a:ext cx="8839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1800" spc="-1" strike="noStrike">
                <a:solidFill>
                  <a:srgbClr val="ffcc66"/>
                </a:solidFill>
                <a:latin typeface="Arial"/>
              </a:rPr>
              <a:t>1</a:t>
            </a:r>
            <a:br>
              <a:rPr sz="1800"/>
            </a:b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Aumentan duraciòn del potencial de acciòn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hibe  iNa / iCa  y  Antagonista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frecuencia  SA  discre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duración del potencial de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PR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auricular , Nodo AV , Ventricular 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vías accesorias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vCond. intra cardíaca (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sistémica y coronaria y reduce trabajo cardía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ca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y ventriculares por reentrada en especial de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versión sinusal del Flutter y  F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cardia supraventricular  o  controlar la frecuencia ventricular d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 graves refractarias o recurrentes y especialmente aquellas post infarto con baja fracción de ey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ctivación  Nodos  SA y AV  es  función (iCa</a:t>
            </a:r>
            <a:r>
              <a:rPr b="1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&gt;(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 y Diltia , al inhibir la i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isminuyen:  Frecuencia  SA* , Cond. AV , Fuer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umentan PRE  Nodo AV (vera&gt;dilt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automatismo anormal dependiente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 arteriovenosa,  disminuyendo resistencia vascular  sistémica  y  la P.Ar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ía  reflej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tono adrenérgico cardíaco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 el flujo coronario y disminuye demanda de O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or depresión del Nodo A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se indican par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un Flutter  y          esporadicamente convertirlo a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aquicardia supraVentricular  por reentrada o circuito A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la Taq.Parox.Lactante y las de WPW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* contraindicado en WPW asociado a Flutter o FA, ya que acorta PRE del haz de Kent y puede aumentar la frecuencia ventr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taq.supra V y FA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co efectivos en arritmias ventricula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Diurét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90" name="6 Flecha izquierda"/>
          <p:cNvSpPr/>
          <p:nvPr/>
        </p:nvSpPr>
        <p:spPr>
          <a:xfrm>
            <a:off x="3786120" y="2143080"/>
            <a:ext cx="428760" cy="714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7 Flecha derecha"/>
          <p:cNvSpPr/>
          <p:nvPr/>
        </p:nvSpPr>
        <p:spPr>
          <a:xfrm>
            <a:off x="3000240" y="5000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9 Flecha arriba"/>
          <p:cNvSpPr/>
          <p:nvPr/>
        </p:nvSpPr>
        <p:spPr>
          <a:xfrm rot="18337800">
            <a:off x="5421600" y="5737680"/>
            <a:ext cx="66708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10 Flecha izquierda"/>
          <p:cNvSpPr/>
          <p:nvPr/>
        </p:nvSpPr>
        <p:spPr>
          <a:xfrm>
            <a:off x="5500800" y="4071960"/>
            <a:ext cx="42840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11 Flecha derecha"/>
          <p:cNvSpPr/>
          <p:nvPr/>
        </p:nvSpPr>
        <p:spPr>
          <a:xfrm>
            <a:off x="4786200" y="1928880"/>
            <a:ext cx="42876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12 Flecha abajo"/>
          <p:cNvSpPr/>
          <p:nvPr/>
        </p:nvSpPr>
        <p:spPr>
          <a:xfrm>
            <a:off x="5286240" y="9288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13 Flecha abajo"/>
          <p:cNvSpPr/>
          <p:nvPr/>
        </p:nvSpPr>
        <p:spPr>
          <a:xfrm>
            <a:off x="6072120" y="13572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14 Flecha izquierda"/>
          <p:cNvSpPr/>
          <p:nvPr/>
        </p:nvSpPr>
        <p:spPr>
          <a:xfrm>
            <a:off x="7143840" y="2928960"/>
            <a:ext cx="6429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15 Flecha izquierda"/>
          <p:cNvSpPr/>
          <p:nvPr/>
        </p:nvSpPr>
        <p:spPr>
          <a:xfrm>
            <a:off x="7286760" y="4357800"/>
            <a:ext cx="57132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16 Flecha izquierda"/>
          <p:cNvSpPr/>
          <p:nvPr/>
        </p:nvSpPr>
        <p:spPr>
          <a:xfrm>
            <a:off x="7358040" y="2357280"/>
            <a:ext cx="500040" cy="785880"/>
          </a:xfrm>
          <a:prstGeom prst="leftArrow">
            <a:avLst>
              <a:gd name="adj1" fmla="val 50000"/>
              <a:gd name="adj2" fmla="val 47426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17 Flecha izquierda"/>
          <p:cNvSpPr/>
          <p:nvPr/>
        </p:nvSpPr>
        <p:spPr>
          <a:xfrm>
            <a:off x="7429680" y="5000760"/>
            <a:ext cx="50004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19 Flecha abajo"/>
          <p:cNvSpPr/>
          <p:nvPr/>
        </p:nvSpPr>
        <p:spPr>
          <a:xfrm>
            <a:off x="2714760" y="142884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20 Flecha izquierda"/>
          <p:cNvSpPr/>
          <p:nvPr/>
        </p:nvSpPr>
        <p:spPr>
          <a:xfrm rot="2067600">
            <a:off x="1857240" y="2714760"/>
            <a:ext cx="452520" cy="64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15 Elipse"/>
          <p:cNvSpPr/>
          <p:nvPr/>
        </p:nvSpPr>
        <p:spPr>
          <a:xfrm>
            <a:off x="3714840" y="1000080"/>
            <a:ext cx="642960" cy="42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4214880" y="5929200"/>
            <a:ext cx="64296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17 Elipse"/>
          <p:cNvSpPr/>
          <p:nvPr/>
        </p:nvSpPr>
        <p:spPr>
          <a:xfrm>
            <a:off x="6000840" y="714240"/>
            <a:ext cx="71424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18 Elipse"/>
          <p:cNvSpPr/>
          <p:nvPr/>
        </p:nvSpPr>
        <p:spPr>
          <a:xfrm>
            <a:off x="7429680" y="5857920"/>
            <a:ext cx="5713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Inhibidores Anhidrasa Carbón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hibidores 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etazolamida , Benzolamida , Diclorfenamida , Metazolamida(oft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Baja Potencia  1-3 %  inhib.reabs. Na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12" name="Picture 2" descr="Diu 01"/>
          <p:cNvPicPr/>
          <p:nvPr/>
        </p:nvPicPr>
        <p:blipFill>
          <a:blip r:embed="rId1"/>
          <a:stretch/>
        </p:blipFill>
        <p:spPr>
          <a:xfrm>
            <a:off x="1643040" y="1214280"/>
            <a:ext cx="5786640" cy="548496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/>
          <p:cNvSpPr/>
          <p:nvPr/>
        </p:nvSpPr>
        <p:spPr>
          <a:xfrm flipH="1" rot="13397400">
            <a:off x="3312720" y="1595520"/>
            <a:ext cx="482760" cy="893520"/>
          </a:xfrm>
          <a:prstGeom prst="upArrow">
            <a:avLst>
              <a:gd name="adj1" fmla="val 50000"/>
              <a:gd name="adj2" fmla="val 50119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4 Flecha abajo"/>
          <p:cNvSpPr/>
          <p:nvPr/>
        </p:nvSpPr>
        <p:spPr>
          <a:xfrm rot="3126600">
            <a:off x="3888000" y="2205720"/>
            <a:ext cx="370080" cy="803160"/>
          </a:xfrm>
          <a:prstGeom prst="downArrow">
            <a:avLst>
              <a:gd name="adj1" fmla="val 50000"/>
              <a:gd name="adj2" fmla="val 50116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ig"/>
          <p:cNvPicPr/>
          <p:nvPr/>
        </p:nvPicPr>
        <p:blipFill>
          <a:blip r:embed="rId1"/>
          <a:stretch/>
        </p:blipFill>
        <p:spPr>
          <a:xfrm>
            <a:off x="762120" y="328680"/>
            <a:ext cx="754380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Mecanismo de Inhibidores de  </a:t>
            </a:r>
            <a:br>
              <a:rPr sz="3200"/>
            </a:b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 Anhidrasa Carbónica (Zn-metaloenzima)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apical  o  lumi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epitelial  o  citoplasmát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2 : Indirectamente inhibe reabs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exc.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, 9 y 10 : reabs. dista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secr.distal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5148360" y="5445000"/>
            <a:ext cx="647640" cy="289080"/>
          </a:xfrm>
          <a:custGeom>
            <a:avLst/>
            <a:gdLst>
              <a:gd name="textAreaLeft" fmla="*/ 119160 w 647640"/>
              <a:gd name="textAreaRight" fmla="*/ 44028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49" hR="21600" stAng="10800000" swAng="5400000"/>
                <a:lnTo>
                  <a:pt x="10713" y="0"/>
                </a:lnTo>
                <a:arcTo wR="7949" hR="21600" stAng="-5400000" swAng="2768863"/>
                <a:lnTo>
                  <a:pt x="21145" y="14400"/>
                </a:lnTo>
                <a:lnTo>
                  <a:pt x="17280" y="21600"/>
                </a:lnTo>
                <a:lnTo>
                  <a:pt x="12505" y="14400"/>
                </a:lnTo>
                <a:lnTo>
                  <a:pt x="15443" y="14400"/>
                </a:lnTo>
                <a:arcTo wR="7949" hR="21600" stAng="-2631137" swAng="-2545823"/>
                <a:lnTo>
                  <a:pt x="9331" y="329"/>
                </a:lnTo>
                <a:arcTo wR="7949" hR="21600" stAng="-5623040" swAng="-5176960"/>
                <a:close/>
              </a:path>
              <a:path fill="darkenLess" w="21600" h="21600">
                <a:moveTo>
                  <a:pt x="0" y="21600"/>
                </a:moveTo>
                <a:arcTo wR="7949" hR="21600" stAng="10800000" swAng="5400000"/>
                <a:lnTo>
                  <a:pt x="7949" y="0"/>
                </a:lnTo>
                <a:arcTo wR="7949" hR="21600" stAng="-5400000" swAng="223040"/>
                <a:lnTo>
                  <a:pt x="9331" y="329"/>
                </a:lnTo>
                <a:arcTo wR="7949" hR="21600" stAng="-5623040" swAng="-517696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3780000" y="3284640"/>
            <a:ext cx="72720" cy="431640"/>
          </a:xfrm>
          <a:custGeom>
            <a:avLst/>
            <a:gdLst>
              <a:gd name="textAreaLeft" fmla="*/ 21240 w 72720"/>
              <a:gd name="textAreaRight" fmla="*/ 73080 w 7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        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I.Anhidrasa Carbónic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0" name="Picture 3" descr="File0001"/>
          <p:cNvPicPr/>
          <p:nvPr/>
        </p:nvPicPr>
        <p:blipFill>
          <a:blip r:embed="rId1"/>
          <a:stretch/>
        </p:blipFill>
        <p:spPr>
          <a:xfrm>
            <a:off x="2071800" y="1857240"/>
            <a:ext cx="5468760" cy="4857840"/>
          </a:xfrm>
          <a:prstGeom prst="rect">
            <a:avLst/>
          </a:prstGeom>
          <a:ln w="0">
            <a:noFill/>
          </a:ln>
        </p:spPr>
      </p:pic>
      <p:sp>
        <p:nvSpPr>
          <p:cNvPr id="321" name="5 Elipse"/>
          <p:cNvSpPr/>
          <p:nvPr/>
        </p:nvSpPr>
        <p:spPr>
          <a:xfrm>
            <a:off x="2571840" y="2500200"/>
            <a:ext cx="642960" cy="5000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4 Rayo"/>
          <p:cNvSpPr/>
          <p:nvPr/>
        </p:nvSpPr>
        <p:spPr>
          <a:xfrm rot="456000">
            <a:off x="3040200" y="3978360"/>
            <a:ext cx="785520" cy="64296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5 Rayo"/>
          <p:cNvSpPr/>
          <p:nvPr/>
        </p:nvSpPr>
        <p:spPr>
          <a:xfrm rot="6552000">
            <a:off x="5429880" y="4177080"/>
            <a:ext cx="762120" cy="5443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6 Flecha abajo"/>
          <p:cNvSpPr/>
          <p:nvPr/>
        </p:nvSpPr>
        <p:spPr>
          <a:xfrm>
            <a:off x="4429080" y="3071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7 Flecha abajo"/>
          <p:cNvSpPr/>
          <p:nvPr/>
        </p:nvSpPr>
        <p:spPr>
          <a:xfrm>
            <a:off x="5000760" y="307188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8 Flecha arriba"/>
          <p:cNvSpPr/>
          <p:nvPr/>
        </p:nvSpPr>
        <p:spPr>
          <a:xfrm rot="891600">
            <a:off x="2863800" y="5452920"/>
            <a:ext cx="271440" cy="638280"/>
          </a:xfrm>
          <a:prstGeom prst="upArrow">
            <a:avLst>
              <a:gd name="adj1" fmla="val 50000"/>
              <a:gd name="adj2" fmla="val 50164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9 Flecha abajo"/>
          <p:cNvSpPr/>
          <p:nvPr/>
        </p:nvSpPr>
        <p:spPr>
          <a:xfrm rot="20583000">
            <a:off x="2127240" y="2820600"/>
            <a:ext cx="347760" cy="7542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10 Flecha abajo"/>
          <p:cNvSpPr/>
          <p:nvPr/>
        </p:nvSpPr>
        <p:spPr>
          <a:xfrm rot="1437600">
            <a:off x="3347640" y="2463480"/>
            <a:ext cx="376200" cy="738000"/>
          </a:xfrm>
          <a:prstGeom prst="downArrow">
            <a:avLst>
              <a:gd name="adj1" fmla="val 50000"/>
              <a:gd name="adj2" fmla="val 49869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Inhibidores de l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aucoma y cirugía de cataratas(local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diurético en bloqueo secuen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pacientes con alcalosis metabólica (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n especial a diurétic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calinización urin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bredosis e intoxicaciones con ácidos déb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Inhibidores de la Anhidrasa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Carbónica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ipokal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idosis metaból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acetazolamida ha sido reportada como teratogénica y embriotóxica en animales, a dosis elevadas; en mujeres embarazadas no hay estudios bien controlados, por lo qu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debe administrarse durante el embaraz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pecialmente durante el prime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mestre.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Se han detectad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iveles bajos del fármaco en la leche de muje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lactantes a las que se les ha administrado acetazolamida, por lo que se debe tener precaución cuando se administre en estas condicione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Inhibidores del Simportador de  Na-Cl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del 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sa Cortical  y  del TC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16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iazidas  y  Análogos Bioisost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iazidas y Análog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azídicos:  cloro, hidrocloro, flume  y  bendroflumetiaz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álogos bioisostéricos:   clortalidona,  metolazon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inetazona y torase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hibidores Moderados  reabs. de sodio 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38" name="Picture 2" descr="Diu 01"/>
          <p:cNvPicPr/>
          <p:nvPr/>
        </p:nvPicPr>
        <p:blipFill>
          <a:blip r:embed="rId1"/>
          <a:stretch/>
        </p:blipFill>
        <p:spPr>
          <a:xfrm>
            <a:off x="1714680" y="1214280"/>
            <a:ext cx="6400800" cy="54770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 rot="1990800">
            <a:off x="4611240" y="1738080"/>
            <a:ext cx="1001880" cy="444240"/>
          </a:xfrm>
          <a:prstGeom prst="rightArrow">
            <a:avLst>
              <a:gd name="adj1" fmla="val 50000"/>
              <a:gd name="adj2" fmla="val 34967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7"/>
          <p:cNvSpPr/>
          <p:nvPr/>
        </p:nvSpPr>
        <p:spPr>
          <a:xfrm rot="1962000">
            <a:off x="4571640" y="2852640"/>
            <a:ext cx="863640" cy="358920"/>
          </a:xfrm>
          <a:prstGeom prst="rightArrow">
            <a:avLst>
              <a:gd name="adj1" fmla="val 50000"/>
              <a:gd name="adj2" fmla="val 6015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6,7 : Inhibe reabs.  Na Cl  en asa ascendente gru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tical  y  en la fracción inicial T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1. Inhibe cotransportador  luminal /ap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ectroneutral  de 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2.   Secundariamente  e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 N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v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 Intercambiador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aso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aumento de la reabsorción global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 8, 9 y 10 : Secreción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Picture 3" descr="File0013"/>
          <p:cNvPicPr/>
          <p:nvPr/>
        </p:nvPicPr>
        <p:blipFill>
          <a:blip r:embed="rId1"/>
          <a:stretch/>
        </p:blipFill>
        <p:spPr>
          <a:xfrm>
            <a:off x="1428840" y="2000160"/>
            <a:ext cx="6448320" cy="4575240"/>
          </a:xfrm>
          <a:prstGeom prst="rect">
            <a:avLst/>
          </a:prstGeom>
          <a:ln w="0">
            <a:noFill/>
          </a:ln>
        </p:spPr>
      </p:pic>
      <p:sp>
        <p:nvSpPr>
          <p:cNvPr id="345" name="5 Elipse"/>
          <p:cNvSpPr/>
          <p:nvPr/>
        </p:nvSpPr>
        <p:spPr>
          <a:xfrm>
            <a:off x="1500120" y="2500200"/>
            <a:ext cx="642960" cy="5716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4 Rayo"/>
          <p:cNvSpPr/>
          <p:nvPr/>
        </p:nvSpPr>
        <p:spPr>
          <a:xfrm rot="680400">
            <a:off x="2368440" y="2599920"/>
            <a:ext cx="1116000" cy="95400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7 Flecha a la derecha con bandas"/>
          <p:cNvSpPr/>
          <p:nvPr/>
        </p:nvSpPr>
        <p:spPr>
          <a:xfrm>
            <a:off x="2857680" y="5357880"/>
            <a:ext cx="714240" cy="285840"/>
          </a:xfrm>
          <a:custGeom>
            <a:avLst/>
            <a:gdLst>
              <a:gd name="textAreaLeft" fmla="*/ 44640 w 714240"/>
              <a:gd name="textAreaRight" fmla="*/ 642960 w 7142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714375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571500" y="71438"/>
                </a:lnTo>
                <a:lnTo>
                  <a:pt x="571500" y="0"/>
                </a:lnTo>
                <a:lnTo>
                  <a:pt x="714375" y="142875"/>
                </a:lnTo>
                <a:lnTo>
                  <a:pt x="571500" y="285750"/>
                </a:lnTo>
                <a:lnTo>
                  <a:pt x="571500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8 Flecha a la derecha con bandas"/>
          <p:cNvSpPr/>
          <p:nvPr/>
        </p:nvSpPr>
        <p:spPr>
          <a:xfrm>
            <a:off x="5286240" y="5572080"/>
            <a:ext cx="714600" cy="214200"/>
          </a:xfrm>
          <a:custGeom>
            <a:avLst/>
            <a:gdLst>
              <a:gd name="textAreaLeft" fmla="*/ 33480 w 714600"/>
              <a:gd name="textAreaRight" fmla="*/ 661320 w 714600"/>
              <a:gd name="textAreaTop" fmla="*/ 53280 h 214200"/>
              <a:gd name="textAreaBottom" fmla="*/ 160920 h 214200"/>
            </a:gdLst>
            <a:ahLst/>
            <a:rect l="textAreaLeft" t="textAreaTop" r="textAreaRight" b="textAreaBottom"/>
            <a:pathLst>
              <a:path w="714375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close/>
                <a:moveTo>
                  <a:pt x="33486" y="53578"/>
                </a:moveTo>
                <a:lnTo>
                  <a:pt x="607219" y="53578"/>
                </a:lnTo>
                <a:lnTo>
                  <a:pt x="607219" y="0"/>
                </a:lnTo>
                <a:lnTo>
                  <a:pt x="714375" y="107157"/>
                </a:lnTo>
                <a:lnTo>
                  <a:pt x="607219" y="214313"/>
                </a:lnTo>
                <a:lnTo>
                  <a:pt x="607219" y="160735"/>
                </a:lnTo>
                <a:lnTo>
                  <a:pt x="33486" y="1607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Tiazíd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ICC leve  o  moderada  y en el edema asoci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hepático o renal crónico y el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premenstr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tensión inicial y junto con reducción de so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olan la HTA leve a mode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ratamiento de la hipercalciure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g"/>
          <p:cNvPicPr/>
          <p:nvPr/>
        </p:nvPicPr>
        <p:blipFill>
          <a:blip r:embed="rId1"/>
          <a:stretch/>
        </p:blipFill>
        <p:spPr>
          <a:xfrm>
            <a:off x="762120" y="353880"/>
            <a:ext cx="761976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Diuréticos Tiazídicos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ercalcemia a largo plaz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3.- Inhibidores del Simportador 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    Na-K-2Cl  del  Asa Medul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Diuréticos  del  A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rosemida,  Bumetanida,  Ácido Etacrí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tes   20-25 %  inhib. de la reabsorción de so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Or/Pa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Diu 01"/>
          <p:cNvPicPr/>
          <p:nvPr/>
        </p:nvPicPr>
        <p:blipFill>
          <a:blip r:embed="rId1"/>
          <a:stretch/>
        </p:blipFill>
        <p:spPr>
          <a:xfrm>
            <a:off x="1785960" y="1714680"/>
            <a:ext cx="5429160" cy="48765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4429080" y="45007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5 : - Inhib. Simportador luminal  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2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l Asa ascendente gruesa medular o zona dilutori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↑ Excreción de Ca , al reducir   grad.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tencial (+) , que promueve su reabsorció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,4 :  Repercute con menor aporte de  Na  a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contra corriente, leve reducción de hipertoní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8, 9 y 10 :  Secreción 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3" name="Picture 3" descr="File0012"/>
          <p:cNvPicPr/>
          <p:nvPr/>
        </p:nvPicPr>
        <p:blipFill>
          <a:blip r:embed="rId1"/>
          <a:stretch/>
        </p:blipFill>
        <p:spPr>
          <a:xfrm>
            <a:off x="1428840" y="1928880"/>
            <a:ext cx="6546600" cy="4709880"/>
          </a:xfrm>
          <a:prstGeom prst="rect">
            <a:avLst/>
          </a:prstGeom>
          <a:ln w="0">
            <a:noFill/>
          </a:ln>
        </p:spPr>
      </p:pic>
      <p:sp>
        <p:nvSpPr>
          <p:cNvPr id="364" name="5 Elipse"/>
          <p:cNvSpPr/>
          <p:nvPr/>
        </p:nvSpPr>
        <p:spPr>
          <a:xfrm>
            <a:off x="1500120" y="2571840"/>
            <a:ext cx="714600" cy="571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4 Rayo"/>
          <p:cNvSpPr/>
          <p:nvPr/>
        </p:nvSpPr>
        <p:spPr>
          <a:xfrm rot="967200">
            <a:off x="2590920" y="2308320"/>
            <a:ext cx="857160" cy="12859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5 Flecha curvada hacia la izquierda"/>
          <p:cNvSpPr/>
          <p:nvPr/>
        </p:nvSpPr>
        <p:spPr>
          <a:xfrm>
            <a:off x="4143240" y="4286160"/>
            <a:ext cx="571680" cy="714600"/>
          </a:xfrm>
          <a:custGeom>
            <a:avLst/>
            <a:gdLst>
              <a:gd name="textAreaLeft" fmla="*/ 76320 w 571680"/>
              <a:gd name="textAreaRight" fmla="*/ 495360 w 571680"/>
              <a:gd name="textAreaTop" fmla="*/ 124920 h 714600"/>
              <a:gd name="textAreaBottom" fmla="*/ 518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7 Flecha curvada hacia la izquierda"/>
          <p:cNvSpPr/>
          <p:nvPr/>
        </p:nvSpPr>
        <p:spPr>
          <a:xfrm>
            <a:off x="2928960" y="5500800"/>
            <a:ext cx="357120" cy="357120"/>
          </a:xfrm>
          <a:custGeom>
            <a:avLst/>
            <a:gdLst>
              <a:gd name="textAreaLeft" fmla="*/ 47880 w 357120"/>
              <a:gd name="textAreaRight" fmla="*/ 309240 w 35712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7 Triángulo isósceles"/>
          <p:cNvSpPr/>
          <p:nvPr/>
        </p:nvSpPr>
        <p:spPr>
          <a:xfrm>
            <a:off x="2571840" y="5429160"/>
            <a:ext cx="285840" cy="214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8 Llamada de flecha hacia arriba"/>
          <p:cNvSpPr/>
          <p:nvPr/>
        </p:nvSpPr>
        <p:spPr>
          <a:xfrm>
            <a:off x="3714840" y="6021360"/>
            <a:ext cx="1000080" cy="550800"/>
          </a:xfrm>
          <a:prstGeom prst="upArrowCallout">
            <a:avLst>
              <a:gd name="adj1" fmla="val 22698"/>
              <a:gd name="adj2" fmla="val 19972"/>
              <a:gd name="adj3" fmla="val 25000"/>
              <a:gd name="adj4" fmla="val 113317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del As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cardíaco, hepático  o 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CC Izquierda con edema pulmon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crisis hipercalcém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 en  H.T. es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 / E. 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equilibrio hidro-electrolí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natr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calc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otoxi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4.- Economizadores de K</a:t>
            </a:r>
            <a:r>
              <a:rPr b="0" lang="es-ES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conomizadores de K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° tipo :    Spironolact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° tipo :   Amilorida y  Triamt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:  1-3 %  inhib.  reabsorción  de so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25:33Z</dcterms:created>
  <dc:creator>Gonzalez</dc:creator>
  <dc:description/>
  <dc:language>en-US</dc:language>
  <cp:lastModifiedBy>Universidad de Chile</cp:lastModifiedBy>
  <dcterms:modified xsi:type="dcterms:W3CDTF">2011-11-18T15:32:39Z</dcterms:modified>
  <cp:revision>279</cp:revision>
  <dc:subject/>
  <dc:title>Indicaciones G.C.</dc:title>
</cp:coreProperties>
</file>