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1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14.xml" ContentType="application/vnd.openxmlformats-officedocument.presentationml.slide+xml"/>
  <Override PartName="/ppt/slides/slide89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FBA3-F1F1-4D3E-B7B8-41D9D50B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5875-15CA-4137-B018-14E6D5F6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EA95-0CBB-468C-96E4-08729882E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7F9B-B080-4F40-90E4-B21B2A789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EC4E-D622-43AB-B0F0-3A2FB03A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CD78-93E3-4DEB-95EE-7DF2BDB8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F457-1118-4207-921C-74771113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0F08-2FC4-4F56-8E83-6864BA0B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2736-5B69-42C1-83CF-4C450DAF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426D-5608-4F88-BDF5-D39AA47E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931A-74BA-4BD3-BEB6-F29BA5A3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039D-B185-4536-A8F5-41C32EF0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80F0-4A22-4B5E-A8EB-902C9EE7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D4D6-467F-4870-A42A-2D6A5FA9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BF47-C953-4F84-8E41-D6973B43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477A-91FF-43DE-AD67-7F9A8D77C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1401-2D7D-426C-8FB0-A3C5CA5CC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DFE5-C15A-49AE-93D5-8FE3C517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6B9C-5CDA-404D-927C-2402D37C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80CC-9ABD-4F2C-BBF6-52751118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B85B-5E2A-4BCB-8857-685F1303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E3B7-8AC5-459B-A0E6-B2BDBA95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1169-910C-4D8B-A7B2-481B4A13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4A0E-68A6-4ADE-8E35-14A645B3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FD87-05A1-45C4-BABB-71A2C317485F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AC5E-5039-4CD0-A926-3A8900778E21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Farmacología Cardiovascula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   Riñon  y Coraz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I  Vasos Sanguíne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fig-4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1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Diu 01"/>
          <p:cNvPicPr/>
          <p:nvPr/>
        </p:nvPicPr>
        <p:blipFill>
          <a:blip r:embed="rId1"/>
          <a:stretch/>
        </p:blipFill>
        <p:spPr>
          <a:xfrm>
            <a:off x="1714680" y="1428840"/>
            <a:ext cx="5911560" cy="522108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4"/>
          <p:cNvSpPr/>
          <p:nvPr/>
        </p:nvSpPr>
        <p:spPr>
          <a:xfrm rot="20148000">
            <a:off x="5314680" y="3894120"/>
            <a:ext cx="947520" cy="355680"/>
          </a:xfrm>
          <a:prstGeom prst="rightArrow">
            <a:avLst>
              <a:gd name="adj1" fmla="val 50000"/>
              <a:gd name="adj2" fmla="val 40070"/>
            </a:avLst>
          </a:prstGeom>
          <a:solidFill>
            <a:srgbClr val="0000ff"/>
          </a:solidFill>
          <a:ln cap="sq"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AutoShape 5"/>
          <p:cNvSpPr/>
          <p:nvPr/>
        </p:nvSpPr>
        <p:spPr>
          <a:xfrm rot="20106600">
            <a:off x="6992640" y="4538520"/>
            <a:ext cx="689040" cy="381240"/>
          </a:xfrm>
          <a:prstGeom prst="leftArrow">
            <a:avLst>
              <a:gd name="adj1" fmla="val 50000"/>
              <a:gd name="adj2" fmla="val 35026"/>
            </a:avLst>
          </a:prstGeom>
          <a:solidFill>
            <a:srgbClr val="0000ff"/>
          </a:solidFill>
          <a:ln cap="sq"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Nivel de Ac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7 Flecha derecha"/>
          <p:cNvSpPr/>
          <p:nvPr/>
        </p:nvSpPr>
        <p:spPr>
          <a:xfrm rot="1516800">
            <a:off x="4959360" y="2478240"/>
            <a:ext cx="977760" cy="3571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6 Marco"/>
          <p:cNvSpPr/>
          <p:nvPr/>
        </p:nvSpPr>
        <p:spPr>
          <a:xfrm>
            <a:off x="5286240" y="3214800"/>
            <a:ext cx="1000440" cy="357120"/>
          </a:xfrm>
          <a:custGeom>
            <a:avLst/>
            <a:gdLst>
              <a:gd name="textAreaLeft" fmla="*/ 44640 w 1000440"/>
              <a:gd name="textAreaRight" fmla="*/ 955800 w 1000440"/>
              <a:gd name="textAreaTop" fmla="*/ 44640 h 357120"/>
              <a:gd name="textAreaBottom" fmla="*/ 312480 h 357120"/>
            </a:gdLst>
            <a:ahLst/>
            <a:rect l="textAreaLeft" t="textAreaTop" r="textAreaRight" b="textAreaBottom"/>
            <a:pathLst>
              <a:path w="1000125" h="357187">
                <a:moveTo>
                  <a:pt x="0" y="0"/>
                </a:moveTo>
                <a:lnTo>
                  <a:pt x="1000125" y="0"/>
                </a:lnTo>
                <a:lnTo>
                  <a:pt x="1000125" y="357187"/>
                </a:lnTo>
                <a:lnTo>
                  <a:pt x="0" y="357187"/>
                </a:lnTo>
                <a:close/>
                <a:moveTo>
                  <a:pt x="44648" y="44648"/>
                </a:moveTo>
                <a:lnTo>
                  <a:pt x="44648" y="312539"/>
                </a:lnTo>
                <a:lnTo>
                  <a:pt x="955477" y="312539"/>
                </a:lnTo>
                <a:lnTo>
                  <a:pt x="955477" y="44648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Mecanismo Economizadores de K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5092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8 y 9    Spironolactona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Antagoniza a Aldostero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hib. Recamb.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/K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(cel.prin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excr.de K+/H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   (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el.intercal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10  Amilorida, Triamtereno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Inhib.Canales de 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(Independientes de Aldosterona)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del epitelio re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excr. K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/H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              </a:t>
            </a: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Uso de Diuréticos </a:t>
            </a:r>
            <a:br>
              <a:rPr sz="4000"/>
            </a:b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          Ahorradores de Potasio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vitar pérdida excesiva de potasio ( K&lt;&lt;Na/extrace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trarrestan alcalosis metabólica de otros diurétic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dyuvantes de diuréticos más potentes en la H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    </a:t>
            </a: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Ahorradores de Potasio / E.Adv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Hiperkalemia.Con función renal alterada o exc.ingesta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ales K de fármac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cidosis Hiperclorém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piro : Trastornos G.I.  Contraindicada en úlcera pèpt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Ginecomastia / Irregularidades menstru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Otros Diurét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1.- Diuréticos Osmót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anitol, Urea, Gluco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(Glicerina e Isosorbide oftal.or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Potencia  es  f [dosis]   iv.  (infusió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Diu 01"/>
          <p:cNvPicPr/>
          <p:nvPr/>
        </p:nvPicPr>
        <p:blipFill>
          <a:blip r:embed="rId1"/>
          <a:stretch/>
        </p:blipFill>
        <p:spPr>
          <a:xfrm>
            <a:off x="1428840" y="500040"/>
            <a:ext cx="6548400" cy="5881680"/>
          </a:xfrm>
          <a:prstGeom prst="rect">
            <a:avLst/>
          </a:prstGeom>
          <a:ln w="0">
            <a:noFill/>
          </a:ln>
        </p:spPr>
      </p:pic>
      <p:sp>
        <p:nvSpPr>
          <p:cNvPr id="395" name="AutoShape 3"/>
          <p:cNvSpPr/>
          <p:nvPr/>
        </p:nvSpPr>
        <p:spPr>
          <a:xfrm rot="20071200">
            <a:off x="2555640" y="1372680"/>
            <a:ext cx="220680" cy="640080"/>
          </a:xfrm>
          <a:prstGeom prst="downArrow">
            <a:avLst>
              <a:gd name="adj1" fmla="val 42037"/>
              <a:gd name="adj2" fmla="val 36243"/>
            </a:avLst>
          </a:prstGeom>
          <a:solidFill>
            <a:srgbClr val="0000ff"/>
          </a:solidFill>
          <a:ln cap="sq"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AutoShape 4"/>
          <p:cNvSpPr/>
          <p:nvPr/>
        </p:nvSpPr>
        <p:spPr>
          <a:xfrm>
            <a:off x="3143160" y="4800600"/>
            <a:ext cx="514440" cy="380880"/>
          </a:xfrm>
          <a:prstGeom prst="rightArrow">
            <a:avLst>
              <a:gd name="adj1" fmla="val 50000"/>
              <a:gd name="adj2" fmla="val 30015"/>
            </a:avLst>
          </a:prstGeom>
          <a:solidFill>
            <a:srgbClr val="0000ff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4 Elipse"/>
          <p:cNvSpPr/>
          <p:nvPr/>
        </p:nvSpPr>
        <p:spPr>
          <a:xfrm>
            <a:off x="1214280" y="2714760"/>
            <a:ext cx="500400" cy="428400"/>
          </a:xfrm>
          <a:prstGeom prst="ellipse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5 Flecha izquierda"/>
          <p:cNvSpPr/>
          <p:nvPr/>
        </p:nvSpPr>
        <p:spPr>
          <a:xfrm rot="1716000">
            <a:off x="1890360" y="2940120"/>
            <a:ext cx="581040" cy="288720"/>
          </a:xfrm>
          <a:prstGeom prst="leftArrow">
            <a:avLst>
              <a:gd name="adj1" fmla="val 50000"/>
              <a:gd name="adj2" fmla="val 49911"/>
            </a:avLst>
          </a:prstGeom>
          <a:solidFill>
            <a:srgbClr val="0000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6 Flecha arriba"/>
          <p:cNvSpPr/>
          <p:nvPr/>
        </p:nvSpPr>
        <p:spPr>
          <a:xfrm>
            <a:off x="5286240" y="5786280"/>
            <a:ext cx="214560" cy="500400"/>
          </a:xfrm>
          <a:prstGeom prst="upArrow">
            <a:avLst>
              <a:gd name="adj1" fmla="val 50000"/>
              <a:gd name="adj2" fmla="val 49981"/>
            </a:avLst>
          </a:prstGeom>
          <a:solidFill>
            <a:srgbClr val="0000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        </a:t>
            </a: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Mecanismo  Diuréticos Osmótic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úbulo proximal y Asa descendente delgada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“ perme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al agua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1: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fecto  sobre Grad. Osm.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con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reabs. H2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3: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Osmol.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reabs. H2O.   Con dilución de 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4:  La  diluc.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reabs.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0 :     Manitol        vasodil.  arteriola  afere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( FPR y VFG)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reabs. Na</a:t>
            </a:r>
            <a:r>
              <a:rPr b="0" lang="es-MX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5 Flecha derecha"/>
          <p:cNvSpPr/>
          <p:nvPr/>
        </p:nvSpPr>
        <p:spPr>
          <a:xfrm>
            <a:off x="3132000" y="573408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Uso de Diuréticos Osmót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rofilaxis de la insuficiencia renal aguda(IRA) y daño tubular. Mantienen diuresis y evitan anuria en casos de : politraumatismos, cirugías  CV de alta complejidad, ictericias graves o transfusiones incompatibles (aún a bajas vFG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n intoxicaciones agudas (barbitúricos, salicilatos, bromuros), forzar la diuresis y eliminar fármacos.  Impedir precipitación de fármacos y toxin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Reducir edema cerebral o presión intracraneana. De origen traumático o quirúrgico. Reducción volumen y presión del LC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Reducir presión  intraocular, previo a cirugía glaucoma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Diuréticos Osmóticos / E.Adv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umento agudo del líquido extracelular , expansión plasmática o hipervolem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dema pulmona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traindicado en  edema   asociado  a   IC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shidratación e hipernatremi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d-1"/>
          <p:cNvPicPr/>
          <p:nvPr/>
        </p:nvPicPr>
        <p:blipFill>
          <a:blip r:embed="rId1"/>
          <a:stretch/>
        </p:blipFill>
        <p:spPr>
          <a:xfrm>
            <a:off x="2313000" y="295200"/>
            <a:ext cx="451656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Xantinas y Acuarét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Diu 01"/>
          <p:cNvPicPr/>
          <p:nvPr/>
        </p:nvPicPr>
        <p:blipFill>
          <a:blip r:embed="rId1"/>
          <a:stretch/>
        </p:blipFill>
        <p:spPr>
          <a:xfrm>
            <a:off x="1285920" y="1249200"/>
            <a:ext cx="6000840" cy="5389560"/>
          </a:xfrm>
          <a:prstGeom prst="rect">
            <a:avLst/>
          </a:prstGeom>
          <a:ln w="0">
            <a:noFill/>
          </a:ln>
        </p:spPr>
      </p:pic>
      <p:sp>
        <p:nvSpPr>
          <p:cNvPr id="410" name="AutoShape 3"/>
          <p:cNvSpPr/>
          <p:nvPr/>
        </p:nvSpPr>
        <p:spPr>
          <a:xfrm rot="20305200">
            <a:off x="6892920" y="2815920"/>
            <a:ext cx="609480" cy="30492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0000ff"/>
          </a:solidFill>
          <a:ln cap="sq"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AutoShape 4"/>
          <p:cNvSpPr/>
          <p:nvPr/>
        </p:nvSpPr>
        <p:spPr>
          <a:xfrm rot="19578000">
            <a:off x="6678360" y="5178240"/>
            <a:ext cx="609480" cy="304560"/>
          </a:xfrm>
          <a:prstGeom prst="leftArrow">
            <a:avLst>
              <a:gd name="adj1" fmla="val 50000"/>
              <a:gd name="adj2" fmla="val 50030"/>
            </a:avLst>
          </a:prstGeom>
          <a:solidFill>
            <a:srgbClr val="0000ff"/>
          </a:solidFill>
          <a:ln cap="sq"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AutoShape 5"/>
          <p:cNvSpPr/>
          <p:nvPr/>
        </p:nvSpPr>
        <p:spPr>
          <a:xfrm>
            <a:off x="1785960" y="3357720"/>
            <a:ext cx="609480" cy="304560"/>
          </a:xfrm>
          <a:prstGeom prst="leftArrow">
            <a:avLst>
              <a:gd name="adj1" fmla="val 50000"/>
              <a:gd name="adj2" fmla="val 50030"/>
            </a:avLst>
          </a:prstGeom>
          <a:solidFill>
            <a:srgbClr val="0000ff"/>
          </a:solidFill>
          <a:ln cap="sq"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Nivel de Ac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6 Elipse"/>
          <p:cNvSpPr/>
          <p:nvPr/>
        </p:nvSpPr>
        <p:spPr>
          <a:xfrm>
            <a:off x="1143000" y="3214800"/>
            <a:ext cx="357120" cy="428400"/>
          </a:xfrm>
          <a:prstGeom prst="ellipse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AutoShape 12"/>
          <p:cNvSpPr/>
          <p:nvPr/>
        </p:nvSpPr>
        <p:spPr>
          <a:xfrm rot="658800">
            <a:off x="2914560" y="1915920"/>
            <a:ext cx="223920" cy="495000"/>
          </a:xfrm>
          <a:prstGeom prst="downArrow">
            <a:avLst>
              <a:gd name="adj1" fmla="val 50000"/>
              <a:gd name="adj2" fmla="val 55265"/>
            </a:avLst>
          </a:prstGeom>
          <a:solidFill>
            <a:srgbClr val="0000ff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2.- Xantin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itio  0    -  V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sodilatación   arteriolar  renal  con ↑ FP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y  estimulan coraz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itio  1   -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ducen reabsorción tubular de  Na  y  C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3.- Acuarét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meclociclina (deriv.tetraciclina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11 y 12     Antagonista de ADH  en  R-V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diu 06"/>
          <p:cNvPicPr/>
          <p:nvPr/>
        </p:nvPicPr>
        <p:blipFill>
          <a:blip r:embed="rId1"/>
          <a:stretch/>
        </p:blipFill>
        <p:spPr>
          <a:xfrm>
            <a:off x="3132000" y="404640"/>
            <a:ext cx="5586480" cy="608832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3"/>
          <p:cNvSpPr/>
          <p:nvPr/>
        </p:nvSpPr>
        <p:spPr>
          <a:xfrm>
            <a:off x="230040" y="380880"/>
            <a:ext cx="260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Times New Roman"/>
              </a:rPr>
              <a:t>Acuarét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5 Elipse"/>
          <p:cNvSpPr/>
          <p:nvPr/>
        </p:nvSpPr>
        <p:spPr>
          <a:xfrm>
            <a:off x="3000240" y="2357280"/>
            <a:ext cx="995400" cy="567000"/>
          </a:xfrm>
          <a:prstGeom prst="ellipse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1/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4 Flecha curvada hacia la izquierda"/>
          <p:cNvSpPr/>
          <p:nvPr/>
        </p:nvSpPr>
        <p:spPr>
          <a:xfrm>
            <a:off x="7429680" y="2500200"/>
            <a:ext cx="928440" cy="2000520"/>
          </a:xfrm>
          <a:custGeom>
            <a:avLst/>
            <a:gdLst>
              <a:gd name="textAreaLeft" fmla="*/ 124200 w 928440"/>
              <a:gd name="textAreaRight" fmla="*/ 804240 w 928440"/>
              <a:gd name="textAreaTop" fmla="*/ 412920 h 2000520"/>
              <a:gd name="textAreaBottom" fmla="*/ 1471680 h 200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20" stAng="-5400000" swAng="5400000"/>
                <a:lnTo>
                  <a:pt x="21600" y="11428"/>
                </a:lnTo>
                <a:arcTo wR="21600" hR="8920" stAng="0" swAng="3479010"/>
                <a:lnTo>
                  <a:pt x="5400" y="21317"/>
                </a:lnTo>
                <a:lnTo>
                  <a:pt x="0" y="19093"/>
                </a:lnTo>
                <a:lnTo>
                  <a:pt x="5400" y="16303"/>
                </a:lnTo>
                <a:lnTo>
                  <a:pt x="5400" y="17556"/>
                </a:lnTo>
                <a:arcTo wR="21600" hR="8920" stAng="3479010" swAng="-3277658"/>
                <a:lnTo>
                  <a:pt x="21385" y="10174"/>
                </a:lnTo>
                <a:arcTo wR="21600" hR="8920" stAng="-201352" swAng="-5198648"/>
                <a:close/>
              </a:path>
              <a:path fill="darkenLess" w="21600" h="21600">
                <a:moveTo>
                  <a:pt x="0" y="0"/>
                </a:moveTo>
                <a:arcTo wR="21600" hR="8920" stAng="-5400000" swAng="5400000"/>
                <a:lnTo>
                  <a:pt x="21600" y="11428"/>
                </a:lnTo>
                <a:arcTo wR="21600" hR="8920" stAng="0" swAng="-201352"/>
                <a:lnTo>
                  <a:pt x="21385" y="10174"/>
                </a:lnTo>
                <a:arcTo wR="21600" hR="8920" stAng="-201352" swAng="-5198648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6 Marco"/>
          <p:cNvSpPr/>
          <p:nvPr/>
        </p:nvSpPr>
        <p:spPr>
          <a:xfrm>
            <a:off x="6588000" y="1916280"/>
            <a:ext cx="2160720" cy="576000"/>
          </a:xfrm>
          <a:prstGeom prst="pie">
            <a:avLst/>
          </a:pr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meclocicl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66"/>
                </a:solidFill>
                <a:latin typeface="Arial"/>
              </a:rPr>
              <a:t>                      </a:t>
            </a:r>
            <a:r>
              <a:rPr b="1" lang="es-ES" sz="4000" spc="-1" strike="noStrike">
                <a:solidFill>
                  <a:srgbClr val="ffcc66"/>
                </a:solidFill>
                <a:latin typeface="Arial"/>
              </a:rPr>
              <a:t>FI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Fármacos Inotróp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GLUCÓSIDOS      CARDÍACOS  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ARDIOTÓN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TROS  INÓTROP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Acciones Farmacológic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ffc000"/>
                </a:solidFill>
                <a:latin typeface="Times New Roman"/>
              </a:rPr>
              <a:t>Fuer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ffc000"/>
                </a:solidFill>
                <a:latin typeface="Times New Roman"/>
              </a:rPr>
              <a:t>Frecue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Velocidad  de  Cond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Período  Refractario  Efec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xci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utomatis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.- Acción sobre miocardi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Incremento del desarrollo de tensió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143000" y="68580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cc66"/>
                </a:solidFill>
                <a:latin typeface="Times New Roman"/>
              </a:rPr>
              <a:t>1.1.-</a:t>
            </a: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 Nivel de Ac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755640" y="2133720"/>
            <a:ext cx="7543800" cy="426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ññññññññl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429000" y="3276720"/>
            <a:ext cx="2362320" cy="1981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ffffff"/>
                </a:solidFill>
                <a:latin typeface="Times New Roman"/>
              </a:rPr>
              <a:t>ATP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arcole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5791320" y="41911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2438280" y="41911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7"/>
          <p:cNvSpPr/>
          <p:nvPr/>
        </p:nvSpPr>
        <p:spPr>
          <a:xfrm flipH="1">
            <a:off x="5790960" y="47242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8"/>
          <p:cNvSpPr/>
          <p:nvPr/>
        </p:nvSpPr>
        <p:spPr>
          <a:xfrm flipH="1">
            <a:off x="2438280" y="47242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127160" y="3851280"/>
            <a:ext cx="115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977840" y="380052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s-MX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6781680" y="4343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MX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6781680" y="40384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1523880" y="29718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Int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6553080" y="289548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6781680" y="2895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xt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16"/>
          <p:cNvSpPr/>
          <p:nvPr/>
        </p:nvSpPr>
        <p:spPr>
          <a:xfrm flipH="1" flipV="1">
            <a:off x="5791320" y="4723920"/>
            <a:ext cx="76176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6400800" y="55627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Glucósi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4284720" y="220500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4859280" y="220500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4284720" y="530064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4859280" y="530064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d-43"/>
          <p:cNvPicPr/>
          <p:nvPr/>
        </p:nvPicPr>
        <p:blipFill>
          <a:blip r:embed="rId1"/>
          <a:stretch/>
        </p:blipFill>
        <p:spPr>
          <a:xfrm>
            <a:off x="1371600" y="241200"/>
            <a:ext cx="6400800" cy="63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D-2"/>
          <p:cNvPicPr/>
          <p:nvPr/>
        </p:nvPicPr>
        <p:blipFill>
          <a:blip r:embed="rId1"/>
          <a:stretch/>
        </p:blipFill>
        <p:spPr>
          <a:xfrm>
            <a:off x="684360" y="765000"/>
            <a:ext cx="7772400" cy="5029200"/>
          </a:xfrm>
          <a:prstGeom prst="rect">
            <a:avLst/>
          </a:prstGeom>
          <a:ln w="0">
            <a:noFill/>
          </a:ln>
        </p:spPr>
      </p:pic>
      <p:sp>
        <p:nvSpPr>
          <p:cNvPr id="134" name="2 Marco"/>
          <p:cNvSpPr/>
          <p:nvPr/>
        </p:nvSpPr>
        <p:spPr>
          <a:xfrm>
            <a:off x="5572080" y="2857680"/>
            <a:ext cx="2786040" cy="1214280"/>
          </a:xfrm>
          <a:custGeom>
            <a:avLst/>
            <a:gdLst>
              <a:gd name="textAreaLeft" fmla="*/ 108000 w 2786040"/>
              <a:gd name="textAreaRight" fmla="*/ 2678040 w 2786040"/>
              <a:gd name="textAreaTop" fmla="*/ 108000 h 1214280"/>
              <a:gd name="textAreaBottom" fmla="*/ 1106280 h 1214280"/>
            </a:gdLst>
            <a:ahLst/>
            <a:rect l="textAreaLeft" t="textAreaTop" r="textAreaRight" b="textAreaBottom"/>
            <a:pathLst>
              <a:path w="2786063" h="1214438">
                <a:moveTo>
                  <a:pt x="0" y="0"/>
                </a:moveTo>
                <a:lnTo>
                  <a:pt x="2786063" y="0"/>
                </a:lnTo>
                <a:lnTo>
                  <a:pt x="2786063" y="1214438"/>
                </a:lnTo>
                <a:lnTo>
                  <a:pt x="0" y="1214438"/>
                </a:lnTo>
                <a:close/>
                <a:moveTo>
                  <a:pt x="108267" y="108267"/>
                </a:moveTo>
                <a:lnTo>
                  <a:pt x="108267" y="1106171"/>
                </a:lnTo>
                <a:lnTo>
                  <a:pt x="2677796" y="1106171"/>
                </a:lnTo>
                <a:lnTo>
                  <a:pt x="2677796" y="108267"/>
                </a:lnTo>
                <a:close/>
              </a:path>
            </a:pathLst>
          </a:cu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1.2.-</a:t>
            </a: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Consecuenci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 la Inhibición de la Na/K-ATPa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nsecuencia Primar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elación     ( Na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/ K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&gt;  Nor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 la señal desencadena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cundariamente modif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quilibrio del ( Ca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+2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7391520" y="2743200"/>
            <a:ext cx="1218960" cy="358128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626760 h 3581280"/>
              <a:gd name="textAreaBottom" fmla="*/ 259668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Fármacos cardio-rena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ármacos Diurétic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ármacos con Efecto Inótropo Positiv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ármacos Antiarrítm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Fig"/>
          <p:cNvPicPr/>
          <p:nvPr/>
        </p:nvPicPr>
        <p:blipFill>
          <a:blip r:embed="rId1"/>
          <a:stretch/>
        </p:blipFill>
        <p:spPr>
          <a:xfrm>
            <a:off x="468360" y="620640"/>
            <a:ext cx="8115120" cy="548640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4"/>
          <p:cNvSpPr/>
          <p:nvPr/>
        </p:nvSpPr>
        <p:spPr>
          <a:xfrm>
            <a:off x="5867280" y="981000"/>
            <a:ext cx="576360" cy="719280"/>
          </a:xfrm>
          <a:custGeom>
            <a:avLst/>
            <a:gdLst>
              <a:gd name="textAreaLeft" fmla="*/ 77040 w 576360"/>
              <a:gd name="textAreaRight" fmla="*/ 499320 w 576360"/>
              <a:gd name="textAreaTop" fmla="*/ 125640 h 719280"/>
              <a:gd name="textAreaBottom" fmla="*/ 52164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4643280" y="2060640"/>
            <a:ext cx="792360" cy="792000"/>
          </a:xfrm>
          <a:custGeom>
            <a:avLst/>
            <a:gdLst>
              <a:gd name="textAreaLeft" fmla="*/ 138600 w 792360"/>
              <a:gd name="textAreaRight" fmla="*/ 574560 w 792360"/>
              <a:gd name="textAreaTop" fmla="*/ 105840 h 792000"/>
              <a:gd name="textAreaBottom" fmla="*/ 6861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4859280" y="3500280"/>
            <a:ext cx="433440" cy="865440"/>
          </a:xfrm>
          <a:custGeom>
            <a:avLst/>
            <a:gdLst>
              <a:gd name="textAreaLeft" fmla="*/ 57960 w 433440"/>
              <a:gd name="textAreaRight" fmla="*/ 375480 w 433440"/>
              <a:gd name="textAreaTop" fmla="*/ 151200 h 865440"/>
              <a:gd name="textAreaBottom" fmla="*/ 62748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9"/>
          <p:cNvSpPr/>
          <p:nvPr/>
        </p:nvSpPr>
        <p:spPr>
          <a:xfrm>
            <a:off x="6300720" y="3933720"/>
            <a:ext cx="432000" cy="432000"/>
          </a:xfrm>
          <a:custGeom>
            <a:avLst/>
            <a:gdLst>
              <a:gd name="textAreaLeft" fmla="*/ 133560 w 432000"/>
              <a:gd name="textAreaRight" fmla="*/ 298440 w 432000"/>
              <a:gd name="textAreaTop" fmla="*/ 164880 h 432000"/>
              <a:gd name="textAreaBottom" fmla="*/ 330120 h 432000"/>
            </a:gdLst>
            <a:ahLst/>
            <a:rect l="textAreaLeft" t="textAreaTop" r="textAreaRight" b="textAreaBottom"/>
            <a:pathLst>
              <a:path w="431800" h="431800">
                <a:moveTo>
                  <a:pt x="0" y="164932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2"/>
                </a:lnTo>
                <a:lnTo>
                  <a:pt x="298365" y="266866"/>
                </a:lnTo>
                <a:lnTo>
                  <a:pt x="349334" y="431799"/>
                </a:lnTo>
                <a:lnTo>
                  <a:pt x="215900" y="329864"/>
                </a:lnTo>
                <a:lnTo>
                  <a:pt x="82466" y="431799"/>
                </a:lnTo>
                <a:lnTo>
                  <a:pt x="133435" y="26686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7093080" y="2565360"/>
            <a:ext cx="503280" cy="358920"/>
          </a:xfrm>
          <a:custGeom>
            <a:avLst/>
            <a:gdLst>
              <a:gd name="textAreaLeft" fmla="*/ 155520 w 503280"/>
              <a:gd name="textAreaRight" fmla="*/ 347760 w 503280"/>
              <a:gd name="textAreaTop" fmla="*/ 137160 h 358920"/>
              <a:gd name="textAreaBottom" fmla="*/ 274320 h 358920"/>
            </a:gdLst>
            <a:ahLst/>
            <a:rect l="textAreaLeft" t="textAreaTop" r="textAreaRight" b="textAreaBottom"/>
            <a:pathLst>
              <a:path w="503238" h="358775">
                <a:moveTo>
                  <a:pt x="1" y="137039"/>
                </a:moveTo>
                <a:lnTo>
                  <a:pt x="192221" y="137040"/>
                </a:lnTo>
                <a:lnTo>
                  <a:pt x="251619" y="0"/>
                </a:lnTo>
                <a:lnTo>
                  <a:pt x="311017" y="137040"/>
                </a:lnTo>
                <a:lnTo>
                  <a:pt x="503237" y="137039"/>
                </a:lnTo>
                <a:lnTo>
                  <a:pt x="347727" y="221734"/>
                </a:lnTo>
                <a:lnTo>
                  <a:pt x="407128" y="358774"/>
                </a:lnTo>
                <a:lnTo>
                  <a:pt x="251619" y="274078"/>
                </a:lnTo>
                <a:lnTo>
                  <a:pt x="96110" y="358774"/>
                </a:lnTo>
                <a:lnTo>
                  <a:pt x="155511" y="22173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11"/>
          <p:cNvSpPr/>
          <p:nvPr/>
        </p:nvSpPr>
        <p:spPr>
          <a:xfrm>
            <a:off x="6948360" y="3141720"/>
            <a:ext cx="648000" cy="574560"/>
          </a:xfrm>
          <a:custGeom>
            <a:avLst/>
            <a:gdLst>
              <a:gd name="textAreaLeft" fmla="*/ 200160 w 648000"/>
              <a:gd name="textAreaRight" fmla="*/ 447840 w 648000"/>
              <a:gd name="textAreaTop" fmla="*/ 219600 h 574560"/>
              <a:gd name="textAreaBottom" fmla="*/ 438840 h 574560"/>
            </a:gdLst>
            <a:ahLst/>
            <a:rect l="textAreaLeft" t="textAreaTop" r="textAreaRight" b="textAreaBottom"/>
            <a:pathLst>
              <a:path w="647700" h="574675">
                <a:moveTo>
                  <a:pt x="1" y="219506"/>
                </a:moveTo>
                <a:lnTo>
                  <a:pt x="247401" y="219507"/>
                </a:lnTo>
                <a:lnTo>
                  <a:pt x="323850" y="0"/>
                </a:lnTo>
                <a:lnTo>
                  <a:pt x="400299" y="219507"/>
                </a:lnTo>
                <a:lnTo>
                  <a:pt x="647699" y="219506"/>
                </a:lnTo>
                <a:lnTo>
                  <a:pt x="447548" y="355167"/>
                </a:lnTo>
                <a:lnTo>
                  <a:pt x="524001" y="574673"/>
                </a:lnTo>
                <a:lnTo>
                  <a:pt x="323850" y="439010"/>
                </a:lnTo>
                <a:lnTo>
                  <a:pt x="123699" y="574673"/>
                </a:lnTo>
                <a:lnTo>
                  <a:pt x="200152" y="355167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12"/>
          <p:cNvSpPr/>
          <p:nvPr/>
        </p:nvSpPr>
        <p:spPr>
          <a:xfrm>
            <a:off x="6012000" y="5157720"/>
            <a:ext cx="504720" cy="503280"/>
          </a:xfrm>
          <a:custGeom>
            <a:avLst/>
            <a:gdLst>
              <a:gd name="textAreaLeft" fmla="*/ 155880 w 504720"/>
              <a:gd name="textAreaRight" fmla="*/ 348840 w 504720"/>
              <a:gd name="textAreaTop" fmla="*/ 192240 h 503280"/>
              <a:gd name="textAreaBottom" fmla="*/ 384480 h 503280"/>
            </a:gdLst>
            <a:ahLst/>
            <a:rect l="textAreaLeft" t="textAreaTop" r="textAreaRight" b="textAreaBottom"/>
            <a:pathLst>
              <a:path w="504825" h="503237">
                <a:moveTo>
                  <a:pt x="1" y="192219"/>
                </a:moveTo>
                <a:lnTo>
                  <a:pt x="192827" y="192220"/>
                </a:lnTo>
                <a:lnTo>
                  <a:pt x="252413" y="0"/>
                </a:lnTo>
                <a:lnTo>
                  <a:pt x="311998" y="192220"/>
                </a:lnTo>
                <a:lnTo>
                  <a:pt x="504824" y="192219"/>
                </a:lnTo>
                <a:lnTo>
                  <a:pt x="348824" y="311016"/>
                </a:lnTo>
                <a:lnTo>
                  <a:pt x="408412" y="503235"/>
                </a:lnTo>
                <a:lnTo>
                  <a:pt x="252413" y="384436"/>
                </a:lnTo>
                <a:lnTo>
                  <a:pt x="96413" y="503235"/>
                </a:lnTo>
                <a:lnTo>
                  <a:pt x="156001" y="31101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66"/>
                </a:solidFill>
                <a:latin typeface="Arial"/>
              </a:rPr>
              <a:t>1.3.- 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Mecanismo de Acción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   Fuerza Resume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57240"/>
            <a:ext cx="7772400" cy="42386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ada depolarización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ATPasa Sarcolema </a:t>
            </a:r>
            <a:r>
              <a:rPr b="0" lang="es-MX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 (Na/K)i  &gt; 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tercambiador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/C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+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arcolema             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Ca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TPasa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/C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Mitocondrial                      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Ca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TPasa C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+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tículo Sarcoplásmico             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Ca  0+1+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[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alci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]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&gt; N   en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{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.Sarc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}              Miofibrillas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ctina/Tropomiosina/Troponina: T, I,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Miosina/ATP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4859280" y="4653000"/>
            <a:ext cx="719280" cy="288720"/>
          </a:xfrm>
          <a:custGeom>
            <a:avLst/>
            <a:gdLst>
              <a:gd name="textAreaLeft" fmla="*/ 112320 w 719280"/>
              <a:gd name="textAreaRight" fmla="*/ 629640 w 719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4 Flecha izquierda"/>
          <p:cNvSpPr/>
          <p:nvPr/>
        </p:nvSpPr>
        <p:spPr>
          <a:xfrm>
            <a:off x="5867280" y="4221000"/>
            <a:ext cx="642960" cy="28584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5 Rectángulo redondeado"/>
          <p:cNvSpPr/>
          <p:nvPr/>
        </p:nvSpPr>
        <p:spPr>
          <a:xfrm>
            <a:off x="6429240" y="20001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a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6 Flecha derecha"/>
          <p:cNvSpPr/>
          <p:nvPr/>
        </p:nvSpPr>
        <p:spPr>
          <a:xfrm>
            <a:off x="4429080" y="2143080"/>
            <a:ext cx="1357200" cy="21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ffcc66"/>
                </a:solidFill>
                <a:latin typeface="Arial"/>
              </a:rPr>
              <a:t>2.-   </a:t>
            </a: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cciones sobre 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     Tejido Automátic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recue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Velocidad  de  Conduc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eríodo  Refractario  Efec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xcitab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utomatismo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Arial"/>
              </a:rPr>
              <a:t>2.1.-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Disminución Frecuenc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fecto Directo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Reducción Potencial Umb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Reducción vDDL o  pend. Fase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umento del PDM del marcapa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Indirecto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ensibilización  Rm del nodo 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ejoramiento Fuerza-Bainbridge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4716360" y="1916280"/>
            <a:ext cx="3886200" cy="4419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1187280" y="1916280"/>
            <a:ext cx="3529080" cy="4392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E           Frecuencia  vs  D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18920" y="198900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OSIS Farmacológ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fecto  Dir / Indirec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on :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Pot. Umb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vDD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ot.Diast.M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Frecuenci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Nodo  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76360" y="198900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OSIS May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fecto en ATPa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on :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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lang="es-MX" sz="2000" spc="-1" strike="noStrike" baseline="30000">
                <a:solidFill>
                  <a:srgbClr val="ffffff"/>
                </a:solidFill>
                <a:latin typeface="Times New Roman"/>
              </a:rPr>
              <a:t>+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intra</a:t>
            </a:r>
            <a:r>
              <a:rPr b="0" lang="es-MX" sz="20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D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vDD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utomatismo 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Focos Ectópic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1643040" y="1000080"/>
            <a:ext cx="936720" cy="360360"/>
          </a:xfrm>
          <a:custGeom>
            <a:avLst/>
            <a:gdLst>
              <a:gd name="textAreaLeft" fmla="*/ 146160 w 936720"/>
              <a:gd name="textAreaRight" fmla="*/ 819720 w 9367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Arial"/>
              </a:rPr>
              <a:t>2.2.-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Automatism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Terapéuticas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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odo SA:      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leve   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ndir.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ricula / Purkinje:       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Tóxicas] :       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Todos los  niveles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pendiente fase 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os ectópic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d-3"/>
          <p:cNvPicPr/>
          <p:nvPr/>
        </p:nvPicPr>
        <p:blipFill>
          <a:blip r:embed="rId1"/>
          <a:stretch/>
        </p:blipFill>
        <p:spPr>
          <a:xfrm>
            <a:off x="1828800" y="380880"/>
            <a:ext cx="58928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0080" y="468000"/>
            <a:ext cx="6562800" cy="98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utomatism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8" name="Picture 3" descr="Tox-automatismo"/>
          <p:cNvPicPr/>
          <p:nvPr/>
        </p:nvPicPr>
        <p:blipFill>
          <a:blip r:embed="rId1"/>
          <a:stretch/>
        </p:blipFill>
        <p:spPr>
          <a:xfrm>
            <a:off x="1116000" y="1268280"/>
            <a:ext cx="69120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74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66"/>
                </a:solidFill>
                <a:latin typeface="Arial"/>
              </a:rPr>
              <a:t>2.3.-</a:t>
            </a:r>
            <a:r>
              <a:rPr b="0" lang="es-ES" sz="3500" spc="-1" strike="noStrike">
                <a:solidFill>
                  <a:srgbClr val="ffcc66"/>
                </a:solidFill>
                <a:latin typeface="Arial"/>
              </a:rPr>
              <a:t>   Velocidad de Conducción</a:t>
            </a:r>
            <a:endParaRPr b="0" lang="en-US" sz="35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0" name="Picture 5" descr="v de Conducción"/>
          <p:cNvPicPr/>
          <p:nvPr/>
        </p:nvPicPr>
        <p:blipFill>
          <a:blip r:embed="rId1"/>
          <a:stretch/>
        </p:blipFill>
        <p:spPr>
          <a:xfrm>
            <a:off x="755640" y="1557360"/>
            <a:ext cx="763272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49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      </a:t>
            </a:r>
            <a:r>
              <a:rPr b="0" lang="es-ES" sz="2800" spc="-1" strike="noStrike">
                <a:solidFill>
                  <a:srgbClr val="ffcc66"/>
                </a:solidFill>
                <a:latin typeface="Arial"/>
              </a:rPr>
              <a:t>2.4.- 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Período refractario efectivo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2" name="Picture 7" descr="P"/>
          <p:cNvPicPr/>
          <p:nvPr/>
        </p:nvPicPr>
        <p:blipFill>
          <a:blip r:embed="rId1"/>
          <a:stretch/>
        </p:blipFill>
        <p:spPr>
          <a:xfrm>
            <a:off x="755640" y="1484280"/>
            <a:ext cx="7632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213920"/>
            <a:ext cx="7772400" cy="16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Fármacos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Con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Acción Cardíaca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cc66"/>
                </a:solidFill>
                <a:latin typeface="Arial"/>
              </a:rPr>
              <a:t>2.5.-</a:t>
            </a: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    Excitabilid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4" name="Picture 3" descr="Excitabilidad"/>
          <p:cNvPicPr/>
          <p:nvPr/>
        </p:nvPicPr>
        <p:blipFill>
          <a:blip r:embed="rId1"/>
          <a:stretch/>
        </p:blipFill>
        <p:spPr>
          <a:xfrm>
            <a:off x="1332000" y="1628640"/>
            <a:ext cx="6624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Arial"/>
              </a:rPr>
              <a:t>3.-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Efectos Adversos/Tóxicos 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           Cardía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rrítmias progresivas en  f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plasmática] 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xtasístoles  ventriculares  y  Auriculare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Bloqueo  A-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Taquicardia  Paroxística  Auricular  con  Bloqu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Taquicardia  Paroxística  Auricula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Taquicardia  Ventricular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Fibrilación  Ventricul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Arial"/>
              </a:rPr>
              <a:t>4.-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Interacciones de los G.C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REDUCEN EFEC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 que </a:t>
            </a:r>
            <a:r>
              <a:rPr b="1" lang="es-MX" sz="1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Absorción GI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ntiácidos, Kaolin-Pect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 que </a:t>
            </a:r>
            <a:r>
              <a:rPr b="1" lang="es-MX" sz="18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Motilidad GI s/H+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etocloprami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 que </a:t>
            </a:r>
            <a:r>
              <a:rPr b="1" lang="es-MX" sz="18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Metab.Hepático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Fenitoína.Fenilbutazona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arbitúricos,Spironolacto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UMENTAN EFEC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 que </a:t>
            </a:r>
            <a:r>
              <a:rPr b="1" lang="es-MX" sz="1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Mot.GI  y </a:t>
            </a:r>
            <a:r>
              <a:rPr b="1" lang="es-MX" sz="18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Abs.G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ntagonistas Muscarín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 que los Desplazan de Proteínas Plasmática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Quinidin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 que Depletan K</a:t>
            </a:r>
            <a:r>
              <a:rPr b="1" lang="es-MX" sz="18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iuréticos, Anfoteric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Arial"/>
              </a:rPr>
              <a:t>5.-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Indicaciones G.C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ICC asociada a Fibrilación  Auricul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Bajar la Taquicardia Compensatoria de la IC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Bajar la Frecuencia Ventricular de las arritmias auriculares de alta frecu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Transformar Arritmias y Taquicardias Supra Ventriculares a ritmo sinus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Dosis usuales de G.C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84360" y="2492280"/>
          <a:ext cx="7186320" cy="2857680"/>
        </p:xfrm>
        <a:graphic>
          <a:graphicData uri="http://schemas.openxmlformats.org/drawingml/2006/table">
            <a:tbl>
              <a:tblPr/>
              <a:tblGrid>
                <a:gridCol w="2395440"/>
                <a:gridCol w="2395440"/>
                <a:gridCol w="239544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gox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  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gitox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    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ffff"/>
                    </a:solidFill>
                  </a:tcPr>
                </a:tc>
              </a:tr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aque 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gitaliz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7-1,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-1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0ffff"/>
                    </a:solidFill>
                  </a:tcPr>
                </a:tc>
              </a:tr>
              <a:tr h="107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ten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iari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25-0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5-0,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0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Arial"/>
              </a:rPr>
              <a:t>6.-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traindicaciones G.C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Trastornos (o fármacos) que  reduzcan conducción AV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Bloqueo AV     y       Síndrome de WP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Miocardiopatía Hipertróf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Infarto Agudo Miocárd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POC con Hipoxem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ICC del Hipertenso con alta postcar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500" spc="-1" strike="noStrike">
                <a:solidFill>
                  <a:srgbClr val="ffcc66"/>
                </a:solidFill>
                <a:latin typeface="Arial"/>
              </a:rPr>
              <a:t>OTROS  INÓTROPOS</a:t>
            </a:r>
            <a:endParaRPr b="0" lang="en-US" sz="5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GONISTAS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HIBIDORES DE   FOSFODIESTER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c66"/>
                </a:solidFill>
                <a:latin typeface="Arial"/>
              </a:rPr>
              <a:t>Agonistas  </a:t>
            </a:r>
            <a:r>
              <a:rPr b="1" lang="es-MX" sz="4400" spc="-1" strike="noStrike">
                <a:solidFill>
                  <a:srgbClr val="ffcc66"/>
                </a:solidFill>
                <a:latin typeface="Symbol"/>
                <a:ea typeface="Symbol"/>
              </a:rPr>
              <a:t></a:t>
            </a:r>
            <a:r>
              <a:rPr b="1" lang="es-MX" sz="4400" spc="-1" strike="noStrike" baseline="-25000">
                <a:solidFill>
                  <a:srgbClr val="ffcc66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opam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obutam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1064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  </a:t>
            </a: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gonistas-</a:t>
            </a:r>
            <a:r>
              <a:rPr b="0" lang="el-GR" sz="4400" spc="-1" strike="noStrike">
                <a:solidFill>
                  <a:srgbClr val="ffcc66"/>
                </a:solidFill>
                <a:latin typeface="Arial"/>
              </a:rPr>
              <a:t>β</a:t>
            </a: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1" name="Picture 2" descr="d-30"/>
          <p:cNvPicPr/>
          <p:nvPr/>
        </p:nvPicPr>
        <p:blipFill>
          <a:blip r:embed="rId1"/>
          <a:stretch/>
        </p:blipFill>
        <p:spPr>
          <a:xfrm>
            <a:off x="2000160" y="1428840"/>
            <a:ext cx="5794560" cy="6337080"/>
          </a:xfrm>
          <a:prstGeom prst="rect">
            <a:avLst/>
          </a:prstGeom>
          <a:ln w="0">
            <a:noFill/>
          </a:ln>
        </p:spPr>
      </p:pic>
      <p:sp>
        <p:nvSpPr>
          <p:cNvPr id="192" name="3 Flecha curvada hacia la izquierda"/>
          <p:cNvSpPr/>
          <p:nvPr/>
        </p:nvSpPr>
        <p:spPr>
          <a:xfrm>
            <a:off x="5429160" y="1143000"/>
            <a:ext cx="642960" cy="1000080"/>
          </a:xfrm>
          <a:custGeom>
            <a:avLst/>
            <a:gdLst>
              <a:gd name="textAreaLeft" fmla="*/ 86040 w 642960"/>
              <a:gd name="textAreaRight" fmla="*/ 556920 w 642960"/>
              <a:gd name="textAreaTop" fmla="*/ 185400 h 1000080"/>
              <a:gd name="textAreaBottom" fmla="*/ 71748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017" stAng="-5400000" swAng="5400000"/>
                <a:lnTo>
                  <a:pt x="21600" y="11487"/>
                </a:lnTo>
                <a:arcTo wR="21600" hR="8017" stAng="0" swAng="3310415"/>
                <a:lnTo>
                  <a:pt x="5400" y="21345"/>
                </a:lnTo>
                <a:lnTo>
                  <a:pt x="0" y="17768"/>
                </a:lnTo>
                <a:lnTo>
                  <a:pt x="5400" y="13681"/>
                </a:lnTo>
                <a:lnTo>
                  <a:pt x="5400" y="15778"/>
                </a:lnTo>
                <a:arcTo wR="21600" hR="8017" stAng="3310415" swAng="-3028213"/>
                <a:lnTo>
                  <a:pt x="21088" y="9752"/>
                </a:lnTo>
                <a:arcTo wR="21600" hR="8017" stAng="-282202" swAng="-5117798"/>
                <a:close/>
              </a:path>
              <a:path fill="darkenLess" w="21600" h="21600">
                <a:moveTo>
                  <a:pt x="0" y="0"/>
                </a:moveTo>
                <a:arcTo wR="21600" hR="8017" stAng="-5400000" swAng="5400000"/>
                <a:lnTo>
                  <a:pt x="21600" y="11487"/>
                </a:lnTo>
                <a:arcTo wR="21600" hR="8017" stAng="0" swAng="-282202"/>
                <a:lnTo>
                  <a:pt x="21088" y="9752"/>
                </a:lnTo>
                <a:arcTo wR="21600" hR="8017" stAng="-282202" swAng="-5117798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       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Dopamin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71680" y="1928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R-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β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1                 Fuerza   &gt;&gt;    frecu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 R-Dopamina  D1                            Vasodilat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echo  renal  (preferente cortez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Mesentér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ron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ereb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osis altas vasocontricción                   R-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3 Flecha derecha"/>
          <p:cNvSpPr/>
          <p:nvPr/>
        </p:nvSpPr>
        <p:spPr>
          <a:xfrm>
            <a:off x="2000160" y="242892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6" name="5 Conector recto de flecha"/>
          <p:cNvCxnSpPr/>
          <p:nvPr/>
        </p:nvCxnSpPr>
        <p:spPr>
          <a:xfrm>
            <a:off x="3714840" y="3214800"/>
            <a:ext cx="6433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7" name="7 Conector recto de flecha"/>
          <p:cNvCxnSpPr/>
          <p:nvPr/>
        </p:nvCxnSpPr>
        <p:spPr>
          <a:xfrm>
            <a:off x="4071600" y="5785920"/>
            <a:ext cx="78660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Antiarrítmico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Inótropo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         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Dopamin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IV  o  Infusión  a  bajas  do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Times New Roman"/>
              </a:rPr>
              <a:t>2-4 </a:t>
            </a:r>
            <a:r>
              <a:rPr b="0" lang="es-MX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s-MX" sz="2000" spc="-1" strike="noStrike">
                <a:solidFill>
                  <a:srgbClr val="ffff00"/>
                </a:solidFill>
                <a:latin typeface="Times New Roman"/>
              </a:rPr>
              <a:t>g/kg/min                  Ag-</a:t>
            </a:r>
            <a:r>
              <a:rPr b="0" lang="es-MX" sz="20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0" lang="es-MX" sz="2000" spc="-1" strike="noStrike">
                <a:solidFill>
                  <a:srgbClr val="ffff00"/>
                </a:solidFill>
                <a:latin typeface="Times New Roman"/>
              </a:rPr>
              <a:t>1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5-10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g/kg/min                  Ag-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10  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g/kg/min                  Ag-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n ICC refractaria y shock cardiogénic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6286680" y="2500200"/>
            <a:ext cx="1368360" cy="121464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909771"/>
                <a:lnTo>
                  <a:pt x="6390" y="21262"/>
                </a:lnTo>
                <a:lnTo>
                  <a:pt x="0" y="17280"/>
                </a:lnTo>
                <a:lnTo>
                  <a:pt x="6390" y="12622"/>
                </a:lnTo>
                <a:lnTo>
                  <a:pt x="6390" y="14782"/>
                </a:lnTo>
                <a:arcTo wR="21600" hR="7560" stAng="2909771" swAng="-2552336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Dopamin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2 Rectángulo"/>
          <p:cNvSpPr/>
          <p:nvPr/>
        </p:nvSpPr>
        <p:spPr>
          <a:xfrm>
            <a:off x="755640" y="1989000"/>
            <a:ext cx="6500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as acciones cardiovasculares de la dopamina son dosis   dependientes. La infusión endovenosa contínua de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2 a 5 ug/kg/min. aumenta la contractilidad miocárdic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el volumen minuto y el flujo sanguíneo renal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, con pequeños camb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la frecuencia cardíaca y con reducción de la resistencia periférica tota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n esta dosis se incrementa la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diuresi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en los pacientes con ICC, lo que se debe a la combinación de efectos inotrópicos y vasodilatador re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Dobutamin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IV  o  Infusión     2,5-15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μ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g/Kg/m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g-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1 &gt;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1" lang="es-MX" sz="20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s-MX" sz="20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Inótropo (+)</a:t>
            </a:r>
            <a:r>
              <a:rPr b="0" lang="es-MX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Sin   taq.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1    y    vasocontricción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(resist.vasc. no se modific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n ICC refractaria  y  shock cardiogén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n falla ventricular aguda se asocia a Nitr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cocardiograma  con  Dobutamin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cc66"/>
                </a:solidFill>
                <a:latin typeface="Arial"/>
              </a:rPr>
              <a:t>Inhibidores  de  Fosfodiesterasa</a:t>
            </a:r>
            <a:endParaRPr b="0" lang="en-US" sz="3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Bipiridín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067280" y="2637000"/>
            <a:ext cx="547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mrin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ilrin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snarin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imobendan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arbazer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ulmaz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evosimendá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Fig"/>
          <p:cNvPicPr/>
          <p:nvPr/>
        </p:nvPicPr>
        <p:blipFill>
          <a:blip r:embed="rId1"/>
          <a:stretch/>
        </p:blipFill>
        <p:spPr>
          <a:xfrm>
            <a:off x="468360" y="620640"/>
            <a:ext cx="8115120" cy="548640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6"/>
          <p:cNvSpPr/>
          <p:nvPr/>
        </p:nvSpPr>
        <p:spPr>
          <a:xfrm>
            <a:off x="6300720" y="3933720"/>
            <a:ext cx="432000" cy="432000"/>
          </a:xfrm>
          <a:custGeom>
            <a:avLst/>
            <a:gdLst>
              <a:gd name="textAreaLeft" fmla="*/ 133560 w 432000"/>
              <a:gd name="textAreaRight" fmla="*/ 298440 w 432000"/>
              <a:gd name="textAreaTop" fmla="*/ 164880 h 432000"/>
              <a:gd name="textAreaBottom" fmla="*/ 330120 h 432000"/>
            </a:gdLst>
            <a:ahLst/>
            <a:rect l="textAreaLeft" t="textAreaTop" r="textAreaRight" b="textAreaBottom"/>
            <a:pathLst>
              <a:path w="431800" h="431800">
                <a:moveTo>
                  <a:pt x="0" y="164932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2"/>
                </a:lnTo>
                <a:lnTo>
                  <a:pt x="298365" y="266866"/>
                </a:lnTo>
                <a:lnTo>
                  <a:pt x="349334" y="431799"/>
                </a:lnTo>
                <a:lnTo>
                  <a:pt x="215900" y="329864"/>
                </a:lnTo>
                <a:lnTo>
                  <a:pt x="82466" y="431799"/>
                </a:lnTo>
                <a:lnTo>
                  <a:pt x="133435" y="26686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7093080" y="2565360"/>
            <a:ext cx="503280" cy="358920"/>
          </a:xfrm>
          <a:custGeom>
            <a:avLst/>
            <a:gdLst>
              <a:gd name="textAreaLeft" fmla="*/ 155520 w 503280"/>
              <a:gd name="textAreaRight" fmla="*/ 347760 w 503280"/>
              <a:gd name="textAreaTop" fmla="*/ 137160 h 358920"/>
              <a:gd name="textAreaBottom" fmla="*/ 274320 h 358920"/>
            </a:gdLst>
            <a:ahLst/>
            <a:rect l="textAreaLeft" t="textAreaTop" r="textAreaRight" b="textAreaBottom"/>
            <a:pathLst>
              <a:path w="503238" h="358775">
                <a:moveTo>
                  <a:pt x="1" y="137039"/>
                </a:moveTo>
                <a:lnTo>
                  <a:pt x="192221" y="137040"/>
                </a:lnTo>
                <a:lnTo>
                  <a:pt x="251619" y="0"/>
                </a:lnTo>
                <a:lnTo>
                  <a:pt x="311017" y="137040"/>
                </a:lnTo>
                <a:lnTo>
                  <a:pt x="503237" y="137039"/>
                </a:lnTo>
                <a:lnTo>
                  <a:pt x="347727" y="221734"/>
                </a:lnTo>
                <a:lnTo>
                  <a:pt x="407128" y="358774"/>
                </a:lnTo>
                <a:lnTo>
                  <a:pt x="251619" y="274078"/>
                </a:lnTo>
                <a:lnTo>
                  <a:pt x="96110" y="358774"/>
                </a:lnTo>
                <a:lnTo>
                  <a:pt x="155511" y="22173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AutoShape 8"/>
          <p:cNvSpPr/>
          <p:nvPr/>
        </p:nvSpPr>
        <p:spPr>
          <a:xfrm>
            <a:off x="6948360" y="3141720"/>
            <a:ext cx="648000" cy="574560"/>
          </a:xfrm>
          <a:custGeom>
            <a:avLst/>
            <a:gdLst>
              <a:gd name="textAreaLeft" fmla="*/ 200160 w 648000"/>
              <a:gd name="textAreaRight" fmla="*/ 447840 w 648000"/>
              <a:gd name="textAreaTop" fmla="*/ 219600 h 574560"/>
              <a:gd name="textAreaBottom" fmla="*/ 438840 h 574560"/>
            </a:gdLst>
            <a:ahLst/>
            <a:rect l="textAreaLeft" t="textAreaTop" r="textAreaRight" b="textAreaBottom"/>
            <a:pathLst>
              <a:path w="647700" h="574675">
                <a:moveTo>
                  <a:pt x="1" y="219506"/>
                </a:moveTo>
                <a:lnTo>
                  <a:pt x="247401" y="219507"/>
                </a:lnTo>
                <a:lnTo>
                  <a:pt x="323850" y="0"/>
                </a:lnTo>
                <a:lnTo>
                  <a:pt x="400299" y="219507"/>
                </a:lnTo>
                <a:lnTo>
                  <a:pt x="647699" y="219506"/>
                </a:lnTo>
                <a:lnTo>
                  <a:pt x="447548" y="355167"/>
                </a:lnTo>
                <a:lnTo>
                  <a:pt x="524001" y="574673"/>
                </a:lnTo>
                <a:lnTo>
                  <a:pt x="323850" y="439010"/>
                </a:lnTo>
                <a:lnTo>
                  <a:pt x="123699" y="574673"/>
                </a:lnTo>
                <a:lnTo>
                  <a:pt x="200152" y="355167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6012000" y="5157720"/>
            <a:ext cx="504720" cy="503280"/>
          </a:xfrm>
          <a:custGeom>
            <a:avLst/>
            <a:gdLst>
              <a:gd name="textAreaLeft" fmla="*/ 155880 w 504720"/>
              <a:gd name="textAreaRight" fmla="*/ 348840 w 504720"/>
              <a:gd name="textAreaTop" fmla="*/ 192240 h 503280"/>
              <a:gd name="textAreaBottom" fmla="*/ 384480 h 503280"/>
            </a:gdLst>
            <a:ahLst/>
            <a:rect l="textAreaLeft" t="textAreaTop" r="textAreaRight" b="textAreaBottom"/>
            <a:pathLst>
              <a:path w="504825" h="503237">
                <a:moveTo>
                  <a:pt x="1" y="192219"/>
                </a:moveTo>
                <a:lnTo>
                  <a:pt x="192827" y="192220"/>
                </a:lnTo>
                <a:lnTo>
                  <a:pt x="252413" y="0"/>
                </a:lnTo>
                <a:lnTo>
                  <a:pt x="311998" y="192220"/>
                </a:lnTo>
                <a:lnTo>
                  <a:pt x="504824" y="192219"/>
                </a:lnTo>
                <a:lnTo>
                  <a:pt x="348824" y="311016"/>
                </a:lnTo>
                <a:lnTo>
                  <a:pt x="408412" y="503235"/>
                </a:lnTo>
                <a:lnTo>
                  <a:pt x="252413" y="384436"/>
                </a:lnTo>
                <a:lnTo>
                  <a:pt x="96413" y="503235"/>
                </a:lnTo>
                <a:lnTo>
                  <a:pt x="156001" y="31101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7 Llamada de flecha hacia arriba"/>
          <p:cNvSpPr/>
          <p:nvPr/>
        </p:nvSpPr>
        <p:spPr>
          <a:xfrm>
            <a:off x="3500280" y="4357800"/>
            <a:ext cx="928800" cy="1571400"/>
          </a:xfrm>
          <a:prstGeom prst="upArrowCallout">
            <a:avLst>
              <a:gd name="adj1" fmla="val 20354"/>
              <a:gd name="adj2" fmla="val 17926"/>
              <a:gd name="adj3" fmla="val 20287"/>
              <a:gd name="adj4" fmla="val 131135"/>
            </a:avLst>
          </a:pr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hibido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9 Flecha curvada hacia abajo"/>
          <p:cNvSpPr/>
          <p:nvPr/>
        </p:nvSpPr>
        <p:spPr>
          <a:xfrm>
            <a:off x="3786120" y="3357720"/>
            <a:ext cx="1214640" cy="642960"/>
          </a:xfrm>
          <a:custGeom>
            <a:avLst/>
            <a:gdLst>
              <a:gd name="textAreaLeft" fmla="*/ 243360 w 1214640"/>
              <a:gd name="textAreaRight" fmla="*/ 891000 w 121464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56" hR="21600" stAng="10800000" swAng="5400000"/>
                <a:lnTo>
                  <a:pt x="11514" y="0"/>
                </a:lnTo>
                <a:arcTo wR="8656" hR="21600" stAng="-5400000" swAng="3432369"/>
                <a:lnTo>
                  <a:pt x="21325" y="16200"/>
                </a:lnTo>
                <a:lnTo>
                  <a:pt x="18741" y="21600"/>
                </a:lnTo>
                <a:lnTo>
                  <a:pt x="15607" y="16200"/>
                </a:lnTo>
                <a:lnTo>
                  <a:pt x="17037" y="16200"/>
                </a:lnTo>
                <a:arcTo wR="8656" hR="21600" stAng="-1967631" swAng="-3202118"/>
                <a:lnTo>
                  <a:pt x="10085" y="296"/>
                </a:lnTo>
                <a:arcTo wR="8656" hR="21600" stAng="-5630252" swAng="-5169748"/>
                <a:close/>
              </a:path>
              <a:path fill="darkenLess" w="21600" h="21600">
                <a:moveTo>
                  <a:pt x="0" y="21600"/>
                </a:moveTo>
                <a:arcTo wR="8656" hR="21600" stAng="10800000" swAng="5400000"/>
                <a:lnTo>
                  <a:pt x="8656" y="0"/>
                </a:lnTo>
                <a:arcTo wR="8656" hR="21600" stAng="-5400000" swAng="230252"/>
                <a:lnTo>
                  <a:pt x="10085" y="296"/>
                </a:lnTo>
                <a:arcTo wR="8656" hR="21600" stAng="-5630252" swAng="-5169748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hibidores de Fosfodiesteras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FDE tipo III se encuentra en músculo cardíaco y en músculo lis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u inhibición aumenta el AMP-c y con esto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Aumenta desarrollo de ten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 </a:t>
            </a: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gasto cardíaco, reducción pres.pulmonar  y la resist.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riférica total.         Sin grandes cambios en frecuencia y pres.arteri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Fármacos No Inótropos 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       en IC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URÉTICOS      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Reducen Precar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ASODILATADO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enodilatación   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Reducen Precar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latación Arteriolas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Reducen Postcar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Fármacos No Inótropos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       en IC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HIBIDORES DE LA  EC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sminuyen AGT-II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ducen resistencia periférica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Dis.Postcar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ducen secreción Aldosterona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Dis.Precar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3 Abrir corchete"/>
          <p:cNvSpPr/>
          <p:nvPr/>
        </p:nvSpPr>
        <p:spPr>
          <a:xfrm>
            <a:off x="928800" y="4500720"/>
            <a:ext cx="71280" cy="1000080"/>
          </a:xfrm>
          <a:custGeom>
            <a:avLst/>
            <a:gdLst>
              <a:gd name="textAreaLeft" fmla="*/ 20880 w 71280"/>
              <a:gd name="textAreaRight" fmla="*/ 71640 w 71280"/>
              <a:gd name="textAreaTop" fmla="*/ 2880 h 1000080"/>
              <a:gd name="textAreaBottom" fmla="*/ 99720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65"/>
                  <a:pt x="0" y="129"/>
                </a:cubicBezTo>
                <a:lnTo>
                  <a:pt x="0" y="21471"/>
                </a:lnTo>
                <a:cubicBezTo>
                  <a:pt x="0" y="21536"/>
                  <a:pt x="10800" y="21600"/>
                  <a:pt x="21600" y="21600"/>
                </a:cubicBezTo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Fármacos No Inótropos 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      en  IC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ntagonistas de  Angiotensina 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  R - AT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osart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andersart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rbesart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Valsart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ffffff"/>
                </a:solidFill>
                <a:latin typeface="Times New Roman"/>
              </a:rPr>
              <a:t>FI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213920"/>
            <a:ext cx="7772400" cy="16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Fármacos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Inótropo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razón Automátic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Tejido Excitocondu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Ritmo y Conduc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allas del Rit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ármacos ANTIARRÍTM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7286760" y="1500120"/>
            <a:ext cx="1093680" cy="1584360"/>
          </a:xfrm>
          <a:custGeom>
            <a:avLst/>
            <a:gdLst>
              <a:gd name="textAreaLeft" fmla="*/ 146520 w 1093680"/>
              <a:gd name="textAreaRight" fmla="*/ 947160 w 1093680"/>
              <a:gd name="textAreaTop" fmla="*/ 273600 h 1584360"/>
              <a:gd name="textAreaBottom" fmla="*/ 116604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66" stAng="-5400000" swAng="5400000"/>
                <a:lnTo>
                  <a:pt x="21600" y="12162"/>
                </a:lnTo>
                <a:arcTo wR="21600" hR="7466" stAng="0" swAng="2661134"/>
                <a:lnTo>
                  <a:pt x="7200" y="21173"/>
                </a:lnTo>
                <a:lnTo>
                  <a:pt x="0" y="17280"/>
                </a:lnTo>
                <a:lnTo>
                  <a:pt x="7200" y="12533"/>
                </a:lnTo>
                <a:lnTo>
                  <a:pt x="7200" y="14505"/>
                </a:lnTo>
                <a:arcTo wR="21600" hR="7466" stAng="2661134" swAng="-2269171"/>
                <a:lnTo>
                  <a:pt x="20504" y="9814"/>
                </a:lnTo>
                <a:arcTo wR="21600" hR="7466" stAng="-391963" swAng="-5008037"/>
                <a:close/>
              </a:path>
              <a:path fill="darkenLess" w="21600" h="21600">
                <a:moveTo>
                  <a:pt x="0" y="0"/>
                </a:moveTo>
                <a:arcTo wR="21600" hR="7466" stAng="-5400000" swAng="5400000"/>
                <a:lnTo>
                  <a:pt x="21600" y="12162"/>
                </a:lnTo>
                <a:arcTo wR="21600" hR="7466" stAng="0" swAng="-391963"/>
                <a:lnTo>
                  <a:pt x="20504" y="9814"/>
                </a:lnTo>
                <a:arcTo wR="21600" hR="7466" stAng="-391963" swAng="-5008037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fig-4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1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s-MX" sz="5400" spc="-1" strike="noStrike">
                <a:solidFill>
                  <a:srgbClr val="ffcc66"/>
                </a:solidFill>
                <a:latin typeface="Arial"/>
              </a:rPr>
              <a:t>Antiarrítmicos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Times New Roman"/>
              </a:rPr>
              <a:t>Antidisrrítmico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d-3"/>
          <p:cNvPicPr/>
          <p:nvPr/>
        </p:nvPicPr>
        <p:blipFill>
          <a:blip r:embed="rId1"/>
          <a:stretch/>
        </p:blipFill>
        <p:spPr>
          <a:xfrm>
            <a:off x="1828800" y="380880"/>
            <a:ext cx="58928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d-13-a"/>
          <p:cNvPicPr/>
          <p:nvPr/>
        </p:nvPicPr>
        <p:blipFill>
          <a:blip r:embed="rId1"/>
          <a:stretch/>
        </p:blipFill>
        <p:spPr>
          <a:xfrm>
            <a:off x="395280" y="1197000"/>
            <a:ext cx="845964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Arritmias / Disritmi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rterioescler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clusión  coronaria     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Reperfu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squemia miocárdica   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Arritmi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       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Tipos Arritmi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Auricula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xtrasíst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aquicar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lu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ibri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Ventricula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xtrasíst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aquicar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ibri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Mecanismos de Arritmi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0000" y="1905120"/>
            <a:ext cx="3859200" cy="41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Generación Impul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norm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utomática -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umentad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nóma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sencadenada -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P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nomalía Cond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mpul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Bloque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entr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1143000" y="1905120"/>
            <a:ext cx="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6 Conector recto"/>
          <p:cNvSpPr/>
          <p:nvPr/>
        </p:nvSpPr>
        <p:spPr>
          <a:xfrm>
            <a:off x="5357880" y="3571920"/>
            <a:ext cx="207180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8 Conector recto"/>
          <p:cNvSpPr/>
          <p:nvPr/>
        </p:nvSpPr>
        <p:spPr>
          <a:xfrm>
            <a:off x="7429680" y="3571920"/>
            <a:ext cx="0" cy="17161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10 Conector recto"/>
          <p:cNvSpPr/>
          <p:nvPr/>
        </p:nvSpPr>
        <p:spPr>
          <a:xfrm flipH="1">
            <a:off x="5357880" y="3573360"/>
            <a:ext cx="1440" cy="17146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13 Conector recto"/>
          <p:cNvSpPr/>
          <p:nvPr/>
        </p:nvSpPr>
        <p:spPr>
          <a:xfrm>
            <a:off x="5357880" y="5286240"/>
            <a:ext cx="207180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19 Conector recto"/>
          <p:cNvSpPr/>
          <p:nvPr/>
        </p:nvSpPr>
        <p:spPr>
          <a:xfrm>
            <a:off x="1500120" y="3643200"/>
            <a:ext cx="321480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21 Conector recto"/>
          <p:cNvSpPr/>
          <p:nvPr/>
        </p:nvSpPr>
        <p:spPr>
          <a:xfrm flipH="1">
            <a:off x="4714920" y="3645000"/>
            <a:ext cx="1440" cy="24987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23 Conector recto"/>
          <p:cNvSpPr/>
          <p:nvPr/>
        </p:nvSpPr>
        <p:spPr>
          <a:xfrm flipH="1">
            <a:off x="1498680" y="3643200"/>
            <a:ext cx="1440" cy="2502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29 Conector recto"/>
          <p:cNvSpPr/>
          <p:nvPr/>
        </p:nvSpPr>
        <p:spPr>
          <a:xfrm>
            <a:off x="1500120" y="6143760"/>
            <a:ext cx="314316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lasificación de Antiarrítmicos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I                 Grupo II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   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Quinid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rocaínam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sopiram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   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idocaí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Mexilet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ocaín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   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ropafen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lecaín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Lorcaín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ropranol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imol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indol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tenol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lprenol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cebutol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lasificación de Antiarrítmicos Grupo III             Grupo IV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Amiodar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retil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A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Melper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otal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lofil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ranol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Verapami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ltiaz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Galopami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epridi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nipami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razón Bomb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iocardio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esarrollo Tensión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érdida de Fuer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ármacos       INÓTROP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6858000" y="1285920"/>
            <a:ext cx="1454040" cy="1584360"/>
          </a:xfrm>
          <a:custGeom>
            <a:avLst/>
            <a:gdLst>
              <a:gd name="textAreaLeft" fmla="*/ 194760 w 1454040"/>
              <a:gd name="textAreaRight" fmla="*/ 1259280 w 145404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A.A.  Grupo I     vs     Cinética</a:t>
            </a:r>
            <a:br>
              <a:rPr sz="4000"/>
            </a:b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        Interacción con Cana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42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Grupo I a              Cinética   Interme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Quinid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Grupo I b                 Cinética   Ráp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Lidocaí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Grupo I c                  Cinética   Len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Propafen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d-1"/>
          <p:cNvPicPr/>
          <p:nvPr/>
        </p:nvPicPr>
        <p:blipFill>
          <a:blip r:embed="rId1"/>
          <a:stretch/>
        </p:blipFill>
        <p:spPr>
          <a:xfrm>
            <a:off x="2313000" y="295200"/>
            <a:ext cx="451656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I b   /   Cinética Rápida</a:t>
            </a:r>
            <a:r>
              <a:rPr b="0" lang="es-MX" sz="4400" spc="-1" strike="noStrike" baseline="-25000">
                <a:solidFill>
                  <a:srgbClr val="ffcc66"/>
                </a:solidFill>
                <a:latin typeface="Arial"/>
              </a:rPr>
              <a:t>1 tipo   </a:t>
            </a:r>
            <a:r>
              <a:rPr b="0" lang="es-MX" sz="5400" spc="-1" strike="noStrike" baseline="-25000">
                <a:solidFill>
                  <a:srgbClr val="ffcc66"/>
                </a:solidFill>
                <a:latin typeface="Arial"/>
              </a:rPr>
              <a:t>Lidocaína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Baja potencia como modulador  Canal Na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Asoc. y disoc. muy rápido del  Canal Na+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sí   en diástole están disoc. del Canal  y   no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PR  y  Q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or lo tanto son eficaces para Suprimir Aumentos Rápidos de Frecuencia (extrasístol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 I b / Cinética Rápida</a:t>
            </a:r>
            <a:r>
              <a:rPr b="0" lang="es-MX" sz="4400" spc="-1" strike="noStrike" baseline="-25000">
                <a:solidFill>
                  <a:srgbClr val="ffcc66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dicados e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xtrasístoles ventricul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aq.Ventricular :  Fase aguda  y  crónica  postinfarto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irugía cardíaca, intox. digitálica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cc66"/>
                </a:solidFill>
                <a:latin typeface="Arial"/>
              </a:rPr>
              <a:t>Grupo  I a   /   Cinética intermedia</a:t>
            </a:r>
            <a:r>
              <a:rPr b="0" lang="es-MX" sz="4400" spc="-1" strike="noStrike" baseline="-25000">
                <a:solidFill>
                  <a:srgbClr val="ffcc66"/>
                </a:solidFill>
                <a:latin typeface="Arial"/>
              </a:rPr>
              <a:t>1    tipo    </a:t>
            </a:r>
            <a:r>
              <a:rPr b="0" lang="es-MX" sz="5400" spc="-1" strike="noStrike" baseline="-25000">
                <a:solidFill>
                  <a:srgbClr val="ffcc66"/>
                </a:solidFill>
                <a:latin typeface="Arial"/>
              </a:rPr>
              <a:t>Quinidina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Moderada potencia como modulador  Canal Na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Dosis baja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:  Inhibe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súbitos de frecu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Dosis alta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: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conducción   y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Q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 directo depresor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nodo SA :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Frecuencia Sinusal  y  Ectópic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aurìcula :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vCond. ,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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RE  y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Automatismo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nodo AV :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vCond. AV   (&gt;P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ventrìculo :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vCond.   y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PRE   (&gt;QRS)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 I a  / Cinética Intermedia</a:t>
            </a:r>
            <a:r>
              <a:rPr b="0" lang="es-MX" sz="4400" spc="-1" strike="noStrike" baseline="-25000">
                <a:solidFill>
                  <a:srgbClr val="ffcc66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dicados e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xtrasístoles Auriculares y ventricula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aquiarritmias auric.* y ventric. resistentes a Lido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lutter y Fibrilación Auricular*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ritmo 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WPW:  Aumenta PRE de la vía acceso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.Indirecto*:     Anticolinérgico en  NodoA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Q&gt;&gt;Pro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 I c   /   Cinética Lenta</a:t>
            </a:r>
            <a:r>
              <a:rPr b="0" lang="es-MX" sz="4400" spc="-1" strike="noStrike" baseline="-25000">
                <a:solidFill>
                  <a:srgbClr val="ffcc66"/>
                </a:solidFill>
                <a:latin typeface="Arial"/>
              </a:rPr>
              <a:t>1</a:t>
            </a:r>
            <a:br>
              <a:rPr sz="4400"/>
            </a:br>
            <a:r>
              <a:rPr b="0" lang="es-MX" sz="4400" spc="-1" strike="noStrike" baseline="-25000">
                <a:solidFill>
                  <a:srgbClr val="ffcc66"/>
                </a:solidFill>
                <a:latin typeface="Arial"/>
              </a:rPr>
              <a:t>tipo    </a:t>
            </a:r>
            <a:r>
              <a:rPr b="0" lang="es-MX" sz="5400" spc="-1" strike="noStrike" baseline="-25000">
                <a:solidFill>
                  <a:srgbClr val="ffcc66"/>
                </a:solidFill>
                <a:latin typeface="Arial"/>
              </a:rPr>
              <a:t>Propafenona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Moduladores más potentes del Canal de Na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Asoc. y Disoc. lenta del Canal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,   interacción   m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rolongada que el diástole fisiológico, por tanto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 mayor grado de inhibición de iNa+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 con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PR y QRS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riesgo arritmi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3 Abrir llave"/>
          <p:cNvSpPr/>
          <p:nvPr/>
        </p:nvSpPr>
        <p:spPr>
          <a:xfrm>
            <a:off x="1500120" y="4786200"/>
            <a:ext cx="142920" cy="107172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1071720"/>
              <a:gd name="textAreaBottom" fmla="*/ 1068120 h 10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"/>
                  <a:pt x="10800" y="240"/>
                </a:cubicBezTo>
                <a:lnTo>
                  <a:pt x="10800" y="10560"/>
                </a:lnTo>
                <a:cubicBezTo>
                  <a:pt x="10800" y="10680"/>
                  <a:pt x="5400" y="10800"/>
                  <a:pt x="0" y="10800"/>
                </a:cubicBezTo>
                <a:cubicBezTo>
                  <a:pt x="5400" y="10800"/>
                  <a:pt x="10800" y="10920"/>
                  <a:pt x="10800" y="11040"/>
                </a:cubicBezTo>
                <a:lnTo>
                  <a:pt x="10800" y="21360"/>
                </a:lnTo>
                <a:cubicBezTo>
                  <a:pt x="10800" y="21480"/>
                  <a:pt x="16200" y="21600"/>
                  <a:pt x="21600" y="21600"/>
                </a:cubicBezTo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 I c  /  Cinética Lenta</a:t>
            </a:r>
            <a:r>
              <a:rPr b="0" lang="es-MX" sz="4400" spc="-1" strike="noStrike" baseline="-25000">
                <a:solidFill>
                  <a:srgbClr val="ffcc66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primen intensamente la i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, la  Excita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y conducción intracardíaca:  Nodo AV  y  vías acceso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Uso*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rritmias ventriculares: extrasístoles o taquicar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rritmias supraventriculares  y  de la unión A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índromes de preexitación como WP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* Bajo estricto control méd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 II / Antagonistas-</a:t>
            </a:r>
            <a:r>
              <a:rPr b="0" lang="es-MX" sz="4400" spc="-1" strike="noStrike">
                <a:solidFill>
                  <a:srgbClr val="ffcc66"/>
                </a:solidFill>
                <a:latin typeface="Symbol"/>
                <a:ea typeface="Symbol"/>
              </a:rPr>
              <a:t>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</a:t>
            </a:r>
            <a:r>
              <a:rPr b="0" lang="es-MX" sz="2400" spc="-1" strike="noStrike">
                <a:solidFill>
                  <a:srgbClr val="ffcc66"/>
                </a:solidFill>
                <a:latin typeface="Arial"/>
              </a:rPr>
              <a:t>1 </a:t>
            </a:r>
            <a:br>
              <a:rPr sz="2400"/>
            </a:b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tipo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Propranolo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ntagonismo </a:t>
            </a:r>
            <a:r>
              <a:rPr b="1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:  Nodo SA y AV, His-Purkinje , A&gt;&gt;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Efecto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sminuyen :    Frecuencia  SA   y  conducción A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umentan   PRE   Nodo A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sminuyen  vCond. Ventricular  (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QRS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uprimen  automatismo  subsidiario  anómalo (iK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sminuyen fuerza contráctil (A&gt;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 II / Antagonistas-</a:t>
            </a:r>
            <a:r>
              <a:rPr b="0" lang="es-MX" sz="4400" spc="-1" strike="noStrike">
                <a:solidFill>
                  <a:srgbClr val="ffcc66"/>
                </a:solidFill>
                <a:latin typeface="Symbol"/>
                <a:ea typeface="Symbol"/>
              </a:rPr>
              <a:t>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0" lang="es-MX" sz="2000" spc="-1" strike="noStrike">
                <a:solidFill>
                  <a:srgbClr val="ffcc66"/>
                </a:solidFill>
                <a:latin typeface="Arial"/>
              </a:rPr>
              <a:t> 2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Uso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rritmias secundaria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al incremento del tono simpático: asociadas a estrés, ansiedad, ejercicio, feocromocitoma, hipertiroidismo, anestesia por halot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Taquiarritmias Supraventriculare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: asociadas a hipertensión arterial, angina o post infar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Controlar la frecuencia ventricular en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: taq.supraventric.   y en arritmias ventriculares (asocias a QT largo) intox.        digitálica, miocardiopatía obstructiva o prolapso mitr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ig"/>
          <p:cNvPicPr/>
          <p:nvPr/>
        </p:nvPicPr>
        <p:blipFill>
          <a:blip r:embed="rId1"/>
          <a:stretch/>
        </p:blipFill>
        <p:spPr>
          <a:xfrm>
            <a:off x="228600" y="826920"/>
            <a:ext cx="883908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Grupo  III   /  Amiodarona  </a:t>
            </a:r>
            <a:r>
              <a:rPr b="0" lang="es-MX" sz="1800" spc="-1" strike="noStrike">
                <a:solidFill>
                  <a:srgbClr val="ffcc66"/>
                </a:solidFill>
                <a:latin typeface="Arial"/>
              </a:rPr>
              <a:t>1</a:t>
            </a:r>
            <a:br>
              <a:rPr sz="1800"/>
            </a:br>
            <a:r>
              <a:rPr b="0" lang="es-MX" sz="2000" spc="-1" strike="noStrike">
                <a:solidFill>
                  <a:srgbClr val="ffcc66"/>
                </a:solidFill>
                <a:latin typeface="Arial"/>
              </a:rPr>
              <a:t>Aumentan duraciòn del potencial de acciòn</a:t>
            </a: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nhibe  iNa / iCa  y  Antagonista </a:t>
            </a:r>
            <a:r>
              <a:rPr b="1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sminuye frecuencia  SA  discret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Aumenta duración del potencial de a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Aumenta PRE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:   auricular , Nodo AV , Ventricular  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 vías accesorias A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sminuye vCond. intra cardíaca (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P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asodilatación sistémica y coronaria y reduce trabajo cardía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 III   /  Amiodarona  </a:t>
            </a:r>
            <a:r>
              <a:rPr b="0" lang="es-MX" sz="2000" spc="-1" strike="noStrike">
                <a:solidFill>
                  <a:srgbClr val="ffcc66"/>
                </a:solidFill>
                <a:latin typeface="Arial"/>
              </a:rPr>
              <a:t> 2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ndicacion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rritmias supraventriculares y ventriculares por reentrada en especial de WP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versión sinusal del Flutter y  F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aquicardia supraventricular  o  controlar la frecuencia ventricular de ell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rritmias ventriculares graves refractarias o recurrentes y especialmente aquellas post infarto con baja fracción de eye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IV  /  Mod.C.Ca</a:t>
            </a:r>
            <a:r>
              <a:rPr b="0" lang="es-MX" sz="4400" spc="-1" strike="noStrike" baseline="30000">
                <a:solidFill>
                  <a:srgbClr val="ffcc66"/>
                </a:solidFill>
                <a:latin typeface="Arial"/>
              </a:rPr>
              <a:t>++       </a:t>
            </a:r>
            <a:r>
              <a:rPr b="0" lang="es-MX" sz="2000" spc="-1" strike="noStrike">
                <a:solidFill>
                  <a:srgbClr val="ffcc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ctivación  Nodos  SA y AV  es  función (iCa</a:t>
            </a:r>
            <a:r>
              <a:rPr b="1" lang="es-MX" sz="2400" spc="-1" strike="noStrike" baseline="30000">
                <a:solidFill>
                  <a:srgbClr val="ffffff"/>
                </a:solidFill>
                <a:latin typeface="Times New Roman"/>
              </a:rPr>
              <a:t>++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 &gt;(i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era y Diltia , al inhibir la iC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Disminuyen:  Frecuencia  SA* , Cond. AV , Fuer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Aumentan PRE  Nodo AV (vera&gt;dilt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sminuye automatismo anormal dependiente de C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asodilatación  arteriovenosa,  disminuyendo resistencia vascular  sistémica  y  la P.Arter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ía  refleja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tono adrenérgico cardíaco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umenta el flujo coronario y disminuye demanda de O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IV  /  Mod.C.Ca</a:t>
            </a:r>
            <a:r>
              <a:rPr b="0" lang="es-MX" sz="4400" spc="-1" strike="noStrike" baseline="30000">
                <a:solidFill>
                  <a:srgbClr val="ffcc66"/>
                </a:solidFill>
                <a:latin typeface="Arial"/>
              </a:rPr>
              <a:t>++     </a:t>
            </a:r>
            <a:r>
              <a:rPr b="0" lang="es-MX" sz="2000" spc="-1" strike="noStrike">
                <a:solidFill>
                  <a:srgbClr val="ffcc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Por depresión del Nodo AV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, se indican para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ontrolar la Frecuencia Ventricular de un Flutter  y          esporadicamente convertirlo a Ritmo 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Taquicardia supraVentricular  por reentrada o circuito AV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mo la Taq.Parox.Lactante y las de WPW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era* contraindicado en WPW asociado a Flutter o FA, ya que acorta PRE del haz de Kent y puede aumentar la frecuencia ventric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ontrolar la frecuencia ventricular de taq.supra V y FA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oco efectivos en arritmias ventricular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                </a:t>
            </a: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FIN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ffcc66"/>
                </a:solidFill>
                <a:latin typeface="Arial"/>
              </a:rPr>
              <a:t>Diuréticos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Diu 01"/>
          <p:cNvPicPr/>
          <p:nvPr/>
        </p:nvPicPr>
        <p:blipFill>
          <a:blip r:embed="rId1"/>
          <a:stretch/>
        </p:blipFill>
        <p:spPr>
          <a:xfrm>
            <a:off x="1428840" y="500040"/>
            <a:ext cx="6548400" cy="5881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90" name="6 Flecha izquierda"/>
          <p:cNvSpPr/>
          <p:nvPr/>
        </p:nvSpPr>
        <p:spPr>
          <a:xfrm>
            <a:off x="3786120" y="2143080"/>
            <a:ext cx="428760" cy="714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7 Flecha derecha"/>
          <p:cNvSpPr/>
          <p:nvPr/>
        </p:nvSpPr>
        <p:spPr>
          <a:xfrm>
            <a:off x="3000240" y="5000760"/>
            <a:ext cx="714600" cy="71424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9 Flecha arriba"/>
          <p:cNvSpPr/>
          <p:nvPr/>
        </p:nvSpPr>
        <p:spPr>
          <a:xfrm rot="18337800">
            <a:off x="5421600" y="5737680"/>
            <a:ext cx="667080" cy="500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10 Flecha izquierda"/>
          <p:cNvSpPr/>
          <p:nvPr/>
        </p:nvSpPr>
        <p:spPr>
          <a:xfrm>
            <a:off x="5500800" y="4071960"/>
            <a:ext cx="428400" cy="5713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11 Flecha derecha"/>
          <p:cNvSpPr/>
          <p:nvPr/>
        </p:nvSpPr>
        <p:spPr>
          <a:xfrm>
            <a:off x="4786200" y="1928880"/>
            <a:ext cx="42876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12 Flecha abajo"/>
          <p:cNvSpPr/>
          <p:nvPr/>
        </p:nvSpPr>
        <p:spPr>
          <a:xfrm>
            <a:off x="5286240" y="928800"/>
            <a:ext cx="57168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13 Flecha abajo"/>
          <p:cNvSpPr/>
          <p:nvPr/>
        </p:nvSpPr>
        <p:spPr>
          <a:xfrm>
            <a:off x="6072120" y="1357200"/>
            <a:ext cx="57168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14 Flecha izquierda"/>
          <p:cNvSpPr/>
          <p:nvPr/>
        </p:nvSpPr>
        <p:spPr>
          <a:xfrm>
            <a:off x="7143840" y="2928960"/>
            <a:ext cx="642960" cy="642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15 Flecha izquierda"/>
          <p:cNvSpPr/>
          <p:nvPr/>
        </p:nvSpPr>
        <p:spPr>
          <a:xfrm>
            <a:off x="7286760" y="4357800"/>
            <a:ext cx="571320" cy="642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16 Flecha izquierda"/>
          <p:cNvSpPr/>
          <p:nvPr/>
        </p:nvSpPr>
        <p:spPr>
          <a:xfrm>
            <a:off x="7358040" y="2357280"/>
            <a:ext cx="500040" cy="785880"/>
          </a:xfrm>
          <a:prstGeom prst="leftArrow">
            <a:avLst>
              <a:gd name="adj1" fmla="val 50000"/>
              <a:gd name="adj2" fmla="val 47426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17 Flecha izquierda"/>
          <p:cNvSpPr/>
          <p:nvPr/>
        </p:nvSpPr>
        <p:spPr>
          <a:xfrm>
            <a:off x="7429680" y="5000760"/>
            <a:ext cx="500040" cy="7142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19 Flecha abajo"/>
          <p:cNvSpPr/>
          <p:nvPr/>
        </p:nvSpPr>
        <p:spPr>
          <a:xfrm>
            <a:off x="2714760" y="142884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20 Flecha izquierda"/>
          <p:cNvSpPr/>
          <p:nvPr/>
        </p:nvSpPr>
        <p:spPr>
          <a:xfrm rot="2067600">
            <a:off x="1857240" y="2714760"/>
            <a:ext cx="452520" cy="64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15 Elipse"/>
          <p:cNvSpPr/>
          <p:nvPr/>
        </p:nvSpPr>
        <p:spPr>
          <a:xfrm>
            <a:off x="3714840" y="1000080"/>
            <a:ext cx="642960" cy="42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65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4214880" y="5929200"/>
            <a:ext cx="642960" cy="357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5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17 Elipse"/>
          <p:cNvSpPr/>
          <p:nvPr/>
        </p:nvSpPr>
        <p:spPr>
          <a:xfrm>
            <a:off x="6000840" y="714240"/>
            <a:ext cx="714240" cy="357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6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18 Elipse"/>
          <p:cNvSpPr/>
          <p:nvPr/>
        </p:nvSpPr>
        <p:spPr>
          <a:xfrm>
            <a:off x="7429680" y="5857920"/>
            <a:ext cx="571320" cy="357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4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24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.- Inhibidores Anhidrasa Carbónic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Inhibidores Anhidrasa Carbónic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cetazolamida , Benzolamida , Diclorfenamida , Metazolamida(oft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Baja Potencia  1-3 %  inhib.reabs. Na</a:t>
            </a:r>
            <a:r>
              <a:rPr b="1" lang="es-MX" sz="28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Nivel de Ac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12" name="Picture 2" descr="Diu 01"/>
          <p:cNvPicPr/>
          <p:nvPr/>
        </p:nvPicPr>
        <p:blipFill>
          <a:blip r:embed="rId1"/>
          <a:stretch/>
        </p:blipFill>
        <p:spPr>
          <a:xfrm>
            <a:off x="1643040" y="1214280"/>
            <a:ext cx="5786640" cy="548496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3"/>
          <p:cNvSpPr/>
          <p:nvPr/>
        </p:nvSpPr>
        <p:spPr>
          <a:xfrm flipH="1" rot="13397400">
            <a:off x="3312720" y="1595520"/>
            <a:ext cx="482760" cy="893520"/>
          </a:xfrm>
          <a:prstGeom prst="upArrow">
            <a:avLst>
              <a:gd name="adj1" fmla="val 50000"/>
              <a:gd name="adj2" fmla="val 50119"/>
            </a:avLst>
          </a:prstGeom>
          <a:solidFill>
            <a:srgbClr val="0000ff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4 Flecha abajo"/>
          <p:cNvSpPr/>
          <p:nvPr/>
        </p:nvSpPr>
        <p:spPr>
          <a:xfrm rot="3126600">
            <a:off x="3888000" y="2205720"/>
            <a:ext cx="370080" cy="803160"/>
          </a:xfrm>
          <a:prstGeom prst="downArrow">
            <a:avLst>
              <a:gd name="adj1" fmla="val 50000"/>
              <a:gd name="adj2" fmla="val 50116"/>
            </a:avLst>
          </a:prstGeom>
          <a:solidFill>
            <a:srgbClr val="0000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fig"/>
          <p:cNvPicPr/>
          <p:nvPr/>
        </p:nvPicPr>
        <p:blipFill>
          <a:blip r:embed="rId1"/>
          <a:stretch/>
        </p:blipFill>
        <p:spPr>
          <a:xfrm>
            <a:off x="762120" y="328680"/>
            <a:ext cx="7543800" cy="61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66"/>
                </a:solidFill>
                <a:latin typeface="Arial"/>
              </a:rPr>
              <a:t>Mecanismo de Inhibidores de  </a:t>
            </a:r>
            <a:br>
              <a:rPr sz="3200"/>
            </a:br>
            <a:r>
              <a:rPr b="0" lang="es-MX" sz="3200" spc="-1" strike="noStrike">
                <a:solidFill>
                  <a:srgbClr val="ffcc66"/>
                </a:solidFill>
                <a:latin typeface="Arial"/>
              </a:rPr>
              <a:t>Anhidrasa Carbónic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1:   Anhidrasa Carbónica (Zn-metaloenzima) 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ivel apical  o  lumin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ivel epitelial  o  citoplasmátic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2 : Indirectamente inhibe reabs  Cl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exc. 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8, 9 y 10 : reabs. distal 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secr.distal K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/ 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AutoShape 5"/>
          <p:cNvSpPr/>
          <p:nvPr/>
        </p:nvSpPr>
        <p:spPr>
          <a:xfrm>
            <a:off x="5148360" y="5445000"/>
            <a:ext cx="647640" cy="289080"/>
          </a:xfrm>
          <a:custGeom>
            <a:avLst/>
            <a:gdLst>
              <a:gd name="textAreaLeft" fmla="*/ 119160 w 647640"/>
              <a:gd name="textAreaRight" fmla="*/ 440280 w 64764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49" hR="21600" stAng="10800000" swAng="5400000"/>
                <a:lnTo>
                  <a:pt x="10713" y="0"/>
                </a:lnTo>
                <a:arcTo wR="7949" hR="21600" stAng="-5400000" swAng="2768863"/>
                <a:lnTo>
                  <a:pt x="21145" y="14400"/>
                </a:lnTo>
                <a:lnTo>
                  <a:pt x="17280" y="21600"/>
                </a:lnTo>
                <a:lnTo>
                  <a:pt x="12505" y="14400"/>
                </a:lnTo>
                <a:lnTo>
                  <a:pt x="15443" y="14400"/>
                </a:lnTo>
                <a:arcTo wR="7949" hR="21600" stAng="-2631137" swAng="-2545823"/>
                <a:lnTo>
                  <a:pt x="9331" y="329"/>
                </a:lnTo>
                <a:arcTo wR="7949" hR="21600" stAng="-5623040" swAng="-5176960"/>
                <a:close/>
              </a:path>
              <a:path fill="darkenLess" w="21600" h="21600">
                <a:moveTo>
                  <a:pt x="0" y="21600"/>
                </a:moveTo>
                <a:arcTo wR="7949" hR="21600" stAng="10800000" swAng="5400000"/>
                <a:lnTo>
                  <a:pt x="7949" y="0"/>
                </a:lnTo>
                <a:arcTo wR="7949" hR="21600" stAng="-5400000" swAng="223040"/>
                <a:lnTo>
                  <a:pt x="9331" y="329"/>
                </a:lnTo>
                <a:arcTo wR="7949" hR="21600" stAng="-5623040" swAng="-5176960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AutoShape 6"/>
          <p:cNvSpPr/>
          <p:nvPr/>
        </p:nvSpPr>
        <p:spPr>
          <a:xfrm>
            <a:off x="3780000" y="3284640"/>
            <a:ext cx="72720" cy="431640"/>
          </a:xfrm>
          <a:custGeom>
            <a:avLst/>
            <a:gdLst>
              <a:gd name="textAreaLeft" fmla="*/ 21240 w 72720"/>
              <a:gd name="textAreaRight" fmla="*/ 73080 w 727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         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Mecanismo de I.Anhidrasa Carbónic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20" name="Picture 3" descr="File0001"/>
          <p:cNvPicPr/>
          <p:nvPr/>
        </p:nvPicPr>
        <p:blipFill>
          <a:blip r:embed="rId1"/>
          <a:stretch/>
        </p:blipFill>
        <p:spPr>
          <a:xfrm>
            <a:off x="2071800" y="1857240"/>
            <a:ext cx="5468760" cy="4857840"/>
          </a:xfrm>
          <a:prstGeom prst="rect">
            <a:avLst/>
          </a:prstGeom>
          <a:ln w="0">
            <a:noFill/>
          </a:ln>
        </p:spPr>
      </p:pic>
      <p:sp>
        <p:nvSpPr>
          <p:cNvPr id="321" name="5 Elipse"/>
          <p:cNvSpPr/>
          <p:nvPr/>
        </p:nvSpPr>
        <p:spPr>
          <a:xfrm>
            <a:off x="2571840" y="2500200"/>
            <a:ext cx="642960" cy="500040"/>
          </a:xfrm>
          <a:prstGeom prst="ellipse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4 Rayo"/>
          <p:cNvSpPr/>
          <p:nvPr/>
        </p:nvSpPr>
        <p:spPr>
          <a:xfrm rot="456000">
            <a:off x="3040200" y="3978360"/>
            <a:ext cx="785520" cy="642960"/>
          </a:xfrm>
          <a:prstGeom prst="lightningBolt">
            <a:avLst/>
          </a:prstGeom>
          <a:solidFill>
            <a:srgbClr val="0000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5 Rayo"/>
          <p:cNvSpPr/>
          <p:nvPr/>
        </p:nvSpPr>
        <p:spPr>
          <a:xfrm rot="6552000">
            <a:off x="5429880" y="4177080"/>
            <a:ext cx="762120" cy="544320"/>
          </a:xfrm>
          <a:prstGeom prst="lightningBolt">
            <a:avLst/>
          </a:prstGeom>
          <a:solidFill>
            <a:srgbClr val="0000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6 Flecha abajo"/>
          <p:cNvSpPr/>
          <p:nvPr/>
        </p:nvSpPr>
        <p:spPr>
          <a:xfrm>
            <a:off x="4429080" y="3071880"/>
            <a:ext cx="285840" cy="50004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7 Flecha abajo"/>
          <p:cNvSpPr/>
          <p:nvPr/>
        </p:nvSpPr>
        <p:spPr>
          <a:xfrm>
            <a:off x="5000760" y="3071880"/>
            <a:ext cx="285480" cy="500040"/>
          </a:xfrm>
          <a:prstGeom prst="downArrow">
            <a:avLst>
              <a:gd name="adj1" fmla="val 50000"/>
              <a:gd name="adj2" fmla="val 50041"/>
            </a:avLst>
          </a:pr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8 Flecha arriba"/>
          <p:cNvSpPr/>
          <p:nvPr/>
        </p:nvSpPr>
        <p:spPr>
          <a:xfrm rot="891600">
            <a:off x="2863800" y="5452920"/>
            <a:ext cx="271440" cy="638280"/>
          </a:xfrm>
          <a:prstGeom prst="upArrow">
            <a:avLst>
              <a:gd name="adj1" fmla="val 50000"/>
              <a:gd name="adj2" fmla="val 50164"/>
            </a:avLst>
          </a:pr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9 Flecha abajo"/>
          <p:cNvSpPr/>
          <p:nvPr/>
        </p:nvSpPr>
        <p:spPr>
          <a:xfrm rot="20583000">
            <a:off x="2127240" y="2820600"/>
            <a:ext cx="347760" cy="75420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10 Flecha abajo"/>
          <p:cNvSpPr/>
          <p:nvPr/>
        </p:nvSpPr>
        <p:spPr>
          <a:xfrm rot="1437600">
            <a:off x="3347640" y="2463480"/>
            <a:ext cx="376200" cy="738000"/>
          </a:xfrm>
          <a:prstGeom prst="downArrow">
            <a:avLst>
              <a:gd name="adj1" fmla="val 50000"/>
              <a:gd name="adj2" fmla="val 49869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Uso de Inhibidores de la</a:t>
            </a:r>
            <a:br>
              <a:rPr sz="4000"/>
            </a:b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Anhidrasa Carbónic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o son de primera ele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Glaucoma y cirugía de cataratas(local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mo diurético en bloqueo secuenc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pacientes con alcalosis metabólica (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n especial a diurétic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lcalinización urina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obredosis e intoxicaciones con ácidos débi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      </a:t>
            </a: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Inhibidores de la Anhidrasa </a:t>
            </a:r>
            <a:br>
              <a:rPr sz="4000"/>
            </a:b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            Carbónica / E.Advers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Hipokalem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cidosis metabólic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La acetazolamida ha sido reportada como teratogénica y embriotóxica en animales, a dosis elevadas; en mujeres embarazadas no hay estudios bien controlados, por lo que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o debe administrarse durante el embaraz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pecialmente durante el primer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rimestre.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Se han detectado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iveles bajos del fármaco en la leche de mujer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lactantes a las que se les ha administrado acetazolamida, por lo que se debe tener precaución cuando se administre en estas condiciones.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Inhibidores del Simportador de  Na-Cl </a:t>
            </a:r>
            <a:br>
              <a:rPr sz="3200"/>
            </a:b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del  </a:t>
            </a:r>
            <a:br>
              <a:rPr sz="3200"/>
            </a:b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Asa Cortical  y  del TC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16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Tiazidas  y  Análogos Bioisostér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Tiazidas y Análog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iazídicos:  cloro, hidrocloro, flume  y  bendroflumetiaz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nálogos bioisostéricos:   clortalidona,  metolazon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quinetazona y torasem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Inhibidores Moderados  reabs. de sodio 5%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Nivel de Ac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38" name="Picture 2" descr="Diu 01"/>
          <p:cNvPicPr/>
          <p:nvPr/>
        </p:nvPicPr>
        <p:blipFill>
          <a:blip r:embed="rId1"/>
          <a:stretch/>
        </p:blipFill>
        <p:spPr>
          <a:xfrm>
            <a:off x="1714680" y="1214280"/>
            <a:ext cx="6400800" cy="5477040"/>
          </a:xfrm>
          <a:prstGeom prst="rect">
            <a:avLst/>
          </a:prstGeom>
          <a:ln w="0">
            <a:noFill/>
          </a:ln>
        </p:spPr>
      </p:pic>
      <p:sp>
        <p:nvSpPr>
          <p:cNvPr id="339" name="AutoShape 3"/>
          <p:cNvSpPr/>
          <p:nvPr/>
        </p:nvSpPr>
        <p:spPr>
          <a:xfrm rot="1990800">
            <a:off x="4611240" y="1738080"/>
            <a:ext cx="1001880" cy="444240"/>
          </a:xfrm>
          <a:prstGeom prst="rightArrow">
            <a:avLst>
              <a:gd name="adj1" fmla="val 50000"/>
              <a:gd name="adj2" fmla="val 34967"/>
            </a:avLst>
          </a:prstGeom>
          <a:solidFill>
            <a:srgbClr val="0000ff"/>
          </a:solidFill>
          <a:ln cap="sq"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AutoShape 7"/>
          <p:cNvSpPr/>
          <p:nvPr/>
        </p:nvSpPr>
        <p:spPr>
          <a:xfrm rot="1962000">
            <a:off x="4571640" y="2852640"/>
            <a:ext cx="863640" cy="358920"/>
          </a:xfrm>
          <a:prstGeom prst="rightArrow">
            <a:avLst>
              <a:gd name="adj1" fmla="val 50000"/>
              <a:gd name="adj2" fmla="val 60155"/>
            </a:avLst>
          </a:prstGeom>
          <a:solidFill>
            <a:srgbClr val="0000ff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Mecanismo de Tiazid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s 6,7 : Inhibe reabs.  Na Cl  en asa ascendente gru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rtical  y  en la fracción inicial TC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6,7.1. Inhibe cotransportador  luminal /apic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ectroneutral  de  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y  Cl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6,7.2.   Secundariamente  el 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&lt; N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ctiv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l Intercambiador 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/C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2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asolat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  aumento de la reabsorción global de C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s  8, 9 y 10 : Secreción distal  K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/ 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Mecanismo de Tiazida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44" name="Picture 3" descr="File0013"/>
          <p:cNvPicPr/>
          <p:nvPr/>
        </p:nvPicPr>
        <p:blipFill>
          <a:blip r:embed="rId1"/>
          <a:stretch/>
        </p:blipFill>
        <p:spPr>
          <a:xfrm>
            <a:off x="1428840" y="2000160"/>
            <a:ext cx="6448320" cy="4575240"/>
          </a:xfrm>
          <a:prstGeom prst="rect">
            <a:avLst/>
          </a:prstGeom>
          <a:ln w="0">
            <a:noFill/>
          </a:ln>
        </p:spPr>
      </p:pic>
      <p:sp>
        <p:nvSpPr>
          <p:cNvPr id="345" name="5 Elipse"/>
          <p:cNvSpPr/>
          <p:nvPr/>
        </p:nvSpPr>
        <p:spPr>
          <a:xfrm>
            <a:off x="1500120" y="2500200"/>
            <a:ext cx="642960" cy="5716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4 Rayo"/>
          <p:cNvSpPr/>
          <p:nvPr/>
        </p:nvSpPr>
        <p:spPr>
          <a:xfrm rot="680400">
            <a:off x="2368440" y="2599920"/>
            <a:ext cx="1116000" cy="954000"/>
          </a:xfrm>
          <a:prstGeom prst="lightningBolt">
            <a:avLst/>
          </a:prstGeom>
          <a:solidFill>
            <a:srgbClr val="0000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7 Flecha a la derecha con bandas"/>
          <p:cNvSpPr/>
          <p:nvPr/>
        </p:nvSpPr>
        <p:spPr>
          <a:xfrm>
            <a:off x="2857680" y="5357880"/>
            <a:ext cx="714240" cy="285840"/>
          </a:xfrm>
          <a:custGeom>
            <a:avLst/>
            <a:gdLst>
              <a:gd name="textAreaLeft" fmla="*/ 44640 w 714240"/>
              <a:gd name="textAreaRight" fmla="*/ 642960 w 714240"/>
              <a:gd name="textAreaTop" fmla="*/ 71280 h 285840"/>
              <a:gd name="textAreaBottom" fmla="*/ 214560 h 285840"/>
            </a:gdLst>
            <a:ahLst/>
            <a:rect l="textAreaLeft" t="textAreaTop" r="textAreaRight" b="textAreaBottom"/>
            <a:pathLst>
              <a:path w="714375" h="285750">
                <a:moveTo>
                  <a:pt x="0" y="71438"/>
                </a:moveTo>
                <a:lnTo>
                  <a:pt x="8930" y="71438"/>
                </a:lnTo>
                <a:lnTo>
                  <a:pt x="8930" y="214313"/>
                </a:lnTo>
                <a:lnTo>
                  <a:pt x="0" y="214313"/>
                </a:lnTo>
                <a:close/>
                <a:moveTo>
                  <a:pt x="17859" y="71438"/>
                </a:moveTo>
                <a:lnTo>
                  <a:pt x="35719" y="71438"/>
                </a:lnTo>
                <a:lnTo>
                  <a:pt x="35719" y="214313"/>
                </a:lnTo>
                <a:lnTo>
                  <a:pt x="17859" y="214313"/>
                </a:lnTo>
                <a:close/>
                <a:moveTo>
                  <a:pt x="44648" y="71438"/>
                </a:moveTo>
                <a:lnTo>
                  <a:pt x="571500" y="71438"/>
                </a:lnTo>
                <a:lnTo>
                  <a:pt x="571500" y="0"/>
                </a:lnTo>
                <a:lnTo>
                  <a:pt x="714375" y="142875"/>
                </a:lnTo>
                <a:lnTo>
                  <a:pt x="571500" y="285750"/>
                </a:lnTo>
                <a:lnTo>
                  <a:pt x="571500" y="214313"/>
                </a:lnTo>
                <a:lnTo>
                  <a:pt x="44648" y="214313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8 Flecha a la derecha con bandas"/>
          <p:cNvSpPr/>
          <p:nvPr/>
        </p:nvSpPr>
        <p:spPr>
          <a:xfrm>
            <a:off x="5286240" y="5572080"/>
            <a:ext cx="714600" cy="214200"/>
          </a:xfrm>
          <a:custGeom>
            <a:avLst/>
            <a:gdLst>
              <a:gd name="textAreaLeft" fmla="*/ 33480 w 714600"/>
              <a:gd name="textAreaRight" fmla="*/ 661320 w 714600"/>
              <a:gd name="textAreaTop" fmla="*/ 53280 h 214200"/>
              <a:gd name="textAreaBottom" fmla="*/ 160920 h 214200"/>
            </a:gdLst>
            <a:ahLst/>
            <a:rect l="textAreaLeft" t="textAreaTop" r="textAreaRight" b="textAreaBottom"/>
            <a:pathLst>
              <a:path w="714375" h="214313">
                <a:moveTo>
                  <a:pt x="0" y="53578"/>
                </a:moveTo>
                <a:lnTo>
                  <a:pt x="6697" y="53578"/>
                </a:lnTo>
                <a:lnTo>
                  <a:pt x="6697" y="160735"/>
                </a:lnTo>
                <a:lnTo>
                  <a:pt x="0" y="160735"/>
                </a:lnTo>
                <a:close/>
                <a:moveTo>
                  <a:pt x="13395" y="53578"/>
                </a:moveTo>
                <a:lnTo>
                  <a:pt x="26789" y="53578"/>
                </a:lnTo>
                <a:lnTo>
                  <a:pt x="26789" y="160735"/>
                </a:lnTo>
                <a:lnTo>
                  <a:pt x="13395" y="160735"/>
                </a:lnTo>
                <a:close/>
                <a:moveTo>
                  <a:pt x="33486" y="53578"/>
                </a:moveTo>
                <a:lnTo>
                  <a:pt x="607219" y="53578"/>
                </a:lnTo>
                <a:lnTo>
                  <a:pt x="607219" y="0"/>
                </a:lnTo>
                <a:lnTo>
                  <a:pt x="714375" y="107157"/>
                </a:lnTo>
                <a:lnTo>
                  <a:pt x="607219" y="214313"/>
                </a:lnTo>
                <a:lnTo>
                  <a:pt x="607219" y="160735"/>
                </a:lnTo>
                <a:lnTo>
                  <a:pt x="33486" y="160735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Uso de Diuréticos Tiazídic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ICC leve  o  moderada  y en el edema asoci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dema hepático o renal crónico y el de 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ensión premenstru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Hipertensión inicial y junto con reducción de so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trolan la HTA leve a moder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tratamiento de la hipercalciure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fig"/>
          <p:cNvPicPr/>
          <p:nvPr/>
        </p:nvPicPr>
        <p:blipFill>
          <a:blip r:embed="rId1"/>
          <a:stretch/>
        </p:blipFill>
        <p:spPr>
          <a:xfrm>
            <a:off x="762120" y="353880"/>
            <a:ext cx="7619760" cy="615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Diuréticos Tiazídicos / E.Advers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Hipokalem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lcalosis metaból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Hipercalcemia a largo plaz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3.- Inhibidores del Simportador 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    Na-K-2Cl  del  Asa Medular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Diuréticos  del  As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Diuréticos del As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urosemida,  Bumetanida,  Ácido Etacrín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Potentes   20-25 %  inhib. de la reabsorción de sod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(Or/Pa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Diu 01"/>
          <p:cNvPicPr/>
          <p:nvPr/>
        </p:nvPicPr>
        <p:blipFill>
          <a:blip r:embed="rId1"/>
          <a:stretch/>
        </p:blipFill>
        <p:spPr>
          <a:xfrm>
            <a:off x="1785960" y="1714680"/>
            <a:ext cx="5429160" cy="4876560"/>
          </a:xfrm>
          <a:prstGeom prst="rect">
            <a:avLst/>
          </a:prstGeom>
          <a:ln w="0">
            <a:noFill/>
          </a:ln>
        </p:spPr>
      </p:pic>
      <p:sp>
        <p:nvSpPr>
          <p:cNvPr id="358" name="AutoShape 3"/>
          <p:cNvSpPr/>
          <p:nvPr/>
        </p:nvSpPr>
        <p:spPr>
          <a:xfrm>
            <a:off x="4429080" y="45007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0000ff"/>
          </a:solidFill>
          <a:ln cap="sq"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Nivel de ac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canismo de D. del As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5 : - Inhib. Simportador luminal  d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, K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, 2 Cl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l Asa ascendente gruesa medular o zona dilutori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↑ Excreción de Ca , al reducir   grad.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otencial (+) , que promueve su reabsorció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aracel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3,4 :  Repercute con menor aporte de  Na  a la z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 contra corriente, leve reducción de hipertoní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s 8, 9 y 10 :  Secreción  distal  K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/ 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canismo de D. del Asa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63" name="Picture 3" descr="File0012"/>
          <p:cNvPicPr/>
          <p:nvPr/>
        </p:nvPicPr>
        <p:blipFill>
          <a:blip r:embed="rId1"/>
          <a:stretch/>
        </p:blipFill>
        <p:spPr>
          <a:xfrm>
            <a:off x="1428840" y="1928880"/>
            <a:ext cx="6546600" cy="4709880"/>
          </a:xfrm>
          <a:prstGeom prst="rect">
            <a:avLst/>
          </a:prstGeom>
          <a:ln w="0">
            <a:noFill/>
          </a:ln>
        </p:spPr>
      </p:pic>
      <p:sp>
        <p:nvSpPr>
          <p:cNvPr id="364" name="5 Elipse"/>
          <p:cNvSpPr/>
          <p:nvPr/>
        </p:nvSpPr>
        <p:spPr>
          <a:xfrm>
            <a:off x="1500120" y="2571840"/>
            <a:ext cx="714600" cy="571320"/>
          </a:xfrm>
          <a:prstGeom prst="ellipse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4 Rayo"/>
          <p:cNvSpPr/>
          <p:nvPr/>
        </p:nvSpPr>
        <p:spPr>
          <a:xfrm rot="967200">
            <a:off x="2590920" y="2308320"/>
            <a:ext cx="857160" cy="1285920"/>
          </a:xfrm>
          <a:prstGeom prst="lightningBolt">
            <a:avLst/>
          </a:prstGeom>
          <a:solidFill>
            <a:srgbClr val="0000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5 Flecha curvada hacia la izquierda"/>
          <p:cNvSpPr/>
          <p:nvPr/>
        </p:nvSpPr>
        <p:spPr>
          <a:xfrm>
            <a:off x="4143240" y="4286160"/>
            <a:ext cx="571680" cy="714600"/>
          </a:xfrm>
          <a:custGeom>
            <a:avLst/>
            <a:gdLst>
              <a:gd name="textAreaLeft" fmla="*/ 76320 w 571680"/>
              <a:gd name="textAreaRight" fmla="*/ 495360 w 571680"/>
              <a:gd name="textAreaTop" fmla="*/ 124920 h 714600"/>
              <a:gd name="textAreaBottom" fmla="*/ 51804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3215003"/>
                <a:lnTo>
                  <a:pt x="5400" y="21360"/>
                </a:lnTo>
                <a:lnTo>
                  <a:pt x="0" y="17280"/>
                </a:lnTo>
                <a:lnTo>
                  <a:pt x="5400" y="12720"/>
                </a:lnTo>
                <a:lnTo>
                  <a:pt x="5400" y="14880"/>
                </a:lnTo>
                <a:arcTo wR="21600" hR="7560" stAng="3215003" swAng="-2857569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7 Flecha curvada hacia la izquierda"/>
          <p:cNvSpPr/>
          <p:nvPr/>
        </p:nvSpPr>
        <p:spPr>
          <a:xfrm>
            <a:off x="2928960" y="5500800"/>
            <a:ext cx="357120" cy="357120"/>
          </a:xfrm>
          <a:custGeom>
            <a:avLst/>
            <a:gdLst>
              <a:gd name="textAreaLeft" fmla="*/ 47880 w 357120"/>
              <a:gd name="textAreaRight" fmla="*/ 309240 w 357120"/>
              <a:gd name="textAreaTop" fmla="*/ 55800 h 357120"/>
              <a:gd name="textAreaBottom" fmla="*/ 2566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026114"/>
                <a:lnTo>
                  <a:pt x="5400" y="21386"/>
                </a:lnTo>
                <a:lnTo>
                  <a:pt x="0" y="16200"/>
                </a:lnTo>
                <a:lnTo>
                  <a:pt x="5400" y="10586"/>
                </a:lnTo>
                <a:lnTo>
                  <a:pt x="5400" y="13286"/>
                </a:lnTo>
                <a:arcTo wR="21600" hR="6750" stAng="3026114" swAng="-2560128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0000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7 Triángulo isósceles"/>
          <p:cNvSpPr/>
          <p:nvPr/>
        </p:nvSpPr>
        <p:spPr>
          <a:xfrm>
            <a:off x="2571840" y="5429160"/>
            <a:ext cx="285840" cy="21456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8 Llamada de flecha hacia arriba"/>
          <p:cNvSpPr/>
          <p:nvPr/>
        </p:nvSpPr>
        <p:spPr>
          <a:xfrm>
            <a:off x="3714840" y="6021360"/>
            <a:ext cx="1000080" cy="550800"/>
          </a:xfrm>
          <a:prstGeom prst="upArrowCallout">
            <a:avLst>
              <a:gd name="adj1" fmla="val 22698"/>
              <a:gd name="adj2" fmla="val 19972"/>
              <a:gd name="adj3" fmla="val 25000"/>
              <a:gd name="adj4" fmla="val 113317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Paracelul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Uso de Diuréticos del As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dema cardíaco, hepático  o  re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CC Izquierda con edema pulmon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crisis hipercalcémic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o son de primera elección en  H.T. esen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Diuréticos del Asa / E. Adv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sequilibrio hidro-electrolític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Hiponatrem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Hipokalem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lcalosis metabóli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Hipocalcem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Ototoxic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4.- Economizadores de K</a:t>
            </a:r>
            <a:r>
              <a:rPr b="0" lang="es-ES" sz="4400" spc="-1" strike="noStrike" baseline="30000">
                <a:solidFill>
                  <a:srgbClr val="ffcc66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Economizadores de K</a:t>
            </a:r>
            <a:r>
              <a:rPr b="0" lang="es-MX" sz="4400" spc="-1" strike="noStrike" baseline="30000">
                <a:solidFill>
                  <a:srgbClr val="ffcc66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1° tipo :    Spironolact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2° tipo :   Amilorida y  Triamter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Baja potencia :  1-3 %  inhib.  reabsorción  de sod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01:25:33Z</dcterms:created>
  <dc:creator>Gonzalez</dc:creator>
  <dc:description/>
  <dc:language>en-US</dc:language>
  <cp:lastModifiedBy>Universidad de Chile</cp:lastModifiedBy>
  <dcterms:modified xsi:type="dcterms:W3CDTF">2011-11-18T15:32:39Z</dcterms:modified>
  <cp:revision>279</cp:revision>
  <dc:subject/>
  <dc:title>Indicaciones G.C.</dc:title>
</cp:coreProperties>
</file>