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CDE-6CA7-45BA-8938-8961ACE4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8AF-CB53-4CC5-AA23-E32F4AF7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364-B825-43B1-AEE1-2A13DAFF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318-E35D-4167-A80A-37862D92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3232-BF23-4715-8DEF-7E054774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1F5-E654-4856-81F3-1C6AE67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BEE2-4235-4041-B150-E4B2813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50E2-54D1-4900-BBF9-0114633D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BDDB-6604-4B82-A601-C6C2C8B8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DC4C-EE42-4E5D-955F-AF5A6D1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E478-CCE2-43B1-9C0C-078946A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813-331F-45F3-BAE3-BD19E566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2E85-5B9C-4CC7-9721-D916CEB5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550C-3950-49FB-B6CC-11F153E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FFF-25AA-4617-A1F2-FF0A76E7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43FD-5E9E-4658-800E-5ED9C8BA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9277-6467-4821-A85C-8E565E25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86B-FA58-4480-9806-C20386DC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AA5-166F-4A9A-8566-3EE2351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B44-C6AE-41C8-B147-83321C9E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5C8-01A2-46BD-9585-6949219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CBD-6A15-48D2-B13A-A3B6976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830-C42D-435D-95F9-8F4D5B2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CF0-0B9F-46F5-8881-4D099D6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765-7B72-4778-B4C0-4F44E125FA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" name="Freeform 1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2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" name="Freeform 2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" name="Freeform 2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" name="Group 2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" name="Freeform 3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" name="Group 38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7" name="Group 39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38" name="Freeform 4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" name="Group 41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0" name="Freeform 42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" name="Line 5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9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Freeform 1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Group 2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Freeform 2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2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2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Freeform 3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8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7" name="Group 39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8" name="Freeform 4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4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0" name="Freeform 42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3"/>
                <p:cNvSpPr/>
                <p:nvPr/>
              </p:nvSpPr>
              <p:spPr>
                <a:xfrm rot="18427200">
                  <a:off x="8025480" y="51516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44"/>
                <p:cNvSpPr/>
                <p:nvPr/>
              </p:nvSpPr>
              <p:spPr>
                <a:xfrm rot="18427200">
                  <a:off x="7723440" y="27720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45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46"/>
                <p:cNvSpPr/>
                <p:nvPr/>
              </p:nvSpPr>
              <p:spPr>
                <a:xfrm rot="18427200">
                  <a:off x="8420760" y="141264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7"/>
                <p:cNvSpPr/>
                <p:nvPr/>
              </p:nvSpPr>
              <p:spPr>
                <a:xfrm rot="18427200">
                  <a:off x="8339400" y="126828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8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9"/>
                <p:cNvSpPr/>
                <p:nvPr/>
              </p:nvSpPr>
              <p:spPr>
                <a:xfrm rot="18427200">
                  <a:off x="7865280" y="2131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Line 5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D6E-73E0-499B-915F-50D4094943B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000" spc="-1" strike="noStrike">
                <a:solidFill>
                  <a:srgbClr val="006633"/>
                </a:solidFill>
                <a:latin typeface="Garamond"/>
              </a:rPr>
              <a:t>FARMACOLOGIA I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71440" y="3142800"/>
            <a:ext cx="6553080" cy="23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rdinadora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edad B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 5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5640" y="1052280"/>
            <a:ext cx="707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 cada capítulo se tomará un control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1 o 2 pregunta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alizará al inicio de la clase sigui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eba A1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eba A2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CuadroTexto"/>
          <p:cNvSpPr/>
          <p:nvPr/>
        </p:nvSpPr>
        <p:spPr>
          <a:xfrm>
            <a:off x="1851120" y="6273720"/>
            <a:ext cx="561636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ueden faltar a 1 control sin justificación  ó si los dan todos eliminar la peor 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244520" y="528480"/>
            <a:ext cx="66549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4:29:02Z</dcterms:created>
  <dc:creator>SOLEDAD BOLLO</dc:creator>
  <dc:description/>
  <dc:language>en-US</dc:language>
  <cp:lastModifiedBy>Universidad de Chile</cp:lastModifiedBy>
  <dcterms:modified xsi:type="dcterms:W3CDTF">2011-11-18T22:25:31Z</dcterms:modified>
  <cp:revision>91</cp:revision>
  <dc:subject/>
  <dc:title>Sistema Endocrino</dc:title>
</cp:coreProperties>
</file>