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8AAA-31F6-4672-ACCD-F0F5A191D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D13F-E6C1-4817-BB7C-3D8C143D8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8671-56C0-4126-B9E0-744C08FA1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2C55-77E3-4587-A160-5860235DB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F6204-C4F0-4924-8E5E-934F68477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0E5C8-B014-44C1-815D-352617925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1AE0B-668A-4EAD-96D7-22D8B7846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EDF65-9B5E-4938-9EA5-64C50A9B5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22DAF-E940-46DF-B4C3-E6344802E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4CC71-EC11-4BA2-B246-F24C81019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3E582-E9EF-4D21-9D04-AD03EAF50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084C-4186-4716-B3C1-F2D645B10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C41EE-BF0B-4C9E-B2DF-D28D48D6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8F6D9-C16E-4E4A-9B62-0D7CD08FC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CB088-9E27-49E5-B972-F7C553B94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41840-71AF-43F5-9D21-B0655B251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14349-3A1C-4EB3-BA9D-6834E0646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8434-9DAE-482F-9989-B3B1E400C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15A9-A491-4C82-91BB-CC0DFEB9A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3A97-D18B-495E-B055-EDD939516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6F77-C3D9-49BC-B1E4-E5E8D822B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CAFB-A975-41BE-BAD5-E2CFA9C06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F3EA-5C65-4A2C-BB4E-CA3641751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F9C4-A6C0-420E-8198-ECFB22051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A2B72-E77E-48D3-BD8D-66BB99B17FE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" name="Group 11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0" name="Freeform 12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" name="Group 21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0" name="Group 22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1" name="Freeform 23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3b81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3b81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" name="Freeform 25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3b81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" name="Freeform 26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3b8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3b8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3b8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" name="Group 29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8" name="Freeform 30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3b81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3b81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3b81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3b81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3b81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3b81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3b81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3b81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6" name="Group 38"/>
          <p:cNvGrpSpPr/>
          <p:nvPr/>
        </p:nvGrpSpPr>
        <p:grpSpPr>
          <a:xfrm>
            <a:off x="7169040" y="-84240"/>
            <a:ext cx="2432520" cy="2253960"/>
            <a:chOff x="7169040" y="-84240"/>
            <a:chExt cx="2432520" cy="2253960"/>
          </a:xfrm>
        </p:grpSpPr>
        <p:grpSp>
          <p:nvGrpSpPr>
            <p:cNvPr id="37" name="Group 39"/>
            <p:cNvGrpSpPr/>
            <p:nvPr/>
          </p:nvGrpSpPr>
          <p:grpSpPr>
            <a:xfrm>
              <a:off x="7169040" y="-84240"/>
              <a:ext cx="2432520" cy="2253960"/>
              <a:chOff x="7169040" y="-84240"/>
              <a:chExt cx="2432520" cy="2253960"/>
            </a:xfrm>
          </p:grpSpPr>
          <p:sp>
            <p:nvSpPr>
              <p:cNvPr id="38" name="Freeform 40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3b8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" name="Group 41"/>
              <p:cNvGrpSpPr/>
              <p:nvPr/>
            </p:nvGrpSpPr>
            <p:grpSpPr>
              <a:xfrm>
                <a:off x="7169040" y="-84240"/>
                <a:ext cx="2432520" cy="2253960"/>
                <a:chOff x="7169040" y="-84240"/>
                <a:chExt cx="2432520" cy="2253960"/>
              </a:xfrm>
            </p:grpSpPr>
            <p:sp>
              <p:nvSpPr>
                <p:cNvPr id="40" name="Freeform 42"/>
                <p:cNvSpPr/>
                <p:nvPr/>
              </p:nvSpPr>
              <p:spPr>
                <a:xfrm rot="18427200">
                  <a:off x="7882560" y="112680"/>
                  <a:ext cx="24444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b81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 rot="18427200">
                  <a:off x="8024040" y="520920"/>
                  <a:ext cx="42984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3b81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 rot="18427200">
                  <a:off x="7721280" y="282600"/>
                  <a:ext cx="80748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3b81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7779240" y="-23760"/>
                  <a:ext cx="12121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3b81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8419680" y="1422000"/>
                  <a:ext cx="2700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3b81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8338680" y="1275840"/>
                  <a:ext cx="2890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3b81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7912800" y="335160"/>
                  <a:ext cx="2890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3b81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7864200" y="214560"/>
                  <a:ext cx="28584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3b81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8" name="Line 50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3b8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9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10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11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0" name="Freeform 12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3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4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15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6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7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8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9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20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Group 21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0" name="Group 22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1" name="Freeform 23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3b81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Freeform 24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3b81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Freeform 25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3b81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" name="Freeform 26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3b8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3b8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3b8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7" name="Group 29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8" name="Freeform 30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3b81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Freeform 31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3b81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Freeform 32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3b81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Freeform 33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3b81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Freeform 34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3b81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Freeform 35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3b81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36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3b81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Freeform 37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3b81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6" name="Group 38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117" name="Group 39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118" name="Freeform 40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3b8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" name="Group 41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120" name="Freeform 42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b81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3"/>
                <p:cNvSpPr/>
                <p:nvPr/>
              </p:nvSpPr>
              <p:spPr>
                <a:xfrm rot="18427200">
                  <a:off x="8025480" y="51516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3b81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Freeform 44"/>
                <p:cNvSpPr/>
                <p:nvPr/>
              </p:nvSpPr>
              <p:spPr>
                <a:xfrm rot="18427200">
                  <a:off x="7723440" y="277200"/>
                  <a:ext cx="8024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3b81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Freeform 45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3b81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Freeform 46"/>
                <p:cNvSpPr/>
                <p:nvPr/>
              </p:nvSpPr>
              <p:spPr>
                <a:xfrm rot="18427200">
                  <a:off x="8420760" y="141264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3b81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Freeform 47"/>
                <p:cNvSpPr/>
                <p:nvPr/>
              </p:nvSpPr>
              <p:spPr>
                <a:xfrm rot="18427200">
                  <a:off x="8339400" y="126828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3b81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Freeform 48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3b81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Freeform 49"/>
                <p:cNvSpPr/>
                <p:nvPr/>
              </p:nvSpPr>
              <p:spPr>
                <a:xfrm rot="18427200">
                  <a:off x="7865280" y="213120"/>
                  <a:ext cx="28404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3b81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" name="Line 50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3b8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81F85-7A6C-40DD-8223-58746FC3CDB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000" spc="-1" strike="noStrike">
                <a:solidFill>
                  <a:srgbClr val="006633"/>
                </a:solidFill>
                <a:latin typeface="Garamond"/>
              </a:rPr>
              <a:t>FARMACOLOGIA II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2071440" y="3142800"/>
            <a:ext cx="6553080" cy="23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imavera 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ordinadora: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oledad Bo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ficina 5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0000"/>
                </a:solidFill>
                <a:latin typeface="Arial"/>
              </a:rPr>
              <a:t>EVALUACION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115640" y="1052280"/>
            <a:ext cx="7077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espués de cada capítulo se tomará un control escr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n 1 o 2 preguntas de desarrol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e realizará al inicio de la clase siguient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Controles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30 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Prueba A1 </a:t>
            </a: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35 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Prueba A2</a:t>
            </a: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35 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Examen</a:t>
            </a: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40 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1 CuadroTexto"/>
          <p:cNvSpPr/>
          <p:nvPr/>
        </p:nvSpPr>
        <p:spPr>
          <a:xfrm>
            <a:off x="1851120" y="6273720"/>
            <a:ext cx="5616360" cy="580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Pueden faltar a 1 control sin justificación  ó si los dan todos eliminar la peor no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"/>
          <p:cNvPicPr/>
          <p:nvPr/>
        </p:nvPicPr>
        <p:blipFill>
          <a:blip r:embed="rId1"/>
          <a:stretch/>
        </p:blipFill>
        <p:spPr>
          <a:xfrm>
            <a:off x="1244520" y="528480"/>
            <a:ext cx="6654960" cy="580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2T14:29:02Z</dcterms:created>
  <dc:creator>SOLEDAD BOLLO</dc:creator>
  <dc:description/>
  <dc:language>en-US</dc:language>
  <cp:lastModifiedBy>Universidad de Chile</cp:lastModifiedBy>
  <dcterms:modified xsi:type="dcterms:W3CDTF">2011-11-18T22:25:31Z</dcterms:modified>
  <cp:revision>91</cp:revision>
  <dc:subject/>
  <dc:title>Sistema Endocrino</dc:title>
</cp:coreProperties>
</file>