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5.jpeg" ContentType="image/jpe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CDA8-2871-4CB1-99B2-D5A8CD803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19D3-D8D8-4E2E-A377-120DCC04B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50AF-73F3-42E0-B696-BC93CE943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2AD9-F105-4520-922E-65BCC0823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2659B-3C17-4184-A5ED-9B72D040C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DED1F-2605-4CE2-80D6-C086F75D6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5ABB6-635F-478E-B676-A05077F31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D9CC9-D842-431C-9E6F-1FC4A8595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D4B13-579D-4CFA-9A8B-F92264840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539CD-1ACD-493C-9CDA-36DA29857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DA4FE-BDB4-4D23-ADCD-C9F66A53A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5016-6920-46DB-8AD6-2B722B6E8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F2E25-1D8D-4FA3-87F4-496D11AAA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EAF74-DDC9-42AE-8956-13D8A15FE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A9A27-016D-4EE3-904A-FFDF65D41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4E155-5799-4058-9585-A4C3A49B9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D0C1C-CBEE-41E1-8855-DB7E8F60D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5766AD-B855-45C4-88DE-73B45E68F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3408D2-76B6-47B4-9EDE-2DFC18C37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E39FC7-C055-4EDE-AFC1-7B9C7ABA5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2F06CF-B7CE-4751-AAA5-90282BE06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301020-5A7A-477F-9F48-355E3E9A3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22DB-9565-41F2-A093-07233155B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319F3B-A121-4DEF-B24F-65F52ACF8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243474-9ACB-4FB8-90B8-70793520D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C7C55F-234F-4117-B9C7-79F1014ED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DF8EBD-42FE-488D-A4DA-0F3ED71AB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AA6866-F431-478D-8F1C-B477275C5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855AA1-A7C0-40F8-B373-E235659A1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6DCF99-C873-4715-A032-4DD3F5285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40D915-13E2-4FF7-B8FE-DFC8408D4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73E9DF-A806-4A15-BEDF-878E4B610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99190D-9B0D-4482-B5BE-67ED66CA3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F4BB-7537-4F42-831D-6821DE4EE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8CB5F1-DA5A-427A-9843-42D0BBA39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795D51-07E9-470C-8ADF-4BE62B5FA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48DE59-6D9D-4CED-B0FF-71C38E569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F4D885-1E96-457E-B456-98BEAB085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2E6310-3B42-4516-B769-467F8EA12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23CAA8-AAF6-4864-96B1-BEEE6C1A5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5C55BE-78C1-4EB8-8B3E-822E3E090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A4767C-9BAF-4F11-9BCF-E8512991A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35C357-F5F1-4049-B879-89B150DC5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75F5D0-7949-4C21-85BC-459BDC011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BC3E-3993-4E1E-910F-2013B1536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E5AA5D-D6F6-40FC-A0DB-0A02C5C54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4465FB-1F9F-45A7-AE50-D9CA45FA7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B8240A-11DC-4CBF-A452-1DFAE16BC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4609B7-CADF-4BB4-B48E-14302A306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24E3CE-3BF4-4083-942F-4826AF29F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0F0CAF-0277-46C3-92C4-A457C499A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6A90B9-ED6D-47C5-9B2C-A96D1221C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740893-C09E-4243-B5BE-0154A728B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5C2AEE-9C60-48AD-B8AC-B64881535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E6C59C-7A23-4EFB-8147-0885BFFDD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42AC-C84E-4378-8723-FD6E41F33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15F6BA-C96D-4065-90C9-56B7B00AB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0554A1-981A-4F29-AF63-8123B0790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E59235-D085-4CC2-8B0A-10A5C4F8F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A79712-0294-4ADC-AB24-897CD3CF8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54279E-6F9C-4F2C-A270-D54F39CC6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1B1F5E-37E0-4B69-84EA-4A8FC7C80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271E63-5767-467C-99ED-432895AD4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E630E2-50C3-4F40-942D-10B875C3A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EF7FE3-8147-4F5C-BEB3-8BDB640EA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B81F4B-7F04-4546-A5F1-CA5B51795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8995-90F4-4715-A101-AE87A914B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2B3CE6-E5B5-4C5E-AFED-2FBBBC112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A68843-EAB4-422E-A6E9-1263B5562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454F4A-766B-4B08-AD3F-22BC22650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6EAA42-3BEA-4495-BA83-0A21B580F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42056E-F6A3-4121-8999-1E689288B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123BDD-A235-4283-9964-660C1A10C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9480C4-475B-4373-8892-8A4DEADDA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1D479D-3BB1-4A78-A3C9-E80EA502C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406AAB-7BE0-467D-8ABB-956947989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7564FB-BA02-4004-973F-637EBC7E1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0CF7-3347-4961-AD2D-10574DD4D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3327C7-A4DC-442A-A0C1-FFAEAC340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7DC347-3997-45EA-98FE-BFE386312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1ECA9B-0DF5-4344-BA7E-5DED6E902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660C19-FE31-4D41-B74D-E62AFC018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9B5220-5D35-41DD-829D-A64CA5D75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640DA8-0899-480A-A603-459C66660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99E2CE-69F4-4961-9C4E-3C734859F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DB2C29-B1E8-444A-B3B6-55135AC4E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6ED2F0-C012-4F63-AAB7-EFBB31B1C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73DD44-C3CC-48A4-BC4A-C858BD3DD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A7E7-0E27-4114-9410-BFE6F213B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FD2848-DBA5-43F5-A4C3-847A278BA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37A162-512C-4958-8DE1-18842F1DC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B2972C-D2D2-4D6A-ACC3-51CA7AC63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B39853-5943-40D3-9B59-A24F217B7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2FDF3E-BAB0-4C09-A9B2-B67CE2F5C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EB1FD3-F190-4620-AEC5-088A80AB5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CC0BA3-BF99-4D4F-96C0-DA7CDB934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Calibri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0E577-D9B7-42EC-9F06-28B4D60E25E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Calibri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74846-F36F-418F-A1BD-09CD1A090CD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Calibri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5B6A0-8B7A-48F5-A563-B7C0D28B5C5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Calibri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AC08D-1F09-4C88-9444-2E658098F94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Calibri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45500-A335-43E0-9830-9CE532E0FE1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Calibri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BCB21-69FA-48DD-9AB1-5BE4F8B4CB4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Calibri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07E17-058E-411B-86BB-F944B2DC467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Calibri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DFE89-FC69-4291-B03D-387DBA632B2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Rectangle 2" descr=""/>
          <p:cNvPicPr/>
          <p:nvPr/>
        </p:nvPicPr>
        <p:blipFill>
          <a:blip r:embed="rId1"/>
          <a:stretch/>
        </p:blipFill>
        <p:spPr>
          <a:xfrm>
            <a:off x="755640" y="2206800"/>
            <a:ext cx="7785000" cy="695160"/>
          </a:xfrm>
          <a:prstGeom prst="rect">
            <a:avLst/>
          </a:prstGeom>
          <a:ln w="0">
            <a:noFill/>
          </a:ln>
        </p:spPr>
      </p:pic>
      <p:sp>
        <p:nvSpPr>
          <p:cNvPr id="371" name="Rectangle 5"/>
          <p:cNvSpPr/>
          <p:nvPr/>
        </p:nvSpPr>
        <p:spPr>
          <a:xfrm>
            <a:off x="838080" y="2971800"/>
            <a:ext cx="754380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99"/>
                </a:solidFill>
                <a:latin typeface="Verdana"/>
              </a:rPr>
              <a:t>MODULO 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99"/>
                </a:solidFill>
                <a:latin typeface="Verdana"/>
              </a:rPr>
              <a:t>FACULTAD DE CIENCIAS QUIMICAS Y FARMACEUTICAS </a:t>
            </a:r>
            <a:br>
              <a:rPr sz="2000"/>
            </a:br>
            <a:r>
              <a:rPr b="0" lang="es-ES" sz="2000" spc="-1" strike="noStrike">
                <a:solidFill>
                  <a:srgbClr val="003399"/>
                </a:solidFill>
                <a:latin typeface="Verdana"/>
              </a:rPr>
              <a:t>UNIVERSIDAD DE CHI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2" name="Picture 6" descr=""/>
          <p:cNvPicPr/>
          <p:nvPr/>
        </p:nvPicPr>
        <p:blipFill>
          <a:blip r:embed="rId2"/>
          <a:stretch/>
        </p:blipFill>
        <p:spPr>
          <a:xfrm>
            <a:off x="611280" y="304920"/>
            <a:ext cx="942840" cy="1904760"/>
          </a:xfrm>
          <a:prstGeom prst="rect">
            <a:avLst/>
          </a:prstGeom>
          <a:ln w="0">
            <a:noFill/>
          </a:ln>
        </p:spPr>
      </p:pic>
      <p:sp>
        <p:nvSpPr>
          <p:cNvPr id="373" name="Text Box 7"/>
          <p:cNvSpPr/>
          <p:nvPr/>
        </p:nvSpPr>
        <p:spPr>
          <a:xfrm>
            <a:off x="2133720" y="5715000"/>
            <a:ext cx="58672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da1f28"/>
                </a:solidFill>
                <a:latin typeface="Verdana"/>
              </a:rPr>
              <a:t>Alejandra Del Rio Vega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da1f28"/>
                </a:solidFill>
                <a:latin typeface="Verdana"/>
              </a:rPr>
              <a:t>Químico Farmacéutico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Rectangle 2" descr=""/>
          <p:cNvPicPr/>
          <p:nvPr/>
        </p:nvPicPr>
        <p:blipFill>
          <a:blip r:embed="rId1"/>
          <a:stretch/>
        </p:blipFill>
        <p:spPr>
          <a:xfrm>
            <a:off x="682560" y="1268280"/>
            <a:ext cx="7785000" cy="1633680"/>
          </a:xfrm>
          <a:prstGeom prst="rect">
            <a:avLst/>
          </a:prstGeom>
          <a:ln w="0">
            <a:noFill/>
          </a:ln>
        </p:spPr>
      </p:pic>
      <p:sp>
        <p:nvSpPr>
          <p:cNvPr id="389" name="Rectangle 5"/>
          <p:cNvSpPr/>
          <p:nvPr/>
        </p:nvSpPr>
        <p:spPr>
          <a:xfrm>
            <a:off x="838080" y="2971800"/>
            <a:ext cx="754380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457200" y="685440"/>
            <a:ext cx="822960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100000"/>
              </a:lnSpc>
              <a:spcBef>
                <a:spcPts val="125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La principal reglamentación que regula el  Control de Productos Farmacéuticos son el Código Sanitario y el D.S. Nº 1876/95 del Ministerio de Salu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 algn="just">
              <a:lnSpc>
                <a:spcPct val="100000"/>
              </a:lnSpc>
              <a:spcBef>
                <a:spcPts val="125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El </a:t>
            </a:r>
            <a:r>
              <a:rPr b="1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Instituto de Salud Pública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será la autoridad encargada en todo el territorio nacional del control sanitario de los </a:t>
            </a:r>
            <a:r>
              <a:rPr b="1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productos farmacéuticos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y cosméticos ,según el Art. 94º del Código Sanitario, y de velar por el cumplimiento de las disposiciones que sobre la materia contienen dicho Código y sus reglamento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 algn="just">
              <a:lnSpc>
                <a:spcPct val="100000"/>
              </a:lnSpc>
              <a:spcBef>
                <a:spcPts val="125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El Art. 102º del Código Sanitario señala que ningún </a:t>
            </a:r>
            <a:r>
              <a:rPr b="1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producto farmacéutico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o cosmético podrá ser comercializado ni distribuido en el país sin que se proceda a su registro previo en el Instituto de Salud Públic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457200" y="1599840"/>
            <a:ext cx="822960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Producto Farmacéutico o medicamento: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toda sustancia natural o sintética o mezcla de ellas, que se destine a la administración al hombre o a los animales, con fines de curación, atenuación, tratamiento, prevención y diagnostico de las enfermedades o de sus síntoma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Alimento de uso médico: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aquel que por haber sido sometido a procesos que modifican la concentración relativa de los diversos nutrientes de su constitución o la calidad de los mismos o por incorporación de sustancias ajenas a su composición,  adquiere propiedades terapéutica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2" name="Title 2" descr=""/>
          <p:cNvPicPr/>
          <p:nvPr/>
        </p:nvPicPr>
        <p:blipFill>
          <a:blip r:embed="rId1"/>
          <a:stretch/>
        </p:blipFill>
        <p:spPr>
          <a:xfrm>
            <a:off x="450720" y="219240"/>
            <a:ext cx="8242560" cy="120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Producto Cosmético: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ualquier preparado que se destine a ser aplicado externamente al cuerpo humano con fines de embellecimiento, modificación de su aspecto físico o conservación de las condiciones físico-químicas normales de la piel y de sus anexo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Laboratorio externo de control de calidad: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establecimiento autorizado por el Instituto para realizar análisis y ensayos relativos a productos sometidos al presente reglamento, a solicitud de cualquiera persona natural o jurídica.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4" name="Title 2" descr=""/>
          <p:cNvPicPr/>
          <p:nvPr/>
        </p:nvPicPr>
        <p:blipFill>
          <a:blip r:embed="rId1"/>
          <a:stretch/>
        </p:blipFill>
        <p:spPr>
          <a:xfrm>
            <a:off x="450720" y="219240"/>
            <a:ext cx="8242560" cy="120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100000"/>
              </a:lnSpc>
              <a:spcBef>
                <a:spcPts val="125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Producto semi‑elaborado: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el que se encuentra en alguna de las fases intermedias de su proceso de fabricación, que antecede a la forma farmacéutica definitiva.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 algn="just">
              <a:lnSpc>
                <a:spcPct val="100000"/>
              </a:lnSpc>
              <a:spcBef>
                <a:spcPts val="125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Producto elaborado a granel: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el que se encuentra en su forma farmacéutica o cosmética  definitiva como comprimidos, grageas, suspensiones u otras, o que estando en su envase interno como frasco-ampollas rotuladas, formas farmacéuticas sólidas fraccionadas y rotuladas en láminas de celofán, de aluminio, blister-pack u otro, no ha sido  repartido aún en los envases definitivos  para su distribución y comercialización.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Producto terminado: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el que está en su envase definitivo, rotulado y listo para ser distribuido y comercializado.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6" name="Title 2" descr=""/>
          <p:cNvPicPr/>
          <p:nvPr/>
        </p:nvPicPr>
        <p:blipFill>
          <a:blip r:embed="rId1"/>
          <a:stretch/>
        </p:blipFill>
        <p:spPr>
          <a:xfrm>
            <a:off x="450720" y="219240"/>
            <a:ext cx="8242560" cy="120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Registro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 a la inscripción en un rol especial, con numeración correlativa que mantiene el Instituto de Salud Pública, de un 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producto farmacéutico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, alimento de uso médico cuando corresponda o cosmético, una vez que ha sido sometido a un proceso de evaluación por la autoridad sanitaria, previo a su distribución y comercialización en el paí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 algn="just">
              <a:lnSpc>
                <a:spcPct val="100000"/>
              </a:lnSpc>
              <a:spcBef>
                <a:spcPts val="15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El 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Instituto de Salud Pública de Chile (ISP)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 está encargado de las concesiones de registros sanitarios para productos farmacéutico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8" name="Title 2" descr=""/>
          <p:cNvPicPr/>
          <p:nvPr/>
        </p:nvPicPr>
        <p:blipFill>
          <a:blip r:embed="rId1"/>
          <a:stretch/>
        </p:blipFill>
        <p:spPr>
          <a:xfrm>
            <a:off x="450720" y="219240"/>
            <a:ext cx="8242560" cy="120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100000"/>
              </a:lnSpc>
              <a:spcBef>
                <a:spcPts val="15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El 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registro sanitario 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puede ser solicitado por cualquier persona natural o jurídica, quienes cumplan con los requisitos que especificaremos más adelant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 algn="just">
              <a:lnSpc>
                <a:spcPct val="100000"/>
              </a:lnSpc>
              <a:spcBef>
                <a:spcPts val="15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El 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registro sanitario 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es otorgado por un Órgano del Estado, los procedimientos administrativos están regidos además por la Ley 19.880 (de Procedimiento Administrativo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0" name="Title 2" descr=""/>
          <p:cNvPicPr/>
          <p:nvPr/>
        </p:nvPicPr>
        <p:blipFill>
          <a:blip r:embed="rId1"/>
          <a:stretch/>
        </p:blipFill>
        <p:spPr>
          <a:xfrm>
            <a:off x="450720" y="219240"/>
            <a:ext cx="8242560" cy="120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100000"/>
              </a:lnSpc>
              <a:spcBef>
                <a:spcPts val="125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Certificado de registro sanitario: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documento extendido por la autoridad sanitaria del país productor a petición del interesado, en el cual debe constar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 algn="just">
              <a:lnSpc>
                <a:spcPct val="100000"/>
              </a:lnSpc>
              <a:spcBef>
                <a:spcPts val="1250"/>
              </a:spcBef>
              <a:buClr>
                <a:srgbClr val="2da2bf"/>
              </a:buClr>
              <a:buSzPct val="68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Que el establecimiento productor reúne las condiciones exigidas por la legislación sanitaria del país de su producció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 algn="just">
              <a:lnSpc>
                <a:spcPct val="100000"/>
              </a:lnSpc>
              <a:spcBef>
                <a:spcPts val="1250"/>
              </a:spcBef>
              <a:buClr>
                <a:srgbClr val="2da2bf"/>
              </a:buClr>
              <a:buSzPct val="68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Que el producto está registrado en el país de acuerdo a la normativa vigente, señalándose íntegramente la fórmula autorizada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 algn="just">
              <a:lnSpc>
                <a:spcPct val="100000"/>
              </a:lnSpc>
              <a:spcBef>
                <a:spcPts val="1250"/>
              </a:spcBef>
              <a:buClr>
                <a:srgbClr val="2da2bf"/>
              </a:buClr>
              <a:buSzPct val="68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Que su expendio está sometido a algún régimen restrictivo o control especial de tipo sanitario, si así fuere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2" name="Title 2" descr=""/>
          <p:cNvPicPr/>
          <p:nvPr/>
        </p:nvPicPr>
        <p:blipFill>
          <a:blip r:embed="rId1"/>
          <a:stretch/>
        </p:blipFill>
        <p:spPr>
          <a:xfrm>
            <a:off x="450720" y="219240"/>
            <a:ext cx="8242560" cy="120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125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100000"/>
              </a:lnSpc>
              <a:spcBef>
                <a:spcPts val="125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Convenio de control de calidad: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contrato de control de calidad que realiza el solicitante del registro sanitario con un laboratorio de control de calidad externo autorizado por el ISP.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100000"/>
              </a:lnSpc>
              <a:spcBef>
                <a:spcPts val="125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Convenio de fabricación: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contrato que realiza el solicitante del registro sanitario con un laboratorio de producción nacional o extranjero, ambos debidamente autorizados, con el fin de ejecutar la fabricación del producto farmacéutico a registrar, como producto semi-elaborado, a granel o terminad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100000"/>
              </a:lnSpc>
              <a:spcBef>
                <a:spcPts val="15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4" name="Title 2" descr=""/>
          <p:cNvPicPr/>
          <p:nvPr/>
        </p:nvPicPr>
        <p:blipFill>
          <a:blip r:embed="rId1"/>
          <a:stretch/>
        </p:blipFill>
        <p:spPr>
          <a:xfrm>
            <a:off x="450720" y="219240"/>
            <a:ext cx="8242560" cy="120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457200" y="1828800"/>
            <a:ext cx="8229600" cy="41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100000"/>
              </a:lnSpc>
              <a:spcBef>
                <a:spcPts val="15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Convenio de distribución: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 contrato que realiza el solicitante del registro sanitario con un establecimiento autorizado, con el fin que aquel distribuya el producto farmacéutico a registrar. Tales establecimientos pueden ser: droguerías, depósitos, laboratorios de producción farmacéutica.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6" name="Title 2" descr=""/>
          <p:cNvPicPr/>
          <p:nvPr/>
        </p:nvPicPr>
        <p:blipFill>
          <a:blip r:embed="rId1"/>
          <a:stretch/>
        </p:blipFill>
        <p:spPr>
          <a:xfrm>
            <a:off x="450720" y="219240"/>
            <a:ext cx="8242560" cy="120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Calibri"/>
              </a:rPr>
              <a:t>Conocer los aspectos más importantes de las Leyes y reglamentos asociados con el ejercicio de su carrera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Calibri"/>
              </a:rPr>
              <a:t>Conocer cómo se puede relacionar estas leyes y reglamentos con el medio laboral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Calibri"/>
              </a:rPr>
              <a:t>Conocer como se interrelacionan las leyes y reglamentos en líneas generales en las diferentes áreas de trabajo: farmacia comunitaria, farmacia asistencial, industria farmacéutica, industria cosmética, laboratorio clínico, propiedad industrial, etc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5" name="Title 2" descr=""/>
          <p:cNvPicPr/>
          <p:nvPr/>
        </p:nvPicPr>
        <p:blipFill>
          <a:blip r:embed="rId1"/>
          <a:stretch/>
        </p:blipFill>
        <p:spPr>
          <a:xfrm>
            <a:off x="682560" y="298440"/>
            <a:ext cx="793764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100000"/>
              </a:lnSpc>
              <a:spcBef>
                <a:spcPts val="15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Importación de productos farmacéuticos: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 podrá ser efectuada como </a:t>
            </a:r>
            <a:r>
              <a:rPr b="0" i="1" lang="es-E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productos terminados 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por los laboratorios de producción autorizados, farmacias, droguerías y depósitos de productos farmacéuticos, y en general, por cualquier persona natural o jurídica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 algn="just">
              <a:lnSpc>
                <a:spcPct val="100000"/>
              </a:lnSpc>
              <a:spcBef>
                <a:spcPts val="15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La importación de </a:t>
            </a:r>
            <a:r>
              <a:rPr b="0" i="1" lang="es-E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productos semi-elaborados o elaborados a granel 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sólo podrán efectuarla los laboratorios de producción.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8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Especificaciones: 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documento técnico que define los atributos y variables que deben evaluarse en una materia prima, material, producto o servicio. Describe todas las pruebas y los análisis utilizados para determinarlos y establece los criterios de aceptación o rechazo.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0" name="Title 2" descr=""/>
          <p:cNvPicPr/>
          <p:nvPr/>
        </p:nvPicPr>
        <p:blipFill>
          <a:blip r:embed="rId1"/>
          <a:stretch/>
        </p:blipFill>
        <p:spPr>
          <a:xfrm>
            <a:off x="450720" y="219240"/>
            <a:ext cx="8242560" cy="120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457200" y="1676160"/>
            <a:ext cx="8229600" cy="43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90440" indent="-190440" algn="just">
              <a:lnSpc>
                <a:spcPct val="100000"/>
              </a:lnSpc>
              <a:spcBef>
                <a:spcPts val="15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Arial"/>
              </a:rPr>
              <a:t>Productos fabricados en laboratorios propio, legal y técnicamente habilitado para ell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90440" indent="-190440" algn="just">
              <a:lnSpc>
                <a:spcPct val="100000"/>
              </a:lnSpc>
              <a:spcBef>
                <a:spcPts val="15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Arial"/>
              </a:rPr>
              <a:t>Producto de fabricación realizada por otro laboratorio de producción autorizado, por cuenta de quien solicita el registro.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90440" indent="-190440" algn="just">
              <a:lnSpc>
                <a:spcPct val="100000"/>
              </a:lnSpc>
              <a:spcBef>
                <a:spcPts val="15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Arial"/>
              </a:rPr>
              <a:t>Productos fabricados por un laboratorio de producción autorizado. Productos importados terminados, sea en forma directa o a través de otros establecimientos autorizados.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2" name="Title 2" descr=""/>
          <p:cNvPicPr/>
          <p:nvPr/>
        </p:nvPicPr>
        <p:blipFill>
          <a:blip r:embed="rId1"/>
          <a:stretch/>
        </p:blipFill>
        <p:spPr>
          <a:xfrm>
            <a:off x="450720" y="255600"/>
            <a:ext cx="8242560" cy="11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457200" y="1676160"/>
            <a:ext cx="8229600" cy="43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90440" indent="-190440" algn="just">
              <a:lnSpc>
                <a:spcPct val="100000"/>
              </a:lnSpc>
              <a:spcBef>
                <a:spcPts val="15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Arial"/>
              </a:rPr>
              <a:t>Productos importados terminados y elaborados en el extranjero, por cuenta de un establecimiento farmacéutico nacional.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90440" indent="-190440" algn="just">
              <a:lnSpc>
                <a:spcPct val="100000"/>
              </a:lnSpc>
              <a:spcBef>
                <a:spcPts val="15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Arial"/>
              </a:rPr>
              <a:t>Productos importados a granel para ser terminados en el país, sea en forma directa o a través de otros establecimientos autorizados.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90440" indent="-190440" algn="just">
              <a:lnSpc>
                <a:spcPct val="100000"/>
              </a:lnSpc>
              <a:spcBef>
                <a:spcPts val="15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Arial"/>
              </a:rPr>
              <a:t>Productos importados semielaborados para ser terminados en el país, sea en forma directa o a través de otros establecimientos autorizados.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90440" indent="-19044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4" name="Title 2" descr=""/>
          <p:cNvPicPr/>
          <p:nvPr/>
        </p:nvPicPr>
        <p:blipFill>
          <a:blip r:embed="rId1"/>
          <a:stretch/>
        </p:blipFill>
        <p:spPr>
          <a:xfrm>
            <a:off x="450720" y="255600"/>
            <a:ext cx="8242560" cy="11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 txBox="1"/>
          <p:nvPr/>
        </p:nvSpPr>
        <p:spPr>
          <a:xfrm>
            <a:off x="457200" y="1599840"/>
            <a:ext cx="822960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2da2bf"/>
              </a:buClr>
              <a:buSzPct val="68000"/>
              <a:buFont typeface="Verdana"/>
              <a:buAutoNum type="arabicPeriod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Verdana"/>
                <a:ea typeface="Arial"/>
              </a:rPr>
              <a:t>Especialidades Farmacéuticas: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Arial"/>
              </a:rPr>
              <a:t>estas incluyen los productos que constituyen el Formulario Nacional de Medicamentos. El formulario nacional de medicamentos incluye aprox. 320 medicamentos genéricos con su respectiva DCI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2da2bf"/>
              </a:buClr>
              <a:buSzPct val="68000"/>
              <a:buFont typeface="Verdana"/>
              <a:buAutoNum type="arabicPeriod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Verdana"/>
                <a:ea typeface="Arial"/>
              </a:rPr>
              <a:t>Preparados Oficinales: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Arial"/>
              </a:rPr>
              <a:t>son elaborados en las farmacias  conforme a la Farmacopea Chilena y demàs oficialmente reconocidas en el paí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2da2bf"/>
              </a:buClr>
              <a:buSzPct val="68000"/>
              <a:buFont typeface="Verdana"/>
              <a:buAutoNum type="arabicPeriod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Verdana"/>
                <a:ea typeface="Arial"/>
              </a:rPr>
              <a:t>Preparados Magistrales: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Arial"/>
              </a:rPr>
              <a:t>son preparados conforme a fórmulas prescritas por profesionales legalmente habilitados para hacerlo, en cada caso, para pacientes individuales, en forma inmediata y para uso y duración limitada.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6" name="Title 2" descr=""/>
          <p:cNvPicPr/>
          <p:nvPr/>
        </p:nvPicPr>
        <p:blipFill>
          <a:blip r:embed="rId1"/>
          <a:stretch/>
        </p:blipFill>
        <p:spPr>
          <a:xfrm>
            <a:off x="450720" y="255600"/>
            <a:ext cx="8242560" cy="11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457200" y="1599840"/>
            <a:ext cx="822960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2da2bf"/>
              </a:buClr>
              <a:buSzPct val="68000"/>
              <a:buFont typeface="Verdana"/>
              <a:buAutoNum type="arabicPeriod" startAt="4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Verdana"/>
                <a:ea typeface="Arial"/>
              </a:rPr>
              <a:t>Radiofármacos: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Arial"/>
              </a:rPr>
              <a:t>son productos o formulaciones marcadas con radionucleidos o radioisótopos, destinados a ser usados en el diagnóstico o tratamiento de enfermedades, cualquiera sea la vía de administración empleada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2da2bf"/>
              </a:buClr>
              <a:buSzPct val="68000"/>
              <a:buFont typeface="Verdana"/>
              <a:buAutoNum type="arabicPeriod" startAt="5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Verdana"/>
                <a:ea typeface="Arial"/>
              </a:rPr>
              <a:t>Drogas a Granel: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Arial"/>
              </a:rPr>
              <a:t>pueden ser naturales o sintéticas. Su distribución y expendio se hace en forma fraccionada en las farmacias. Las farmacias las compran a las droguerías. Se usan para fabricar los preparados magistrales y oficinales. Las Droguerías las venden a las Farmacias y los Laboratorios.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8" name="Title 2" descr=""/>
          <p:cNvPicPr/>
          <p:nvPr/>
        </p:nvPicPr>
        <p:blipFill>
          <a:blip r:embed="rId1"/>
          <a:stretch/>
        </p:blipFill>
        <p:spPr>
          <a:xfrm>
            <a:off x="450720" y="255600"/>
            <a:ext cx="8242560" cy="11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 txBox="1"/>
          <p:nvPr/>
        </p:nvSpPr>
        <p:spPr>
          <a:xfrm>
            <a:off x="457200" y="1752480"/>
            <a:ext cx="8229600" cy="440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447840" algn="just">
              <a:lnSpc>
                <a:spcPct val="100000"/>
              </a:lnSpc>
              <a:spcBef>
                <a:spcPts val="1250"/>
              </a:spcBef>
              <a:buClr>
                <a:srgbClr val="2da2bf"/>
              </a:buClr>
              <a:buSzPct val="68000"/>
              <a:buFont typeface="Verdana"/>
              <a:buAutoNum type="arabicPeriod" startAt="6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Productos Biológicos: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on aquellos cuyo control de calidad requiere realizarse por algún método biológico y aquellos productos biológicos elaborados a partir de organismos o microorganismos vivos o de sus tejidos, exceptuándose aquellos que constituyen drogas de origen natural. Estos pueden ser las vacunas, los sueros de origen humano o animal, los hemoderivados, los productos biotecnológicos, hormonas et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 algn="just">
              <a:lnSpc>
                <a:spcPct val="100000"/>
              </a:lnSpc>
              <a:spcBef>
                <a:spcPts val="1250"/>
              </a:spcBef>
              <a:buClr>
                <a:srgbClr val="2da2bf"/>
              </a:buClr>
              <a:buSzPct val="68000"/>
              <a:buFont typeface="Verdana"/>
              <a:buAutoNum type="arabicPeriod" startAt="6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Preparados Homeopáticos: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Figuran en la Farmacopea Chilena, en la Farmacopea de Wilmar Schwabe u otra reconocida para estos productos por el Minsal, y se presentan con su nombre genérico. Deben tener 1 principio activo, ya que si poseen mas de uno pasan a ser especialidades farmacéutica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0" name="Title 2" descr=""/>
          <p:cNvPicPr/>
          <p:nvPr/>
        </p:nvPicPr>
        <p:blipFill>
          <a:blip r:embed="rId1"/>
          <a:stretch/>
        </p:blipFill>
        <p:spPr>
          <a:xfrm>
            <a:off x="450720" y="255600"/>
            <a:ext cx="8242560" cy="11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 txBox="1"/>
          <p:nvPr/>
        </p:nvSpPr>
        <p:spPr>
          <a:xfrm>
            <a:off x="457200" y="2133360"/>
            <a:ext cx="8229600" cy="387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2da2bf"/>
              </a:buClr>
              <a:buSzPct val="68000"/>
              <a:buFont typeface="Verdana"/>
              <a:buAutoNum type="arabicPeriod" startAt="8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Fitofármacos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o medicamentos herbarios: son productos farmacéuticos terminados y etiquetados, cuyos principios activos son exclusivamente drogas vegetales o preparaciones vegetal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2da2bf"/>
              </a:buClr>
              <a:buSzPct val="68000"/>
              <a:buFont typeface="Verdana"/>
              <a:buAutoNum type="arabicPeriod" startAt="8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De administración Parenteral: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cualquiera sea su composición, propiedades o efecto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2da2bf"/>
              </a:buClr>
              <a:buSzPct val="68000"/>
              <a:buFont typeface="Verdana"/>
              <a:buAutoNum type="arabicPeriod" startAt="8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Otros productos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que se rotulen o anuncien por cualquier medio con propiedades terapéuticas, sean curativas, de atenuación, tratamiento, diagnostico o prevención de las enfermedades o sus síntomas (ej.: Vitaminas, minerales y otros nutrientes 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2da2bf"/>
              </a:buClr>
              <a:buSzPct val="68000"/>
              <a:buFont typeface="Verdana"/>
              <a:buAutoNum type="arabicPeriod" startAt="8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2" name="Title 2" descr=""/>
          <p:cNvPicPr/>
          <p:nvPr/>
        </p:nvPicPr>
        <p:blipFill>
          <a:blip r:embed="rId1"/>
          <a:stretch/>
        </p:blipFill>
        <p:spPr>
          <a:xfrm>
            <a:off x="450720" y="255600"/>
            <a:ext cx="8242560" cy="11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Title 2" descr=""/>
          <p:cNvPicPr/>
          <p:nvPr/>
        </p:nvPicPr>
        <p:blipFill>
          <a:blip r:embed="rId1"/>
          <a:stretch/>
        </p:blipFill>
        <p:spPr>
          <a:xfrm>
            <a:off x="450720" y="2127240"/>
            <a:ext cx="8242560" cy="2603520"/>
          </a:xfrm>
          <a:prstGeom prst="rect">
            <a:avLst/>
          </a:prstGeom>
          <a:ln w="0">
            <a:noFill/>
          </a:ln>
        </p:spPr>
      </p:pic>
      <p:sp>
        <p:nvSpPr>
          <p:cNvPr id="424" name="Rectangle 3"/>
          <p:cNvSpPr/>
          <p:nvPr/>
        </p:nvSpPr>
        <p:spPr>
          <a:xfrm>
            <a:off x="533520" y="1236600"/>
            <a:ext cx="8076960" cy="24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 algn="ctr">
              <a:spcBef>
                <a:spcPts val="2500"/>
              </a:spcBef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Verdana"/>
              </a:rPr>
              <a:t>GRACIA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 algn="ctr">
              <a:spcBef>
                <a:spcPts val="2500"/>
              </a:spcBef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 algn="ctr">
              <a:spcBef>
                <a:spcPts val="2251"/>
              </a:spcBef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Verdana"/>
              </a:rPr>
              <a:t>mail:</a:t>
            </a:r>
            <a:r>
              <a:rPr b="0" lang="es-ES" sz="3600" spc="-1" strike="noStrike">
                <a:solidFill>
                  <a:srgbClr val="000000"/>
                </a:solidFill>
                <a:latin typeface="Verdana"/>
              </a:rPr>
              <a:t> adelrio@harneckercarey.c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57200" y="1828800"/>
            <a:ext cx="8229600" cy="41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Calibri"/>
              </a:rPr>
              <a:t>Presentación y análisis del plan de estudio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Calibri"/>
              </a:rPr>
              <a:t>Introducción a la legislación farmacéutic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Calibri"/>
              </a:rPr>
              <a:t>Reglamento de productos farmacéuticos D.S. 1876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Calibri"/>
              </a:rPr>
              <a:t>Registro de productos farmacéuticos y definicion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Calibri"/>
              </a:rPr>
              <a:t>Establecimientos Químicos-Farmacéutico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Calibri"/>
              </a:rPr>
              <a:t>Reglamento de productos cosméticos D.S. 239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Calibri"/>
              </a:rPr>
              <a:t>Registro de productos cosméticos, de Higiene   Personal y definicion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7" name="Title 2" descr=""/>
          <p:cNvPicPr/>
          <p:nvPr/>
        </p:nvPicPr>
        <p:blipFill>
          <a:blip r:embed="rId1"/>
          <a:stretch/>
        </p:blipFill>
        <p:spPr>
          <a:xfrm>
            <a:off x="450720" y="378000"/>
            <a:ext cx="8242560" cy="10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7200" y="1599840"/>
            <a:ext cx="822960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Calibri"/>
              </a:rPr>
              <a:t>Reglamento de productos psicotrópico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Calibri"/>
              </a:rPr>
              <a:t>Registro de productos psicotrópicos y definicion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Calibri"/>
              </a:rPr>
              <a:t>Responsabilidades del Químico Farmacéutico Director  Técnico y Jefe de Control de Calidad en Laboratorios de Producción y Droguerías.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Calibri"/>
              </a:rPr>
              <a:t>Reglamento de Farmacias y Droguería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Calibri"/>
              </a:rPr>
              <a:t>Propiedad Industrial, Privilegios Industrial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Calibri"/>
              </a:rPr>
              <a:t>Exclusividad de Dato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Calibri"/>
              </a:rPr>
              <a:t>Política de Medicamento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9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Calibri"/>
              </a:rPr>
              <a:t>Entre las actividades de aprendizaje de la asignatura podemos mencionar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Calibri"/>
              </a:rPr>
              <a:t>Clases teórica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Calibri"/>
              </a:rPr>
              <a:t>Charla de invitados externo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Calibri"/>
              </a:rPr>
              <a:t>Talleres de análisi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Calibri"/>
              </a:rPr>
              <a:t>Trabajo de investigació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Calibri"/>
              </a:rPr>
              <a:t>Exposicion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1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000000"/>
                </a:solidFill>
                <a:latin typeface="Calibri"/>
              </a:rPr>
              <a:t>Seminarios prácticos         </a:t>
            </a:r>
            <a:r>
              <a:rPr b="0" lang="es-ES" sz="2700" spc="-1" strike="noStrike">
                <a:solidFill>
                  <a:srgbClr val="000000"/>
                </a:solidFill>
                <a:latin typeface="Calibri"/>
              </a:rPr>
              <a:t>30%  (Desde Semana 3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53880" indent="-247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s-ES" sz="2700" spc="-1" strike="noStrike">
                <a:solidFill>
                  <a:srgbClr val="000000"/>
                </a:solidFill>
                <a:latin typeface="Calibri"/>
              </a:rPr>
              <a:t>Trabajo escrito                20%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53880" indent="-247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s-ES" sz="2700" spc="-1" strike="noStrike">
                <a:solidFill>
                  <a:srgbClr val="000000"/>
                </a:solidFill>
                <a:latin typeface="Calibri"/>
              </a:rPr>
              <a:t>Exposición                       10%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53880" indent="-247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s-ES" sz="2700" spc="-1" strike="noStrike">
                <a:solidFill>
                  <a:srgbClr val="000000"/>
                </a:solidFill>
                <a:latin typeface="Calibri"/>
              </a:rPr>
              <a:t>Asistencia  obligatoria 80 % (Tercera hora de clase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53880" indent="-247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000000"/>
                </a:solidFill>
                <a:latin typeface="Calibri"/>
              </a:rPr>
              <a:t>2 Pruebas A</a:t>
            </a:r>
            <a:r>
              <a:rPr b="1" lang="es-E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7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es-ES" sz="2700" spc="-1" strike="noStrike">
                <a:solidFill>
                  <a:srgbClr val="000000"/>
                </a:solidFill>
                <a:latin typeface="Calibri"/>
              </a:rPr>
              <a:t>50% (25% c/u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53880" indent="-247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000000"/>
                </a:solidFill>
                <a:latin typeface="Calibri"/>
              </a:rPr>
              <a:t>Trabajo Investigación Propiedad Industrial        </a:t>
            </a:r>
            <a:r>
              <a:rPr b="0" lang="es-ES" sz="2700" spc="-1" strike="noStrike">
                <a:solidFill>
                  <a:srgbClr val="000000"/>
                </a:solidFill>
                <a:latin typeface="Calibri"/>
              </a:rPr>
              <a:t>20%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53880" indent="-247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s-ES" sz="2700" spc="-1" strike="noStrike">
                <a:solidFill>
                  <a:srgbClr val="000000"/>
                </a:solidFill>
                <a:latin typeface="Calibri"/>
              </a:rPr>
              <a:t>(Entrega máxima semana 14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3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85" name=""/>
          <p:cNvGraphicFramePr/>
          <p:nvPr/>
        </p:nvGraphicFramePr>
        <p:xfrm>
          <a:off x="1066680" y="1905120"/>
          <a:ext cx="7010640" cy="3355920"/>
        </p:xfrm>
        <a:graphic>
          <a:graphicData uri="http://schemas.openxmlformats.org/drawingml/2006/table">
            <a:tbl>
              <a:tblPr/>
              <a:tblGrid>
                <a:gridCol w="7010640"/>
              </a:tblGrid>
              <a:tr h="366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GISTRO PRODUCTO FARMACEUTICO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da2b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6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DIFICACIONES ANALÍTICAS AL REGISTRO -  PERIODO DE EFICAC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DIFICACIONES LEGALES AL REGISTRO - TRANSFERENCI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37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DIFICACIONES ANALÍTICAS AL REGISTRO - COMPOSICIÓN Y ESPECIFICACION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GLAMENTO DE FARMAC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UBLICIDAD Y PROMOCIÓN PRODUCTOS FARMACEUTIC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SICOTRÓPICOS Y ESTUPEFACIEN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MARIO SANITARI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5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TEN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2da2b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38088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000000"/>
                </a:solidFill>
                <a:latin typeface="Calibri"/>
              </a:rPr>
              <a:t>QUE ES EL DERECHO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Calibri"/>
              </a:rPr>
              <a:t>Conjunto de normas obligatorias que regulan los actos de los hombres que viven en sociedad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700" spc="-1" strike="noStrike">
                <a:solidFill>
                  <a:srgbClr val="000000"/>
                </a:solidFill>
                <a:latin typeface="Calibri"/>
              </a:rPr>
              <a:t>El derecho constitucional señala la forma de como el estado organiza sus institucione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000000"/>
                </a:solidFill>
                <a:latin typeface="Calibri"/>
              </a:rPr>
              <a:t>Tipos de Derecho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000000"/>
                </a:solidFill>
                <a:latin typeface="Calibri"/>
              </a:rPr>
              <a:t>Derecho Público:</a:t>
            </a:r>
            <a:r>
              <a:rPr b="0" lang="es-ES" sz="2700" spc="-1" strike="noStrike">
                <a:solidFill>
                  <a:srgbClr val="000000"/>
                </a:solidFill>
                <a:latin typeface="Calibri"/>
              </a:rPr>
              <a:t> ámbito internacional (comercio), penal, administrativo (registros ISP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000000"/>
                </a:solidFill>
                <a:latin typeface="Calibri"/>
              </a:rPr>
              <a:t>Derecho Privado:</a:t>
            </a:r>
            <a:r>
              <a:rPr b="0" lang="es-ES" sz="2700" spc="-1" strike="noStrike">
                <a:solidFill>
                  <a:srgbClr val="000000"/>
                </a:solidFill>
                <a:latin typeface="Calibri"/>
              </a:rPr>
              <a:t> derecho civil (matrimonio), derecho comercial, derecho de minas, etc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457200" y="38088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000000"/>
                </a:solidFill>
                <a:latin typeface="Calibri"/>
              </a:rPr>
              <a:t>DERECHO- LEY-REGLAMENTO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000000"/>
                </a:solidFill>
                <a:latin typeface="Calibri"/>
              </a:rPr>
              <a:t>PODERES DEL ESTADO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Calibri"/>
              </a:rPr>
              <a:t>PODER EJECUTIVO: Presidente de la Republic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Calibri"/>
              </a:rPr>
              <a:t>PODER LEGISLATIVO: Cámara del Senado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Calibri"/>
              </a:rPr>
              <a:t>                                       </a:t>
            </a:r>
            <a:r>
              <a:rPr b="0" lang="es-ES" sz="2700" spc="-1" strike="noStrike">
                <a:solidFill>
                  <a:srgbClr val="000000"/>
                </a:solidFill>
                <a:latin typeface="Calibri"/>
              </a:rPr>
              <a:t>Cámara de Diputado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Calibri"/>
              </a:rPr>
              <a:t>PODER JUDICIA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Calibri"/>
              </a:rPr>
              <a:t>CONTRALORIA GENERAL DE LA REPUBLICA: Organismo contralor de las actividades de los poderes del estado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1T15:40:29Z</dcterms:created>
  <dc:creator>aem37167</dc:creator>
  <dc:description/>
  <dc:language>en-US</dc:language>
  <cp:lastModifiedBy>Alejandra Del Rio</cp:lastModifiedBy>
  <dcterms:modified xsi:type="dcterms:W3CDTF">2011-04-06T16:30:22Z</dcterms:modified>
  <cp:revision>113</cp:revision>
  <dc:subject/>
  <dc:title>Certificado de Producto Farmacéutico (CPP)</dc:title>
</cp:coreProperties>
</file>