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0.wmf" ContentType="image/x-wmf"/>
  <Override PartName="/ppt/media/image3.wmf" ContentType="image/x-wmf"/>
  <Override PartName="/ppt/media/image4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2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F70-8FB5-49C1-8B6F-133FD6EB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CAB5-4590-4719-8BD8-18A3C5E1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A752-AA57-4CBF-9BB7-09AEBBD7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4D3-D5F3-4369-ACFB-16CF20EC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CAB-A2EA-4C31-BD05-8F59597B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A56B-3A43-4752-A6EE-9B0E6260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7B9-0257-496B-B307-3161B7EC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B78A-8586-4D84-8361-810067C3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CCF-A8E8-43B3-92C2-C95CAD4E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270-9036-4103-B067-54700FA0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E69-D988-4753-B81C-5CE06098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FC48-D0BA-451C-9FCA-D4727295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5758-047A-45C5-8F77-77C5B844E31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Alfred_Werne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>
            <a:off x="460440" y="777960"/>
            <a:ext cx="822168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9640" y="475920"/>
            <a:ext cx="79185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2400" spc="-1" strike="noStrike">
                <a:solidFill>
                  <a:srgbClr val="262699"/>
                </a:solidFill>
                <a:latin typeface="Times New Roman"/>
              </a:rPr>
              <a:t>Factores que determinan el índice de coordin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262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262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62699"/>
                </a:solidFill>
                <a:latin typeface="Times New Roman"/>
              </a:rPr>
              <a:t>Coordinación Ba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1.- Metales no muy voluminosos (1ª serie de transi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2.- Ligandos volumin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3.- Ligandos blandos y metales en bajo estado de ox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4.- Contraiones con poca capacidad coordinante (NO</a:t>
            </a:r>
            <a:r>
              <a:rPr b="0" lang="es-CL" sz="2000" spc="-1" strike="noStrike" baseline="-25000">
                <a:solidFill>
                  <a:srgbClr val="262699"/>
                </a:solidFill>
                <a:latin typeface="Times New Roman"/>
              </a:rPr>
              <a:t>3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0" lang="es-CL" sz="2000" spc="-1" strike="noStrike" baseline="30000">
                <a:solidFill>
                  <a:srgbClr val="262699"/>
                </a:solidFill>
                <a:latin typeface="Times New Roman"/>
              </a:rPr>
              <a:t>-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, ClO</a:t>
            </a:r>
            <a:r>
              <a:rPr b="0" lang="es-CL" sz="2000" spc="-1" strike="noStrike" baseline="-25000">
                <a:solidFill>
                  <a:srgbClr val="262699"/>
                </a:solidFill>
                <a:latin typeface="Times New Roman"/>
              </a:rPr>
              <a:t>4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0" lang="es-CL" sz="2000" spc="-1" strike="noStrike" baseline="30000">
                <a:solidFill>
                  <a:srgbClr val="262699"/>
                </a:solidFill>
                <a:latin typeface="Times New Roman"/>
              </a:rPr>
              <a:t>-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,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CF</a:t>
            </a:r>
            <a:r>
              <a:rPr b="0" lang="es-CL" sz="2000" spc="-1" strike="noStrike" baseline="-25000">
                <a:solidFill>
                  <a:srgbClr val="262699"/>
                </a:solidFill>
                <a:latin typeface="Times New Roman"/>
              </a:rPr>
              <a:t>3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SO</a:t>
            </a:r>
            <a:r>
              <a:rPr b="0" lang="es-CL" sz="2000" spc="-1" strike="noStrike" baseline="-25000">
                <a:solidFill>
                  <a:srgbClr val="262699"/>
                </a:solidFill>
                <a:latin typeface="Times New Roman"/>
              </a:rPr>
              <a:t>3</a:t>
            </a:r>
            <a:r>
              <a:rPr b="0" lang="es-CL" sz="2000" spc="-1" strike="noStrike" baseline="30000">
                <a:solidFill>
                  <a:srgbClr val="262699"/>
                </a:solidFill>
                <a:latin typeface="Times New Roman"/>
              </a:rPr>
              <a:t>-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, BF</a:t>
            </a:r>
            <a:r>
              <a:rPr b="0" lang="es-CL" sz="2000" spc="-1" strike="noStrike" baseline="-25000">
                <a:solidFill>
                  <a:srgbClr val="262699"/>
                </a:solidFill>
                <a:latin typeface="Times New Roman"/>
              </a:rPr>
              <a:t>4</a:t>
            </a:r>
            <a:r>
              <a:rPr b="0" lang="es-CL" sz="2000" spc="-1" strike="noStrike" baseline="30000">
                <a:solidFill>
                  <a:srgbClr val="262699"/>
                </a:solidFill>
                <a:latin typeface="Times New Roman"/>
              </a:rPr>
              <a:t>-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, PF</a:t>
            </a:r>
            <a:r>
              <a:rPr b="0" lang="es-CL" sz="2000" spc="-1" strike="noStrike" baseline="-25000">
                <a:solidFill>
                  <a:srgbClr val="262699"/>
                </a:solidFill>
                <a:latin typeface="Times New Roman"/>
              </a:rPr>
              <a:t>6</a:t>
            </a:r>
            <a:r>
              <a:rPr b="0" lang="es-CL" sz="2000" spc="-1" strike="noStrike" baseline="30000">
                <a:solidFill>
                  <a:srgbClr val="262699"/>
                </a:solidFill>
                <a:latin typeface="Times New Roman"/>
              </a:rPr>
              <a:t>-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262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62699"/>
                </a:solidFill>
                <a:latin typeface="Times New Roman"/>
              </a:rPr>
              <a:t>Coordinación al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1.- Metales grandes (2ª y 3ª series de transición, lantánidos, actín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2.- Ligandos poco volumin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3.- Alto estado de oxidación y ligandos dur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eoría de Pea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412640"/>
            <a:ext cx="40989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ase bl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  ligante con  átomo donante c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evada polariz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baja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ácilmente oxi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ase dur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  ligante con  átomo donante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co  polariz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lta 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difícil ox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413000"/>
            <a:ext cx="431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cido d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etal con pequeño 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evado estado de ox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ē externos poco  exci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cido Bl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etal  con gran 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bajo estado de ox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ē externos fácilmente exci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4 CuadroTexto"/>
          <p:cNvSpPr/>
          <p:nvPr/>
        </p:nvSpPr>
        <p:spPr>
          <a:xfrm>
            <a:off x="1116000" y="5877000"/>
            <a:ext cx="7272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-BD  : enlaces i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B_BB  : Enlaces co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63092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Número de coordinación - Forma  ge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8135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Times New Roman"/>
              </a:rPr>
              <a:t>Lineal L – M – L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tiones +1  con configuración  d10 (grupo 11 y Hg(II). Son poco estables con tendencia a pasar a números de coordinación superiores en sus reacciones con los propios ligant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Ag(NH3)2]+ [CuCl2]-  [Hg(CN)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Times New Roman"/>
              </a:rPr>
              <a:t>Tetraédr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etales con configuración de gas noble d0,d10 ocomplejos de bajo spin Co(II) d7 Ligandos grandes, y  (iones haluro) : Be(II), Zn(II), Co(II).  [CoCl4]2-    [Zn(NH3)4]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993300"/>
                </a:solidFill>
                <a:latin typeface="Times New Roman"/>
              </a:rPr>
              <a:t>Cuadrada pl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iones d8 (Ni(II), Pt(II), Pd(II), Au(III))  y Cu(II) son los más favorecidos para esta geometría con ligandos que no sean ni demasiado pequeños ni demasiado grandes.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[Ni(CN)4]2-,</a:t>
            </a:r>
            <a:r>
              <a:rPr b="0" lang="fr-FR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[Pt(NH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][AuC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fr-FR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11280" y="549360"/>
            <a:ext cx="77724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00438"/>
                </a:solidFill>
                <a:latin typeface="Times New Roman"/>
              </a:rPr>
              <a:t>Coordinación 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a00438"/>
                </a:solidFill>
                <a:latin typeface="Times New Roman"/>
              </a:rPr>
              <a:t>Bipirámide trig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vorecida para iones con configuraciones 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1 ,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2 ,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 3 ,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 4 ,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8  ,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a00438"/>
                </a:solidFill>
                <a:latin typeface="Times New Roman"/>
              </a:rPr>
              <a:t>Pirámide de base cuad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vorecida para configuraciones 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de bajo sp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a00438"/>
                </a:solidFill>
                <a:latin typeface="Times New Roman"/>
              </a:rPr>
              <a:t>Existe pequeña diferencia entre ellas  , por lo tanto los complejos adoptan una geometría intermedia entre el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00438"/>
                </a:solidFill>
                <a:latin typeface="Times New Roman"/>
              </a:rPr>
              <a:t>Octaéd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la forma geométrica más estable y abundante en los complejos de metal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 transición y con ligandos monoden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la geometría exclusiva de los compuestos de Cr(III) y Co(II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8000"/>
                </a:solidFill>
                <a:latin typeface="Times New Roman"/>
              </a:rPr>
              <a:t>TIPOS DE LIG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55510" t="53857" r="0" b="0"/>
          <a:stretch/>
        </p:blipFill>
        <p:spPr>
          <a:xfrm>
            <a:off x="5651640" y="5373720"/>
            <a:ext cx="1153800" cy="1197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187280" y="1628640"/>
            <a:ext cx="52563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</a:rPr>
              <a:t>Lig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gantes neutros : H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gantes aniónicos: Cl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gantes catiónicos: NO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042920" y="4149720"/>
            <a:ext cx="48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</a:rPr>
              <a:t>Lig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gantes Monodentados   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antes polidentados  o quelato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785880" y="1557360"/>
          <a:ext cx="7283520" cy="4379760"/>
        </p:xfrm>
        <a:graphic>
          <a:graphicData uri="http://schemas.openxmlformats.org/drawingml/2006/table">
            <a:tbl>
              <a:tblPr/>
              <a:tblGrid>
                <a:gridCol w="2057400"/>
                <a:gridCol w="1584360"/>
                <a:gridCol w="1820880"/>
                <a:gridCol w="1820880"/>
              </a:tblGrid>
              <a:tr h="6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a00438"/>
                          </a:solidFill>
                          <a:latin typeface="Arial"/>
                        </a:rPr>
                        <a:t>    </a:t>
                      </a:r>
                      <a:r>
                        <a:rPr b="0" lang="es-ES" sz="2800" spc="-1" strike="noStrike">
                          <a:solidFill>
                            <a:srgbClr val="a00438"/>
                          </a:solidFill>
                          <a:latin typeface="Arial"/>
                        </a:rPr>
                        <a:t>Lig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a00438"/>
                          </a:solidFill>
                          <a:latin typeface="Arial"/>
                        </a:rPr>
                        <a:t>Neu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a00438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2800" spc="-1" strike="noStrike">
                          <a:solidFill>
                            <a:srgbClr val="a00438"/>
                          </a:solidFill>
                          <a:latin typeface="Arial"/>
                        </a:rPr>
                        <a:t>Lig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a00438"/>
                          </a:solidFill>
                          <a:latin typeface="Arial"/>
                        </a:rPr>
                        <a:t>anión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o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ilam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rox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s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41"/>
          <p:cNvSpPr/>
          <p:nvPr/>
        </p:nvSpPr>
        <p:spPr>
          <a:xfrm>
            <a:off x="2556000" y="549360"/>
            <a:ext cx="55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00438"/>
                </a:solidFill>
                <a:latin typeface="Arial"/>
              </a:rPr>
              <a:t>LIGANTES     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a00438"/>
                </a:solidFill>
                <a:latin typeface="Times New Roman"/>
              </a:rPr>
              <a:t>Tipos de Ligantes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82600" y="1413000"/>
            <a:ext cx="68454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3128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8000"/>
                </a:solidFill>
                <a:latin typeface="Times New Roman"/>
              </a:rPr>
              <a:t>Tipos de ligantes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969840" y="1341360"/>
            <a:ext cx="69138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312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igantes polident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116000" y="1981080"/>
            <a:ext cx="6550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00"/>
                </a:solidFill>
                <a:latin typeface="Times New Roman"/>
              </a:rPr>
              <a:t>Compuestos de coordin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Alfred Wern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2060640"/>
            <a:ext cx="2095200" cy="2619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668600" y="5084640"/>
            <a:ext cx="5790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FRED WERNER (PREMIO NOBEL EN QUIMICA INORGANICA 1913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774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NOMENCLATURA DE COMPLEJOS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30200" y="1413000"/>
            <a:ext cx="7993080" cy="48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.Si el complejo es un anión o catión se nombrarán en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mismo orden que en las sales: primero el anión y después el cat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Co(N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C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cloruro de haxaamincobalto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PtC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   Diamindicloroplatino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i el complejo es neutro o catiónico, el nombre del átomo central no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modif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Co(N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  triamintrinitrocobalto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Cr(N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(N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itrato de hexamincromo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7840" y="189000"/>
          <a:ext cx="8497800" cy="79200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28080">
                      <a:solidFill>
                        <a:srgbClr val="3333cc"/>
                      </a:solidFill>
                    </a:lnT>
                    <a:lnB w="280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31280" y="476280"/>
            <a:ext cx="8317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i el complejo es un anión, el nombre del átomo central termina    en  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ato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Fe(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trioxalato ferrato 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Pt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tetrayodo platinato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Co(CN)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H]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pentaciano hidroxo cobaltato 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NOMBRE DE LOS LIG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Los ligantes neutros reciben el mismo nombre que su  molécula, los ligantes negativos tienen la terminación </a:t>
            </a:r>
            <a:r>
              <a:rPr b="1" lang="es-ES" sz="1800" spc="-1" strike="noStrike" u="sng">
                <a:solidFill>
                  <a:srgbClr val="a00438"/>
                </a:solidFill>
                <a:uFillTx/>
                <a:latin typeface="Times New Roman"/>
              </a:rPr>
              <a:t>o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 y los ligantes positivos tiene la terminación </a:t>
            </a:r>
            <a:r>
              <a:rPr b="1" lang="es-ES" sz="1800" spc="-1" strike="noStrike" u="sng">
                <a:solidFill>
                  <a:srgbClr val="a00438"/>
                </a:solidFill>
                <a:uFillTx/>
                <a:latin typeface="Times New Roman"/>
              </a:rPr>
              <a:t>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rifenilfosf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O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Ace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Hidraz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41080" y="549360"/>
            <a:ext cx="77756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Los ligantes  se citan por orden alfabético, sin tener en cuenta en esta  ordenación los prefijos nume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PtCl(N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  (S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  Sulfato de triaminclorodinitroplatino (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CrB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)]  tetrabromo(etilendiamina)cromato(III) de a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6.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Prefijos numé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ara ligantes simples        :  di, tri , tetra, penta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ara ligantes complejos   : bis, tris, tetraquis, pentaquis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, trialquilfosfi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[Al(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 trisoxalato aluminato de potas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CoC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 N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nitrato de dicloro bis (etilendiamino)cobalto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7400" y="907560"/>
            <a:ext cx="77709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. Grupos puent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 nombre de los ligantes que unen dos centros metálicos va precedido por la letra griega </a:t>
            </a:r>
            <a:r>
              <a:rPr b="0" lang="el-GR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μ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ulfato de </a:t>
            </a:r>
            <a:r>
              <a:rPr b="0" lang="el-GR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μ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dihidroxobis(tetraacuohierro(III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itrato  de </a:t>
            </a:r>
            <a:r>
              <a:rPr b="0" lang="el-GR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μ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amido- </a:t>
            </a:r>
            <a:r>
              <a:rPr b="0" lang="el-GR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μ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hidroxobis(tetraaminocobalto(III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22"/>
          <p:cNvGraphicFramePr/>
          <p:nvPr/>
        </p:nvGraphicFramePr>
        <p:xfrm>
          <a:off x="2627280" y="1916280"/>
          <a:ext cx="299232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16280"/>
                    <a:ext cx="29923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Line 4"/>
          <p:cNvSpPr/>
          <p:nvPr/>
        </p:nvSpPr>
        <p:spPr>
          <a:xfrm>
            <a:off x="2771640" y="3429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270036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916360" y="5229360"/>
            <a:ext cx="1079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23"/>
          <p:cNvGraphicFramePr/>
          <p:nvPr/>
        </p:nvGraphicFramePr>
        <p:xfrm>
          <a:off x="2268360" y="3860640"/>
          <a:ext cx="31896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860640"/>
                    <a:ext cx="31896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30360" y="981000"/>
            <a:ext cx="855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Atomos de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[Cr(NCS)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  hexaisocianato-N-cromato (III) de amo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[Pt (SCN)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 hexatiocianato-S-platinato(IV) de amonio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SCN tiocianato     -N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nitro        -CN c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NCS isocianato     -ONO nitrito      - NC isoc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30200" y="260280"/>
          <a:ext cx="7993080" cy="583272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58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28080">
                      <a:solidFill>
                        <a:srgbClr val="3333cc"/>
                      </a:solidFill>
                    </a:lnT>
                    <a:lnB w="280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41080" y="836640"/>
            <a:ext cx="7918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ESTADO DE OXID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radicales derivados de los hidrocarburos se consideran negativos a la hora de calcular el número de oxidación, pero se nombran sin la terminación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 ocasiones se representan los ligandos mediante las abreviatur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y: ciclohexil ;  Ph: fenil ;  Me: metil ;  Et: etil ; En: etilendia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nombres de los ligandos neutros permanecen inalterados, excepto 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,(aqua) y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ami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ligandos NO, NS, CO y CS (nitrosilo o nitrosil, tionitrosilo o tionitrosil, carbonilo o carbonil y tiocarbonilo o tiocarbonil) se consideran neutros al calcular el número de oxid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41440" y="907560"/>
            <a:ext cx="79912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a00438"/>
                </a:solidFill>
                <a:latin typeface="Times New Roman"/>
              </a:rPr>
              <a:t>En la Fórm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 las fórmula primero se escribe el catión y después el anión. Tanto el anión como el catión , o los dos, pueden ser compuestos de coordin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a fórmula del ion o molécula complejos se encierra entre corchetes.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cribe primero el símbolo del ion o átomo central y a continuación los ligandos en el siguiente or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º) Ligandos i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º) Ligandos neu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jemp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Co(en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bpy)]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+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on bipiridina bis(etilendiamina) cobalto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PtCl2(py)(N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]    amino dicloro  piridina platino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a[PtBrCl(N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(N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] aminobromocloronitroplatinato(II) de so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5280" y="549360"/>
          <a:ext cx="8353440" cy="597528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97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990000"/>
                      </a:solidFill>
                    </a:lnL>
                    <a:lnR w="28080">
                      <a:solidFill>
                        <a:srgbClr val="990000"/>
                      </a:solidFill>
                    </a:lnR>
                    <a:lnT w="28080">
                      <a:solidFill>
                        <a:srgbClr val="990000"/>
                      </a:solidFill>
                    </a:lnT>
                    <a:lnB w="280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89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800000"/>
                </a:solidFill>
                <a:latin typeface="Times New Roman"/>
              </a:rPr>
              <a:t>complejos catió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2"/>
          <a:stretch/>
        </p:blipFill>
        <p:spPr>
          <a:xfrm>
            <a:off x="6553080" y="297180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1187280" y="1052640"/>
            <a:ext cx="669780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Co(NH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tetra aminodicloro cobalto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Cr (en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Bis etilendiaminodiyodo cromo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[Pt(H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](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nitrato de tetra acuo platino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116000" y="2987640"/>
            <a:ext cx="655308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a00438"/>
                </a:solidFill>
                <a:latin typeface="Times New Roman"/>
              </a:rPr>
              <a:t>Complejos Anión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e(C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trioxalato ferrato 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Pt I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tetrayodo platinato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Co(CN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H]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pentaciano hidroxo cobaltato 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4920" y="47592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a"/>
              </a:buClr>
              <a:buFont typeface="Helvetica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a"/>
                </a:solidFill>
                <a:latin typeface="Helvetica-Bold"/>
              </a:rPr>
              <a:t>Perspectiva histó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finales del s. XIX las teorías no podían explicar ciertos comportamien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uestos con misma fórmula con propiedades difer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cd00cd"/>
                </a:solidFill>
                <a:latin typeface="Helvetica-Bold"/>
              </a:rPr>
              <a:t>viol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33cd33"/>
                </a:solidFill>
                <a:latin typeface="Helvetica-Bold"/>
              </a:rPr>
              <a:t>ver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cd9a"/>
                </a:solidFill>
                <a:latin typeface="Helvetica-Bold"/>
              </a:rPr>
              <a:t>Púrp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66"/>
                </a:solidFill>
                <a:latin typeface="Helvetica-Bold"/>
              </a:rPr>
              <a:t>amari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Font typeface="Helvetica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te reactividad con AgN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+ AgN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(exc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un equivalente de AgCl     ;      [CoCl(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]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+ AgN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(exc)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s equivalentes de AgCl  ;     [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]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+ AgN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(exc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es equivalentes de AgCl  ;    [Co(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]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16 Conector recto de flecha"/>
          <p:cNvCxnSpPr/>
          <p:nvPr/>
        </p:nvCxnSpPr>
        <p:spPr>
          <a:xfrm>
            <a:off x="539640" y="38602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" name="19 Conector recto"/>
          <p:cNvSpPr/>
          <p:nvPr/>
        </p:nvSpPr>
        <p:spPr>
          <a:xfrm>
            <a:off x="539640" y="184464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24 Conector recto"/>
          <p:cNvSpPr/>
          <p:nvPr/>
        </p:nvSpPr>
        <p:spPr>
          <a:xfrm>
            <a:off x="539640" y="184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25 CuadroTexto"/>
          <p:cNvSpPr/>
          <p:nvPr/>
        </p:nvSpPr>
        <p:spPr>
          <a:xfrm>
            <a:off x="684360" y="5605560"/>
            <a:ext cx="7775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fred Werner, 1892 Propuso dos tipos de val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imaria: estado de oxi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cundaria: índice de co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14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uestos de coordin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777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7989840" cy="41148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Compuesto de coordinación</a:t>
            </a: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sultante de una reacción ácido base de Lewis en la que se forma un enlace coordinado entre una  molécula neutra o aniónica y un catión metá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Compuesto organometálico</a:t>
            </a: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puesto de coordinación en el que se forman enlaces carbono-me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00000" y="5013360"/>
            <a:ext cx="34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gante : base de Lew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tal    : ácido de Lew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695840" y="44816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coordinacion-3"/>
          <p:cNvPicPr/>
          <p:nvPr/>
        </p:nvPicPr>
        <p:blipFill>
          <a:blip r:embed="rId1"/>
          <a:stretch/>
        </p:blipFill>
        <p:spPr>
          <a:xfrm>
            <a:off x="2556000" y="1773360"/>
            <a:ext cx="324000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2 Rectángulo redondeado"/>
          <p:cNvSpPr/>
          <p:nvPr/>
        </p:nvSpPr>
        <p:spPr>
          <a:xfrm>
            <a:off x="684360" y="5411880"/>
            <a:ext cx="3527280" cy="1185840"/>
          </a:xfrm>
          <a:prstGeom prst="roundRect">
            <a:avLst>
              <a:gd name="adj" fmla="val 16667"/>
            </a:avLst>
          </a:prstGeom>
          <a:solidFill>
            <a:srgbClr val="ecec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0 Rectángulo redondeado"/>
          <p:cNvSpPr/>
          <p:nvPr/>
        </p:nvSpPr>
        <p:spPr>
          <a:xfrm>
            <a:off x="4859280" y="4119480"/>
            <a:ext cx="3097440" cy="2189160"/>
          </a:xfrm>
          <a:prstGeom prst="roundRect">
            <a:avLst>
              <a:gd name="adj" fmla="val 16667"/>
            </a:avLst>
          </a:prstGeom>
          <a:solidFill>
            <a:srgbClr val="fff6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9 Rectángulo redondeado"/>
          <p:cNvSpPr/>
          <p:nvPr/>
        </p:nvSpPr>
        <p:spPr>
          <a:xfrm>
            <a:off x="1347840" y="3608280"/>
            <a:ext cx="2124000" cy="137952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ddf3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98320" y="2850840"/>
            <a:ext cx="168588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Hemoglob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384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plicaciones de los compuestos de coord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901800" y="1413000"/>
            <a:ext cx="2879640" cy="1427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5052960" y="1413000"/>
            <a:ext cx="2255760" cy="1855800"/>
          </a:xfrm>
          <a:prstGeom prst="rect">
            <a:avLst/>
          </a:prstGeom>
          <a:ln w="0">
            <a:noFill/>
          </a:ln>
        </p:spPr>
      </p:pic>
      <p:sp>
        <p:nvSpPr>
          <p:cNvPr id="63" name="5 CuadroTexto"/>
          <p:cNvSpPr/>
          <p:nvPr/>
        </p:nvSpPr>
        <p:spPr>
          <a:xfrm>
            <a:off x="5052960" y="3270240"/>
            <a:ext cx="25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balamina (vitamina B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1455840" y="3763800"/>
            <a:ext cx="1908000" cy="808200"/>
          </a:xfrm>
          <a:prstGeom prst="rect">
            <a:avLst/>
          </a:prstGeom>
          <a:ln w="0">
            <a:noFill/>
          </a:ln>
        </p:spPr>
      </p:pic>
      <p:sp>
        <p:nvSpPr>
          <p:cNvPr id="65" name="7 CuadroTexto"/>
          <p:cNvSpPr/>
          <p:nvPr/>
        </p:nvSpPr>
        <p:spPr>
          <a:xfrm>
            <a:off x="1692360" y="4572000"/>
            <a:ext cx="136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isplat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8 Rectángulo"/>
          <p:cNvSpPr/>
          <p:nvPr/>
        </p:nvSpPr>
        <p:spPr>
          <a:xfrm>
            <a:off x="4859280" y="5657760"/>
            <a:ext cx="30974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gentes quelantes de acción terapéutica f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 metales pesados ( sal sódica del ED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5403960" y="4354560"/>
            <a:ext cx="2009520" cy="1276200"/>
          </a:xfrm>
          <a:prstGeom prst="rect">
            <a:avLst/>
          </a:prstGeom>
          <a:ln w="0">
            <a:noFill/>
          </a:ln>
        </p:spPr>
      </p:pic>
      <p:sp>
        <p:nvSpPr>
          <p:cNvPr id="68" name="11 Rectángulo"/>
          <p:cNvSpPr/>
          <p:nvPr/>
        </p:nvSpPr>
        <p:spPr>
          <a:xfrm>
            <a:off x="844920" y="5411880"/>
            <a:ext cx="31298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xtracción de metales precio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a[Au(CN)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esfera de coordinacion"/>
          <p:cNvPicPr/>
          <p:nvPr/>
        </p:nvPicPr>
        <p:blipFill>
          <a:blip r:embed="rId1"/>
          <a:stretch/>
        </p:blipFill>
        <p:spPr>
          <a:xfrm>
            <a:off x="4788000" y="1932120"/>
            <a:ext cx="3743280" cy="29937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468360" y="1484280"/>
            <a:ext cx="8064360" cy="48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Número de coord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Esfera de coord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Carga del comple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Complejos neutros  : [ Pt(NH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Complejos aniónicos : [ Fe(CN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4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Complejos catiónicos : [ Co(NH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050920" y="692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COMPUESTO DE COORDIN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08000" y="692280"/>
          <a:ext cx="5688360" cy="576000"/>
        </p:xfrm>
        <a:graphic>
          <a:graphicData uri="http://schemas.openxmlformats.org/drawingml/2006/table">
            <a:tbl>
              <a:tblPr/>
              <a:tblGrid>
                <a:gridCol w="56883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8028000" y="1700280"/>
          <a:ext cx="208080" cy="5173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835280" y="476280"/>
          <a:ext cx="5616360" cy="720720"/>
        </p:xfrm>
        <a:graphic>
          <a:graphicData uri="http://schemas.openxmlformats.org/drawingml/2006/table">
            <a:tbl>
              <a:tblPr/>
              <a:tblGrid>
                <a:gridCol w="5616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95280" y="476280"/>
          <a:ext cx="8424720" cy="590544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590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"/>
          <p:cNvPicPr/>
          <p:nvPr/>
        </p:nvPicPr>
        <p:blipFill>
          <a:blip r:embed="rId2"/>
          <a:stretch/>
        </p:blipFill>
        <p:spPr>
          <a:xfrm>
            <a:off x="901800" y="1268280"/>
            <a:ext cx="7051680" cy="331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"/>
          <p:cNvPicPr/>
          <p:nvPr/>
        </p:nvPicPr>
        <p:blipFill>
          <a:blip r:embed="rId3"/>
          <a:stretch/>
        </p:blipFill>
        <p:spPr>
          <a:xfrm>
            <a:off x="900000" y="4686480"/>
            <a:ext cx="3527640" cy="1314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2"/>
          <p:cNvSpPr/>
          <p:nvPr/>
        </p:nvSpPr>
        <p:spPr>
          <a:xfrm>
            <a:off x="3059280" y="260280"/>
            <a:ext cx="3960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8000"/>
                </a:solidFill>
                <a:latin typeface="Times New Roman"/>
              </a:rPr>
              <a:t>GEOMETRIA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11280" y="1268280"/>
          <a:ext cx="7993080" cy="511344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51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921800" cy="731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Número de coordinación - Geomet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4356000" y="1757520"/>
            <a:ext cx="4103640" cy="35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468360" y="1628640"/>
          <a:ext cx="3672000" cy="4646880"/>
        </p:xfrm>
        <a:graphic>
          <a:graphicData uri="http://schemas.openxmlformats.org/drawingml/2006/table">
            <a:tbl>
              <a:tblPr/>
              <a:tblGrid>
                <a:gridCol w="880920"/>
                <a:gridCol w="882720"/>
                <a:gridCol w="878040"/>
                <a:gridCol w="1030320"/>
              </a:tblGrid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u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g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u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l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3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Sc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3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3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Fe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Fe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3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3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Ni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u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3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u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Pt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4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Zn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Pt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a Maria Atria</dc:creator>
  <dc:description/>
  <dc:language>en-US</dc:language>
  <cp:lastModifiedBy>Ana Maria Atria</cp:lastModifiedBy>
  <dcterms:modified xsi:type="dcterms:W3CDTF">2011-10-26T17:12:20Z</dcterms:modified>
  <cp:revision>45</cp:revision>
  <dc:subject/>
  <dc:title>PowerPoint Presentation</dc:title>
</cp:coreProperties>
</file>