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2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784-5987-4371-93A5-14F3B738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326-676E-4950-AB80-5A21DEEB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38D-23D8-4E5A-8B1A-9D1CA0E7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095-69AA-4EFF-BE78-8D58D016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D10-0E77-4091-ABA0-F22C70A8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7B4-3C8A-4A1C-B2B8-36E1FF4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EDF-0208-4BC1-9A8D-FDED8F91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86E-D0C6-43EB-B99E-2A7E73F9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023-41C1-4A65-BB85-B4C32D4C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801-EBAC-4184-A682-0D8BD736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40B-EBAE-4AA2-B447-7EE94520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22E-BD69-44C6-8CA6-9389262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1345-8380-497B-B987-2439AA867F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Alfred_Wern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460440" y="777960"/>
            <a:ext cx="82216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475920"/>
            <a:ext cx="79185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400" spc="-1" strike="noStrike">
                <a:solidFill>
                  <a:srgbClr val="262699"/>
                </a:solidFill>
                <a:latin typeface="Times New Roman"/>
              </a:rPr>
              <a:t>Factores que determinan el índice de coordin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62699"/>
                </a:solidFill>
                <a:latin typeface="Times New Roman"/>
              </a:rPr>
              <a:t>Coordinación Ba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1.- Metales no muy voluminosos (1ª serie de transi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2.- Ligandos volumin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3.- Ligandos blandos y metales en baj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4.- Contraiones con poca capacidad coordinante (N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Cl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4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C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S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B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4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P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6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62699"/>
                </a:solidFill>
                <a:latin typeface="Times New Roman"/>
              </a:rPr>
              <a:t>Coordinación al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1.- Metales grandes (2ª y 3ª series de transición, lantánidos, actín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2.- Ligandos poco volumin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3.- Alto estado de oxidación y ligandos dur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eoría de Pea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412640"/>
            <a:ext cx="4098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bl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  ligante con  átomo donante c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evada polariz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aj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ácilmente oxi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u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  ligante con  átomo donante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co  polariz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ta 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difícil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413000"/>
            <a:ext cx="431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cido d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tal con pequeño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evad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ē externos poco  exci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cido Bl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tal  con gran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aj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ē externos fácilmente exci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4 CuadroTexto"/>
          <p:cNvSpPr/>
          <p:nvPr/>
        </p:nvSpPr>
        <p:spPr>
          <a:xfrm>
            <a:off x="1116000" y="5877000"/>
            <a:ext cx="727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-BD  : enlaces i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B_BB  : Enlaces co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6309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Número de coordinación - Forma 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8135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Lineal L – M – L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tiones +1  con configuración  d10 (grupo 11 y Hg(II). Son poco estables con tendencia a pasar a números de coordinación superiores en sus reacciones con los propios ligant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Ag(NH3)2]+ [CuCl2]-  [Hg(CN)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Tetraédr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tales con configuración de gas noble d0,d10 ocomplejos de bajo spin Co(II) d7 Ligandos grandes, y  (iones haluro) : Be(II), Zn(II), Co(II).  [CoCl4]2-    [Zn(NH3)4]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Cuadrada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iones d8 (Ni(II), Pt(II), Pd(II), Au(III))  y Cu(II) son los más favorecidos para esta geometría con ligandos que no sean ni demasiado pequeños ni demasiado grandes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[Ni(CN)4]2-,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[Pt(N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[Au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11280" y="549360"/>
            <a:ext cx="77724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00438"/>
                </a:solidFill>
                <a:latin typeface="Times New Roman"/>
              </a:rPr>
              <a:t>Coordinación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a00438"/>
                </a:solidFill>
                <a:latin typeface="Times New Roman"/>
              </a:rPr>
              <a:t>Bipirámide trig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vorecida para iones con configuraciones 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1 ,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2 ,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 3 ,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 4 ,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8  ,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00438"/>
                </a:solidFill>
                <a:latin typeface="Times New Roman"/>
              </a:rPr>
              <a:t>Pirámide de base 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vorecida para configuraciones 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de bajo s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a00438"/>
                </a:solidFill>
                <a:latin typeface="Times New Roman"/>
              </a:rPr>
              <a:t>Existe pequeña diferencia entre ellas  , por lo tanto los complejos adoptan una geometría intermedia entre el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00438"/>
                </a:solidFill>
                <a:latin typeface="Times New Roman"/>
              </a:rPr>
              <a:t>Octaéd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la forma geométrica más estable y abundante en los complejos de met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 transición y con ligandos monoden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la geometría exclusiva de los compuestos de Cr(III) y Co(II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8000"/>
                </a:solidFill>
                <a:latin typeface="Times New Roman"/>
              </a:rPr>
              <a:t>TIPOS DE LIG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55510" t="53857" r="0" b="0"/>
          <a:stretch/>
        </p:blipFill>
        <p:spPr>
          <a:xfrm>
            <a:off x="5651640" y="5373720"/>
            <a:ext cx="1153800" cy="1197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187280" y="1628640"/>
            <a:ext cx="5256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Lig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neutros : 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aniónicos: Cl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catiónicos: NO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42920" y="4149720"/>
            <a:ext cx="48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Lig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Monodentados   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ntes polidentados  o quelato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785880" y="1557360"/>
          <a:ext cx="7283520" cy="4379760"/>
        </p:xfrm>
        <a:graphic>
          <a:graphicData uri="http://schemas.openxmlformats.org/drawingml/2006/table">
            <a:tbl>
              <a:tblPr/>
              <a:tblGrid>
                <a:gridCol w="2057400"/>
                <a:gridCol w="1584360"/>
                <a:gridCol w="1820880"/>
                <a:gridCol w="1820880"/>
              </a:tblGrid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Lig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Neu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Lig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anión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ilam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ox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s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41"/>
          <p:cNvSpPr/>
          <p:nvPr/>
        </p:nvSpPr>
        <p:spPr>
          <a:xfrm>
            <a:off x="2556000" y="54936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00438"/>
                </a:solidFill>
                <a:latin typeface="Arial"/>
              </a:rPr>
              <a:t>LIGANTES    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00438"/>
                </a:solidFill>
                <a:latin typeface="Times New Roman"/>
              </a:rPr>
              <a:t>Tipos de Ligante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82600" y="1413000"/>
            <a:ext cx="68454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312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8000"/>
                </a:solidFill>
                <a:latin typeface="Times New Roman"/>
              </a:rPr>
              <a:t>Tipos de ligante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69840" y="1341360"/>
            <a:ext cx="6913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312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igantes poliden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16000" y="1981080"/>
            <a:ext cx="655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00"/>
                </a:solidFill>
                <a:latin typeface="Times New Roman"/>
              </a:rPr>
              <a:t>Compuestos de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Alfred Wer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060640"/>
            <a:ext cx="2095200" cy="2619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668600" y="5084640"/>
            <a:ext cx="5790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FRED WERNER (PREMIO NOBEL EN QUIMICA INORGANICA 1913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774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NOMENCLATURA DE COMPLEJO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30200" y="1413000"/>
            <a:ext cx="7993080" cy="48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.Si el complejo es un anión o catión se nombrarán en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mismo orden que en las sales: primero el anión y después el ca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C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cloruro de haxaamin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PtC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 Diamindicloroplatino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i el complejo es neutro o catiónico, el nombre del átomo central no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modif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triamintrinitro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r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(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itrato de hexamincrom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7840" y="189000"/>
          <a:ext cx="8497800" cy="79200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31280" y="476280"/>
            <a:ext cx="8317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i el complejo es un anión, el nombre del átomo central termina    en  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ato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Fe(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trioxalato ferr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tetrayodo platinato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Co(CN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H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pentaciano hidroxo cobalt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NOMBRE DE LOS LIG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Los ligantes neutros reciben el mismo nombre que su  molécula, los ligantes negativos tienen la terminación </a:t>
            </a:r>
            <a:r>
              <a:rPr b="1" lang="es-ES" sz="1800" spc="-1" strike="noStrike" u="sng">
                <a:solidFill>
                  <a:srgbClr val="a00438"/>
                </a:solidFill>
                <a:uFillTx/>
                <a:latin typeface="Times New Roman"/>
              </a:rPr>
              <a:t>o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 y los ligantes positivos tiene la terminación </a:t>
            </a:r>
            <a:r>
              <a:rPr b="1" lang="es-ES" sz="1800" spc="-1" strike="noStrike" u="sng">
                <a:solidFill>
                  <a:srgbClr val="a00438"/>
                </a:solidFill>
                <a:uFillTx/>
                <a:latin typeface="Times New Roman"/>
              </a:rPr>
              <a:t>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rifenilfosf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Hidraz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41080" y="549360"/>
            <a:ext cx="7775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os ligantes  se citan por orden alfabético, sin tener en cuenta en esta  ordenación los prefijos nume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PtCl(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(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  Sulfato de triaminclorodinitroplatino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rB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)]  tetrabromo(etilendiamina)cromato(III) de a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6.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Prefijos numé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ligantes simples        :  di, tri , tetra, pent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ligantes complejos   : bis, tris, tetraquis, pentaqui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, trialquilfosf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[Al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trisoxalato aluminato de potas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C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nitrato de dicloro bis (etilendiamino)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7400" y="907560"/>
            <a:ext cx="7770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. Grupos puent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nombre de los ligantes que unen dos centros metálicos va precedido por la letra griega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lfato de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dihidroxobis(tetraacuohierro(III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itrato  de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amido-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hidroxobis(tetraaminocobalto(III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22"/>
          <p:cNvGraphicFramePr/>
          <p:nvPr/>
        </p:nvGraphicFramePr>
        <p:xfrm>
          <a:off x="2627280" y="1916280"/>
          <a:ext cx="29923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29923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Line 4"/>
          <p:cNvSpPr/>
          <p:nvPr/>
        </p:nvSpPr>
        <p:spPr>
          <a:xfrm>
            <a:off x="2771640" y="342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70036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916360" y="5229360"/>
            <a:ext cx="107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23"/>
          <p:cNvGraphicFramePr/>
          <p:nvPr/>
        </p:nvGraphicFramePr>
        <p:xfrm>
          <a:off x="2268360" y="3860640"/>
          <a:ext cx="31896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860640"/>
                    <a:ext cx="31896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30360" y="981000"/>
            <a:ext cx="855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tomos de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Cr(NCS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 hexaisocianato-N-cromato (III) de am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Pt (SCN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hexatiocianato-S-platinato(IV) de amoni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SCN tiocianato     -N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nitro        -CN c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NCS isocianato     -ONO nitrito      - NC isoc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0200" y="260280"/>
          <a:ext cx="7993080" cy="58327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8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41080" y="836640"/>
            <a:ext cx="7918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ESTADO DE OXID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radicales derivados de los hidrocarburos se consideran negativos a la hora de calcular el número de oxidación, pero se nombran sin la termin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ocasiones se representan los ligandos mediante las abreviatu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y: ciclohexil ;  Ph: fenil ;  Me: metil ;  Et: etil ; En: etilendia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nombres de los ligandos neutros permanecen inalterados, excepto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,(aqua) y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am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ligandos NO, NS, CO y CS (nitrosilo o nitrosil, tionitrosilo o tionitrosil, carbonilo o carbonil y tiocarbonilo o tiocarbonil) se consideran neutros al calcular el número de oxid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41440" y="907560"/>
            <a:ext cx="79912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a00438"/>
                </a:solidFill>
                <a:latin typeface="Times New Roman"/>
              </a:rPr>
              <a:t>En la Fó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las fórmula primero se escribe el catión y después el anión. Tanto el anión como el catión , o los dos, pueden ser compuestos de coordin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 fórmula del ion o molécula complejos se encierra entre corchetes.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cribe primero el símbolo del ion o átomo central y a continuación los ligandos en el siguiente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º) Ligandos i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º) Ligandos neu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en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bpy)]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+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on bipiridina bis(etilendiamina) cobalt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Cl2(py)(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]    amino dicloro  piridina platino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[PtBrCl(N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(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] aminobromocloronitroplatinato(II) de so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549360"/>
          <a:ext cx="8353440" cy="597528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9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00"/>
                      </a:solidFill>
                    </a:lnL>
                    <a:lnR w="28080">
                      <a:solidFill>
                        <a:srgbClr val="990000"/>
                      </a:solidFill>
                    </a:lnR>
                    <a:lnT w="28080">
                      <a:solidFill>
                        <a:srgbClr val="990000"/>
                      </a:solidFill>
                    </a:lnT>
                    <a:lnB w="280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89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800000"/>
                </a:solidFill>
                <a:latin typeface="Times New Roman"/>
              </a:rPr>
              <a:t>complejos catió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1187280" y="1052640"/>
            <a:ext cx="66978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Co(NH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tetra aminodicloro cobalt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Cr (en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Bis etilendiaminodiyodo crom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[Pt(H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(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nitrato de tetra acuo platino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116000" y="2987640"/>
            <a:ext cx="65530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a00438"/>
                </a:solidFill>
                <a:latin typeface="Times New Roman"/>
              </a:rPr>
              <a:t>Complejos Anió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e(C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trioxalato ferr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 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tetrayodo platinato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Co(CN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H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pentaciano hidroxo cobalt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492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a"/>
              </a:buClr>
              <a:buFont typeface="Helvetica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a"/>
                </a:solidFill>
                <a:latin typeface="Helvetica-Bold"/>
              </a:rPr>
              <a:t>Perspectiva hist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finales del s. XIX las teorías no podían explicar ciertos comportamien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estos con misma fórmula con propiedades difer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d00cd"/>
                </a:solidFill>
                <a:latin typeface="Helvetica-Bold"/>
              </a:rPr>
              <a:t>vio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cd33"/>
                </a:solidFill>
                <a:latin typeface="Helvetica-Bold"/>
              </a:rPr>
              <a:t>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cd9a"/>
                </a:solidFill>
                <a:latin typeface="Helvetica-Bold"/>
              </a:rPr>
              <a:t>Púrp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66"/>
                </a:solidFill>
                <a:latin typeface="Helvetica-Bold"/>
              </a:rPr>
              <a:t>amar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Helvetica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 reactividad con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n equivalente de AgCl     ;      [CoCl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equivalentes de AgCl  ;     [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es equivalentes de AgCl  ;    [Co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16 Conector recto de flecha"/>
          <p:cNvCxnSpPr/>
          <p:nvPr/>
        </p:nvCxnSpPr>
        <p:spPr>
          <a:xfrm>
            <a:off x="539640" y="3860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19 Conector recto"/>
          <p:cNvSpPr/>
          <p:nvPr/>
        </p:nvSpPr>
        <p:spPr>
          <a:xfrm>
            <a:off x="539640" y="1844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24 Conector recto"/>
          <p:cNvSpPr/>
          <p:nvPr/>
        </p:nvSpPr>
        <p:spPr>
          <a:xfrm>
            <a:off x="539640" y="184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25 CuadroTexto"/>
          <p:cNvSpPr/>
          <p:nvPr/>
        </p:nvSpPr>
        <p:spPr>
          <a:xfrm>
            <a:off x="684360" y="5605560"/>
            <a:ext cx="7775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fred Werner, 1892 Propuso dos tipos de val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imaria: estado de ox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cundaria: índice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14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estos de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777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989840" cy="41148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Compuesto de coordinación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sultante de una reacción ácido base de Lewis en la que se forma un enlace coordinado entre una  molécula neutra o aniónica y un catión metá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Compuesto organometálico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 de coordinación en el que se forman enlaces carbono-me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00000" y="5013360"/>
            <a:ext cx="34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 : base de Lew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tal    : ácido de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95840" y="4481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oordinacion-3"/>
          <p:cNvPicPr/>
          <p:nvPr/>
        </p:nvPicPr>
        <p:blipFill>
          <a:blip r:embed="rId1"/>
          <a:stretch/>
        </p:blipFill>
        <p:spPr>
          <a:xfrm>
            <a:off x="2556000" y="1773360"/>
            <a:ext cx="3240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2 Rectángulo redondeado"/>
          <p:cNvSpPr/>
          <p:nvPr/>
        </p:nvSpPr>
        <p:spPr>
          <a:xfrm>
            <a:off x="684360" y="5411880"/>
            <a:ext cx="3527280" cy="1185840"/>
          </a:xfrm>
          <a:prstGeom prst="roundRect">
            <a:avLst>
              <a:gd name="adj" fmla="val 16667"/>
            </a:avLst>
          </a:prstGeom>
          <a:solidFill>
            <a:srgbClr val="ecec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0 Rectángulo redondeado"/>
          <p:cNvSpPr/>
          <p:nvPr/>
        </p:nvSpPr>
        <p:spPr>
          <a:xfrm>
            <a:off x="4859280" y="4119480"/>
            <a:ext cx="3097440" cy="2189160"/>
          </a:xfrm>
          <a:prstGeom prst="roundRect">
            <a:avLst>
              <a:gd name="adj" fmla="val 16667"/>
            </a:avLst>
          </a:prstGeom>
          <a:solidFill>
            <a:srgbClr val="fff6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9 Rectángulo redondeado"/>
          <p:cNvSpPr/>
          <p:nvPr/>
        </p:nvSpPr>
        <p:spPr>
          <a:xfrm>
            <a:off x="1347840" y="3608280"/>
            <a:ext cx="2124000" cy="137952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ddf3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98320" y="2850840"/>
            <a:ext cx="16858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384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licaciones de los compuestos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01800" y="1413000"/>
            <a:ext cx="2879640" cy="142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052960" y="1413000"/>
            <a:ext cx="2255760" cy="1855800"/>
          </a:xfrm>
          <a:prstGeom prst="rect">
            <a:avLst/>
          </a:prstGeom>
          <a:ln w="0">
            <a:noFill/>
          </a:ln>
        </p:spPr>
      </p:pic>
      <p:sp>
        <p:nvSpPr>
          <p:cNvPr id="63" name="5 CuadroTexto"/>
          <p:cNvSpPr/>
          <p:nvPr/>
        </p:nvSpPr>
        <p:spPr>
          <a:xfrm>
            <a:off x="5052960" y="327024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balamina (vitamina B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1455840" y="3763800"/>
            <a:ext cx="1908000" cy="808200"/>
          </a:xfrm>
          <a:prstGeom prst="rect">
            <a:avLst/>
          </a:prstGeom>
          <a:ln w="0">
            <a:noFill/>
          </a:ln>
        </p:spPr>
      </p:pic>
      <p:sp>
        <p:nvSpPr>
          <p:cNvPr id="65" name="7 CuadroTexto"/>
          <p:cNvSpPr/>
          <p:nvPr/>
        </p:nvSpPr>
        <p:spPr>
          <a:xfrm>
            <a:off x="1692360" y="457200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isplat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8 Rectángulo"/>
          <p:cNvSpPr/>
          <p:nvPr/>
        </p:nvSpPr>
        <p:spPr>
          <a:xfrm>
            <a:off x="4859280" y="5657760"/>
            <a:ext cx="3097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gentes quelantes de acción terapéutica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 metales pesados ( sal sódica del ED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5403960" y="4354560"/>
            <a:ext cx="2009520" cy="1276200"/>
          </a:xfrm>
          <a:prstGeom prst="rect">
            <a:avLst/>
          </a:prstGeom>
          <a:ln w="0">
            <a:noFill/>
          </a:ln>
        </p:spPr>
      </p:pic>
      <p:sp>
        <p:nvSpPr>
          <p:cNvPr id="68" name="11 Rectángulo"/>
          <p:cNvSpPr/>
          <p:nvPr/>
        </p:nvSpPr>
        <p:spPr>
          <a:xfrm>
            <a:off x="844920" y="5411880"/>
            <a:ext cx="31298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xtracción de metales preci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a[Au(CN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esfera de coordinacion"/>
          <p:cNvPicPr/>
          <p:nvPr/>
        </p:nvPicPr>
        <p:blipFill>
          <a:blip r:embed="rId1"/>
          <a:stretch/>
        </p:blipFill>
        <p:spPr>
          <a:xfrm>
            <a:off x="4788000" y="1932120"/>
            <a:ext cx="3743280" cy="2993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68360" y="1484280"/>
            <a:ext cx="8064360" cy="48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Número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Esfera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Carga del compl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neutros  : [ Pt(N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aniónicos : [ Fe(CN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catiónicos : [ Co(N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050920" y="692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COMPUESTO DE COORDIN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08000" y="692280"/>
          <a:ext cx="5688360" cy="57600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028000" y="170028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835280" y="476280"/>
          <a:ext cx="5616360" cy="720720"/>
        </p:xfrm>
        <a:graphic>
          <a:graphicData uri="http://schemas.openxmlformats.org/drawingml/2006/table">
            <a:tbl>
              <a:tblPr/>
              <a:tblGrid>
                <a:gridCol w="5616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95280" y="476280"/>
          <a:ext cx="8424720" cy="59054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590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"/>
          <p:cNvPicPr/>
          <p:nvPr/>
        </p:nvPicPr>
        <p:blipFill>
          <a:blip r:embed="rId2"/>
          <a:stretch/>
        </p:blipFill>
        <p:spPr>
          <a:xfrm>
            <a:off x="901800" y="1268280"/>
            <a:ext cx="7051680" cy="33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tretch/>
        </p:blipFill>
        <p:spPr>
          <a:xfrm>
            <a:off x="900000" y="4686480"/>
            <a:ext cx="3527640" cy="1314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2"/>
          <p:cNvSpPr/>
          <p:nvPr/>
        </p:nvSpPr>
        <p:spPr>
          <a:xfrm>
            <a:off x="3059280" y="260280"/>
            <a:ext cx="396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8000"/>
                </a:solidFill>
                <a:latin typeface="Times New Roman"/>
              </a:rPr>
              <a:t>GEOMETRI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11280" y="1268280"/>
          <a:ext cx="7993080" cy="5113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921800" cy="731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Número de coordinación - Geomet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356000" y="1757520"/>
            <a:ext cx="4103640" cy="35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68360" y="1628640"/>
          <a:ext cx="3672000" cy="4646880"/>
        </p:xfrm>
        <a:graphic>
          <a:graphicData uri="http://schemas.openxmlformats.org/drawingml/2006/table">
            <a:tbl>
              <a:tblPr/>
              <a:tblGrid>
                <a:gridCol w="880920"/>
                <a:gridCol w="882720"/>
                <a:gridCol w="878040"/>
                <a:gridCol w="1030320"/>
              </a:tblGrid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g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c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Ni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t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Zn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t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a Maria Atria</dc:creator>
  <dc:description/>
  <dc:language>en-US</dc:language>
  <cp:lastModifiedBy>Ana Maria Atria</cp:lastModifiedBy>
  <dcterms:modified xsi:type="dcterms:W3CDTF">2011-10-26T17:12:20Z</dcterms:modified>
  <cp:revision>45</cp:revision>
  <dc:subject/>
  <dc:title>PowerPoint Presentation</dc:title>
</cp:coreProperties>
</file>