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1E1-44E2-4A5A-AA8A-7F0E15E7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056-6DA7-4F17-AD2B-75F4A065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4CB-4DFA-44AD-9925-0A1022E5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4AE-FCDE-4850-A583-520EC1F0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1ED-C90D-4F21-A640-EE1591AF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A0A-B0B0-49E6-AFA5-617F1BDA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367-9D4A-4575-8227-3762AE5A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E64-BF15-40BD-8AF5-C224C5C7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ADC-37E5-468C-8115-0CFCF23B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5B1-AF8D-4352-9F48-937F91A2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3C1-79E8-49CE-9DFC-1067625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3F5-AF45-4286-BDA6-ABBC706E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15FD-45D1-40A2-BCB4-8FE69DDE204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380880"/>
            <a:ext cx="81532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Wingdings 2"/>
                <a:ea typeface="Wingdings 2"/>
              </a:rPr>
              <a:t>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QUILIBRIOS DE SOLUBILIDAD EN SOLUCIÓN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CU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ra hacer predicciones cuantitativas en compuestos poco solubles en H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 se debe partir del equilibrio químico y de su Producto de solu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Constante de producto de solubilidad  “Kp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3213000"/>
            <a:ext cx="892188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or ejemplo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consideremos el AgC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gCl(s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g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c) + Cl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K = [Ag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[Cl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   / [AgCl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[AgCl ] = cons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Kps = [Ag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[Cl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en C.S.: 25ºC y 1at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838080" y="49417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Br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Kp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B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1,8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,3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981000"/>
            <a:ext cx="946800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atos:     Kps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AgCl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=1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0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, Kps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AgBr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=7,7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, Kps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Ag2CrO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=1,2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Resp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;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[Ag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Kp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AgC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/0,01 = 1,8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/0,01 =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8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(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pp. 2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-;      [Ag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Kp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B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0,01 = 7,7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0,01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,7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1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p. 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;  [Ag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Kp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g2CrO4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/0,0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1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pp. 3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r lo tanto; Precipita primero 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1" lang="es-ES" sz="26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24000" y="134136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Br-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KpsAgBr /1,1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7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(0,01-7x10</a:t>
            </a:r>
            <a:r>
              <a:rPr b="0" i="1" lang="fr-FR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)/(0,01)x100 =  </a:t>
            </a: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99,9993 %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fr-FR" sz="2400" spc="-1" strike="noStrike">
                <a:solidFill>
                  <a:srgbClr val="ffff00"/>
                </a:solidFill>
                <a:latin typeface="Times New Roman"/>
              </a:rPr>
              <a:t>pp de Br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50920" y="321300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[Cl</a:t>
            </a:r>
            <a:r>
              <a:rPr b="0" lang="fr-FR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= KpsAgCl  /1,1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= 1,6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(0,01-1,6x10</a:t>
            </a:r>
            <a:r>
              <a:rPr b="0" i="1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)/(0,01)x100 =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99,84 %  pp. de 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95280" y="2565360"/>
            <a:ext cx="8305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or ejemplo,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uponiendo que se agrega AgN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 una disolución saturada de AgCl, aquí el ion común de las sales es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l incremento de [Ag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 producirá que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 &gt; Kp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Para reestablecer el equilibrio,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ecipitará una parte de AgCl, hasta 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 = K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4000" y="76500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L EFECTO DEL ION COMUN SOBRE LA SOLUBILIDAD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mo se sab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Kp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una constante de equilibrio y la precipitación se cumple siempre que el producto ionico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Q &gt; Kps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50920" y="47973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clusión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l efecto del ion común es una disminución de la solubilidad de la sal (AgCl) respecto a la que tiene en agua pura.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2133720"/>
            <a:ext cx="83059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sp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)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quilibri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gCl(s) 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Ag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ac)    +       Cl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 +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3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ps = [S][S+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[S][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              (C/Kps &gt;&gt; 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 = 1,8X10</a:t>
            </a:r>
            <a:r>
              <a:rPr b="1" lang="en-US" sz="26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333360"/>
            <a:ext cx="9252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j 5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Calcule la solubilidad de AgCl e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)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una solución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e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en agua p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dato:    Kps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AgCl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= 1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0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4581360"/>
            <a:ext cx="889308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ps = [S][S]= S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ps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,8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1,34X10</a:t>
            </a:r>
            <a:r>
              <a:rPr b="1" lang="en-US" sz="26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,34x10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/1,8x10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= 74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Por lo tanto: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C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s 74 veces más soluble en agua pura que en 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lución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e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95280" y="3068640"/>
            <a:ext cx="83059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a) R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Cl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 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5/55   =  9,09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Ag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 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50/55 =  9,09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  =  [Cl-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Ag+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692280"/>
            <a:ext cx="853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ffff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6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Al mezclar 5 ml de NaCl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 con 50 ml de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cual es la concentración de equilibrio de todas las especies en la solución result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cuánto mmoles de AgCl precipitan?.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ato: Kps=1,8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10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50920" y="5013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9,09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x9,09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8,3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&gt; Kp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“hay precipita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468360" y="256536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Luego se estable el equilibrio (Molar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gCl(s)  </a:t>
            </a:r>
            <a:r>
              <a:rPr b="1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Ag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c)   +       Cl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Eq (M)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           S+8,18x10</a:t>
            </a:r>
            <a:r>
              <a:rPr b="0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76500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) Rep:    A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c)          +      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c)       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AgCl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icio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mol            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x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0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4,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mol            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olar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0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8,18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Mol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50920" y="436572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Kps = [S][S+8,18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/Kps = 8,18·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/1,8·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= 4,5·10</a:t>
            </a:r>
            <a:r>
              <a:rPr b="1" lang="es-ES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&gt; 400          (se puede aprox.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S </a:t>
            </a:r>
            <a:r>
              <a:rPr b="1" lang="pt-BR" sz="2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Kps / [8,18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68360" y="1628640"/>
            <a:ext cx="83059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[Ag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 = S = 2,2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[Cl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= S + 8,4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 = 8,62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[Na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] =  9,09x10</a:t>
            </a:r>
            <a:r>
              <a:rPr b="1" lang="pt-BR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=  9,09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765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= 2,2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50920" y="472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)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gCl : (5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-2,2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x55) = 3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mmoles precipitan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250920" y="9810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Wingdings 2"/>
                <a:ea typeface="Wingdings 2"/>
              </a:rPr>
              <a:t>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IV. EL EFECTO DEL pH SOBRE LA SOLU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solubilidad de muchas sustancias también depende del pH de la disolución. Sustancia tales como bases y ácidos pocos solubles se pueden disolver más en medios ácidos y básicos respectiv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35002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O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= 2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 2x1,6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,2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H = 4,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pH = 14 - 4,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H = 9,5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836640"/>
            <a:ext cx="8532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7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e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s)    </a:t>
            </a:r>
            <a:r>
              <a:rPr b="1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Fe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+  2O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Kps = 1,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            2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ps = [F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= [S][2S]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= 1,6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= 1,6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9810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1484280"/>
            <a:ext cx="88930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or lo tanto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, a p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H &lt; 9,5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la solubilidad del Fe(OH)</a:t>
            </a:r>
            <a:r>
              <a:rPr b="0" i="1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debe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umentar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,     ya que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aumenta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H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minuye [OH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En consecuencia la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Fe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 aumenta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Y  a  pH &gt; 9,5 la solubilidad del Fe(OH)</a:t>
            </a:r>
            <a:r>
              <a:rPr b="0" i="1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debe dismin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En consecuencia la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Fe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 disminu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380880"/>
            <a:ext cx="84358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Otros ejemplos de sales poco solub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F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s)         </a:t>
            </a: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Ca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c) + 2F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c)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ps = [Ca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[F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s)  </a:t>
            </a: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2Ag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ac) + Cr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Kps = [Ag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Cr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s) </a:t>
            </a: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3Ca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ac) + 2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-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       Kps = [Ca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[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-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4000" y="3500280"/>
            <a:ext cx="83818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 condiciones de no equilibrio, se usa e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roducto Iónico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ejemplo; consideremos el AgC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 = [Ag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[Ag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y  [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n concentraciones iniciales y no de equilibrio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3500280"/>
            <a:ext cx="83059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j 7.2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anto disminúye la solubilidad de Fe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 pH = 1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esp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pH = 10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pOH = 14 - 10 = 4,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OH-] =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Kps = [Fe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][OH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 = [S][10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-4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1,6x10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S = 1,6X10</a:t>
            </a:r>
            <a:r>
              <a:rPr b="0" i="1" lang="es-E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1,6X10</a:t>
            </a:r>
            <a:r>
              <a:rPr b="0" i="1" lang="es-E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 / 1,6X10</a:t>
            </a:r>
            <a:r>
              <a:rPr b="0" i="1" lang="es-ES" sz="2400" spc="-1" strike="noStrike" baseline="30000">
                <a:solidFill>
                  <a:srgbClr val="ffff00"/>
                </a:solidFill>
                <a:latin typeface="Times New Roman"/>
              </a:rPr>
              <a:t>-5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1/10 ve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isminuye 10 veces.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16000" y="333360"/>
            <a:ext cx="9252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j 7.1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uant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ment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a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olubilida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de Fe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 pH = 9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s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H = 9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H = 14 - 9 = 5,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=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ps = [Fe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[O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= [S][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= 1,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 = 1,6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Aumenta: 1,6X10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/ 1,6X10</a:t>
            </a:r>
            <a:r>
              <a:rPr b="0" lang="es-ES" sz="26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= 10 vece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250920" y="1341360"/>
            <a:ext cx="86421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ntro del control de la solubilidad por el pH, es interesante estudiar la precipitación selectiva ó fracciona de cationes metálicos en forma de carbonatos ó sulfuros. La precipitación selectiva ó fraccionada de un catión determinado, se logra por el control de pH por adición de un ácido ó una base fuerte al medio que se mantiene saturad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g)   (ó 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 )  =        0,02 M    (satura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ó   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(g)                          =         0,1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     (satura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324000" y="333360"/>
            <a:ext cx="85327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ecordar, el sistema de carbona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g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HCO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   H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CO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CO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+   H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___________________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 2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K=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0920" y="3645000"/>
            <a:ext cx="88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= 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]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/ [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K [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/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  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0,02/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= 4,048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19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 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692280"/>
            <a:ext cx="86421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j 8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Una solución contiene nitratos de sodio, de bario, de plata y de plomo (II), todos a una concentración de 0,2 M. Esta solución se mantiene saturada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0,02 M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catión precipita en forma de carbonat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que pH comienza a precipitar el Ba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cationes precipitan cuando el pH se ajusta a 5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pH 5 que % de los cationes a precipi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antos litros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e han consumido a dicho pH por litro de solución en C.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atos:  K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a1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= 4,6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K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a2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= 4,4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11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Kps (Ba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 = 8,1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Kps(Ag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 = 8,1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1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     Kps(Pb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 = 3,3x1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95280" y="1916280"/>
            <a:ext cx="83059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¡saber la  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 = 4,048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19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/ 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Eq                             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H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+    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quilibrio (M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0,02- X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X              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 / [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 4,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7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X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/(0,02-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 = 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9,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0920" y="765000"/>
            <a:ext cx="8532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R: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Obs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. 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no precipita como Na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ya que esta sal es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tamente solu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95280" y="1700280"/>
            <a:ext cx="8305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 4,048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 4,048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 (9,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=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,4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333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¡La segunda ionización del ácido carbónico no altera significativamente  el pH¡   (Tarea confirmar esta asever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0920" y="2924280"/>
            <a:ext cx="889308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carbonato pp?:           Q      (v/s)     K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BaCO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=  [0,2][4,4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  =  8,8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&lt;  Kps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BaCO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no p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2CO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[0,2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4,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1,7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&lt;  Kp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2CO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p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 [0,2][4,4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 = 8,8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&gt;  Kp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recip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ólo pp  Pb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como  [Pb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2492280"/>
            <a:ext cx="8305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      pH = 5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 4,048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/ [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,05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95280" y="333360"/>
            <a:ext cx="89647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) 0,2x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Kp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BaCO3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8,1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/0,2 = 4,05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4,048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/ 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] = 3,16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  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pH = 5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3789360"/>
            <a:ext cx="889308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ue carbonato pp?:           Q      (v/s)     K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Ba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[0,2][4,0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    =  8,1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&lt; Kp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Ba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no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p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2CO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[0,2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4,05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 = 1,62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&gt; Kp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g2CO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recipi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[0,2][4,05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]    = 8,1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&gt; Kp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recipit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ecipitan Pb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+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y Ag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como Pb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y Ag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respectivamente.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5280" y="2133720"/>
            <a:ext cx="8305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bCO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[Pb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] = (Kps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imes New Roman"/>
              </a:rPr>
              <a:t>PbCO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/ 4,05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 =  8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0,2-8x10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/0,2   x 100 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100 % pp de Pb</a:t>
            </a:r>
            <a:r>
              <a:rPr b="1" lang="fr-FR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79280" y="0"/>
            <a:ext cx="89647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a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no ha precipitado a pH = 5       (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0 % pp de Ba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[Ag+] =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(Kps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Ag2CO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/ 4,05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9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= 0,0447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0,2-0,0447)/0,2   x 100  =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77,64 % pp de Ag</a:t>
            </a:r>
            <a:r>
              <a:rPr b="1" lang="fr-FR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0920" y="4221000"/>
            <a:ext cx="8893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½ (0,2x0,7764) + 0,2x1 =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0,27764 moles 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 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(1 L de so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0,27764 mo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x(22,4 L /mol) 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= 6,22 L de CO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/ L de solución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04920" y="1600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Q &lt; Kp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olución insaturad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No precipi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Q = Kp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olución saturada “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No precipi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Q &gt; Kp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olución sobresaturad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Precipi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9280" y="620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Para las sales poco solubles se pueden dar las tres siguientes situaciones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50920" y="3141720"/>
            <a:ext cx="820872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00"/>
              </a:buClr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La solubilidad Mol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”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on los m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o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olut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isuelto por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litr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 solución: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ol/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buClr>
                <a:srgbClr val="ffff00"/>
              </a:buClr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La S se puede utilizar para determinar el </a:t>
            </a:r>
            <a:r>
              <a:rPr b="1" i="1" lang="es-ES" sz="2600" spc="-1" strike="noStrike">
                <a:solidFill>
                  <a:srgbClr val="ffff00"/>
                </a:solidFill>
                <a:latin typeface="Times New Roman"/>
              </a:rPr>
              <a:t>Kps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 y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vicever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4920" y="1600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Resp: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 PM = 107,9+35,45=143,35 g/m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= 1,92x10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/143,35 =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,34x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5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ol/L (mo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620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1.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Si la solubilidad del AgCl es  1,92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g/L. Calcule e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Kps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de este compuesto. Datos, P.A: Ag = 107,9 y Cl = 35,45 u.m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50920" y="3141720"/>
            <a:ext cx="8458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Cl(s)      </a:t>
            </a:r>
            <a:r>
              <a:rPr b="0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A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c) +     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               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p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[A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[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= SxS =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1,34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Kps =  1,8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24000" y="191628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(PO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(s)  </a:t>
            </a:r>
            <a:r>
              <a:rPr b="1" i="1" lang="es-E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     3Ca</a:t>
            </a:r>
            <a:r>
              <a:rPr b="1" i="1" lang="es-ES" sz="24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(ac) +   2PO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es-E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(ac);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quilibrio: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3S                2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0" y="620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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2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l Kps del Ca</a:t>
            </a:r>
            <a:r>
              <a:rPr b="1" i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1" i="1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es-E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es 2,1x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26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 Calcule la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olubilidad molar (S) de la sal.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3141720"/>
            <a:ext cx="84582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Kps = [Ca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[PO</a:t>
            </a:r>
            <a:r>
              <a:rPr b="1" i="1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3-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r>
              <a:rPr b="1" i="1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ps = [3S]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[2S]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,1x10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-26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108S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 = 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1,94x10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-28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 =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2,87x10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-6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5280" y="3141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ara obtener un precipitado dado, se debe cumpli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  &gt;  Kp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s decir,  solución esta sobresaturada a una temperatura y presión cons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11280" y="76500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I.  PREDICCIONES DE LAS REACCIONES DE   PRECIPITA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 la relación entre la solubilidad y el Kps se puede predecir si se formará o no un determinado precipita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2421000"/>
            <a:ext cx="83059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ep: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Cl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 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5/55   = 9,09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Ag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=  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x50/55 = 9,09x10</a:t>
            </a:r>
            <a:r>
              <a:rPr b="0" lang="pt-BR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  =  [Cl-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[Ag+]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79280" y="692280"/>
            <a:ext cx="8533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ffff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j 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Al mezclar 5 ml de NaCl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 con 50 ml de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10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Precipitación el AgC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0920" y="4365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9,09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x9,09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=  8,3x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&gt; Kps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“hay precipita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250920" y="1341360"/>
            <a:ext cx="85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SEPARACIÓN DE IONES POR PRECIPITACIÓN FRACCIO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oluciones salin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n ocasiones es convenient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epararl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n sus iones constituyentes. Se puede realizar esta separación mediante la utilización de un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activo especif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ó por ajuste del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la solu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341360"/>
            <a:ext cx="8497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Wingdings 2"/>
                <a:ea typeface="Wingdings 2"/>
              </a:rPr>
              <a:t>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j 4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Se dispone de una solución que contiene iones: Cl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, Br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y Cr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" sz="2400" spc="-1" strike="noStrike" baseline="30000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en una concentración de 0,01 M y se agrega lentamente sobre esta solución AgNO</a:t>
            </a:r>
            <a:r>
              <a:rPr b="1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, considerando que no hay cambio de volumen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0920" y="28526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) Que anión precitita prime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cual es la concentración del primer anión cuando comienza a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recipitar el segun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que %  de los dos primeros aniones ha precipitado cuan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mienza a precipitar el tercer anión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8:51:01Z</dcterms:created>
  <dc:creator>Jose Parada</dc:creator>
  <dc:description/>
  <dc:language>en-US</dc:language>
  <cp:lastModifiedBy>Jparada</cp:lastModifiedBy>
  <dcterms:modified xsi:type="dcterms:W3CDTF">2011-05-30T18:42:53Z</dcterms:modified>
  <cp:revision>169</cp:revision>
  <dc:subject/>
  <dc:title>Presentación de PowerPoint</dc:title>
</cp:coreProperties>
</file>