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61FED-50E0-4F8D-9332-F8BD08603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3D331-7B6B-4D10-BD34-D76AF2AF0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AF3AA-B72E-43AE-917B-66D3F12BB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74C2E-338D-4910-9C75-06CA1FF70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3367BE-5215-48EF-A865-B30E8E41D2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00E38-BAEF-4776-BD42-A8347DFE1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79885-6CBB-428C-8C5C-36BD49D79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06192-E09C-4C6E-9B27-3235F724F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7DA07-97A2-4863-A01B-51406B989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5EAD3-BE69-40AB-9DD4-16F9C881A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92C98-043D-4160-A62D-CDAE70BB7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88006-FB98-49FA-B0CC-3C848B6F7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19F1B-5296-48A9-BDAD-781C51D1D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69A4B-6672-4EF5-BB55-5270248BA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531C1-C1FC-4736-8D11-ECF2517B3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F47B5-BBAE-4DC1-BCD0-E812E3F51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F7CA9-EF44-438C-83E2-A41EF4B15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2341A84-7847-4901-AEED-32EB309BF2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DF1B899-5891-48EE-9C3C-FC7050F9D4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E2EEE07-A27A-4E20-BC55-8285D98460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F0AF800-1BD1-4372-9CA0-EE822D04E4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5436704-3ABA-443C-A61E-5FF7B68407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86680-3DB9-4FFA-AE87-248396DC2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4967252-E109-473E-B4CD-C7AA9CF2B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0BF098-2B02-4829-8C2F-B18A00DDE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CA02C3-30D2-4805-97D8-0D18EE7DB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EB5D96F-8B51-4331-B99F-AA3D96C9B1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82E0B89-2EDA-4FEE-9849-D5B23083F2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5AA8B00-2058-407F-A655-0E50198A5B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CB80D50-05A3-494E-8AB3-52C3F4F654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5D665D-FC56-4954-9C94-B22BDDB733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1D7B85-FB6C-4852-909F-BFAE2E5569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FDFDED-6020-4D32-B8DD-94674390C4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025DB-82B0-4E90-9782-EFB83B94D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42E8BF-DEE1-4B28-987A-B620A70847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7EB4D9-42AC-4074-8515-BDF4DCC3D8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AE6C7B-3F20-46C6-9565-BC5462A8AB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A2945C-ACB1-4AD5-BDD6-CD2BE9F03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8A5EF2-448F-47C2-9084-0D48FDC19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E7E5CC-CC24-4614-9206-FD478113B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79B0C4-B835-4177-B7D2-4A0F8CDBA6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8FF07F-C0F3-4201-B4AF-E7B57E7945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5F3359-0E42-47C0-891B-E2BD6AF062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C9C452E-7E62-4C0A-A130-9A8CB43A15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2D653-AAD7-40C4-9090-8C7D0FCFC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1F5BB1-053E-4702-8EE3-331D212520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61B6F69-F696-40C4-A1EA-347164DBF7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6FD03B-85F6-4732-849F-EE7BE5336E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3EB02A-FC48-43A4-AECF-44BFE43BB2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2E405FE-8B94-4F16-9D22-CEE36919B8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2C779E-F273-4A40-A1B3-CBC3926248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55D8CB-ACFE-4BA2-BA3D-5FB3D56EFD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DBD79C-DB8D-43C6-9D02-634F7385A2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AA58A4A-FC73-4071-818B-4DE96CFD4B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B6B48D7-5916-4A3A-8798-84AD3F93A1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567E6-3F3D-4155-A38A-598869D72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72F535F-BC8B-4293-94B6-FBFB204F23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6E73478-F38E-445D-B641-E8A117ADE1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F6F1DA9-FABC-48E2-B10D-102A3B3CE0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4D792BF-0E35-41C5-939B-5C2EF15D6E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4C1CE63-F194-49EA-A0B9-46CEBE1AD5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FE8DD3C-570D-452F-93BB-E6CE76D252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6C2F33F-8C3C-47C9-9BBC-E7803513B0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2EEE808-978C-4F33-B865-F2C2399B85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FA33D92-07A8-490B-A4D3-B4A681D586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6ACA8C3-4110-4302-9719-A47CE7B4BF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882CE-BE21-4E50-844F-2673EA817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7241BB4-99AF-48E2-B7E0-A2916DD32E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E86604E-DF89-49BC-817D-9373AD49AE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04B7957-D4D6-4DA0-818D-38BAD4B6A4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24936B3-D7A2-4F0C-88D4-2EE1E563A6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A7EB86B-E844-40F2-917F-200E114133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68D59BD-3EC6-418B-8D27-D98E98A65F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EE798FB-868E-4498-BB6F-FAA7EC7A3D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DF06786-971A-48CE-BE61-2FB5205772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00D6046-6238-42DB-8CAC-F8526E08F8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D504500-0277-4A23-82CE-4640C2395E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8F629-C2FE-4A4F-9C73-0F994BF83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9EBFDF0-6DFA-49F3-94A2-A7C11ECD50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4A9FD2C-5CC6-45B2-BC9D-D38785DB3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305C068-C212-45BA-8D02-557F80380E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C67B6D5-A647-44CB-A16D-E8853488FC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E43B2F4-017E-4185-8C65-7D348A60B7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9534D-A7F3-4ADF-8A44-1085C69F9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4C10-2A20-447B-9B75-E902357A2A8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b2c1db">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d0d8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d0d8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e9ed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b2c1db">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e9ed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b2c1db">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b2c1db">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3B67-99D0-4084-916D-7B920460577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C745-4D93-4ECA-B89B-19CBAC58B5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b2c1db">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d0d8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d0d8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e9ed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b2c1db">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e9ed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b2c1db">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b2c1db">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ece1"/>
                </a:solidFill>
                <a:latin typeface="Century Schoolbook"/>
              </a:rPr>
              <a:t>Click to edit the title text format</a:t>
            </a:r>
            <a:endParaRPr b="0" lang="en-US" sz="3000" spc="-1" strike="noStrike">
              <a:solidFill>
                <a:srgbClr val="eeece1"/>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2352-5988-4AAE-A79C-2A7DA7B43EF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6FA7-5CE1-4060-9B70-97EEBDBD924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76E7-63CC-4CE0-A781-8E277B228C3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b2c1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01D1-99C5-42EF-827C-9E93B21A58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entury Schoolbook"/>
              </a:rPr>
              <a:t>NUEVAS PERSPECTIVAS EN EL DESARROLLO DE LA DEPRESION</a:t>
            </a:r>
            <a:endParaRPr b="0" lang="en-US" sz="3600" spc="-1" strike="noStrike">
              <a:solidFill>
                <a:srgbClr val="1f497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Prof. Igor Lemus G.</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n los trastornos complejos como la depresión Mayor es probable que esté involucrado un gran número de genes, de los cuales ninguno tiene impacto sobre el riesgo de enfermar.</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asta la fecha ningún hallazgo de asociación con el trastorno depresivo mayor ha podido ser suficientemente replicado para ser considerado como establecido.</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NEUROQUÍMICA DE LA DEPRESIÓN</a:t>
            </a:r>
            <a:endParaRPr b="0" lang="en-US" sz="3200" spc="-1" strike="noStrike">
              <a:solidFill>
                <a:srgbClr val="1f497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 primera hipótesis etiológica sobre la depresión, se enfocaron en el sistema monoaminérgico. Inicialmente la depresión se debía a un déficit en la NT monoaminérgica. </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De este modo se estimuló la investigación y el desarrollo de nuevos fármacos Antidepresivos.</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 investigación se ha dirigido hacia el sistema serotoninérgico.</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os estudios acerca del funcionamiento endocrino en pacientes depresivos han revelado anormalidades del funcionamiento del eje HHA. El hallazgo más constante es un trastorno en la secreción de cortisol.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fontScale="98000"/>
          </a:bodyPr>
          <a:p>
            <a:pPr marL="267120" indent="-26712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prueba de supresión de cortisol con dexametasona, que en algún momento  fue considerada como una prueba de diagnóstico para depresión, se encuentra alterada en un grupo de pacientes depresivos y puede identificar pacientes con una anormalidad del eje HHA.</a:t>
            </a:r>
            <a:endParaRPr b="0" lang="en-US" sz="2400" spc="-1" strike="noStrike">
              <a:solidFill>
                <a:srgbClr val="000000"/>
              </a:solidFill>
              <a:latin typeface="Century Schoolbook"/>
            </a:endParaRPr>
          </a:p>
          <a:p>
            <a:pPr marL="267120" indent="-26712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los últimos años ha despertado gran interés el estudio de los mecanismos centrales que intervienen en la regulación del cortisol circulante.En el núcleo paraventricular del hipotálamo, existe un grupo de neuronas que secretan el péptido llamado factor liberante de corticotrofina, más conocido por la sigla CFR,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78" name=""/>
          <p:cNvSpPr txBox="1"/>
          <p:nvPr/>
        </p:nvSpPr>
        <p:spPr>
          <a:xfrm>
            <a:off x="394920" y="148428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que es transportado a la hipófisis por la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irculación hipotálamo-hipofisiaria-portal. En la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hipófisis estimula a las células productoras de la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hormona adenocorticotrofina (ACTH), la que pasa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a la circulación periférica y estimula a la corteza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uprarrenal para que secrete Glucocorticoides,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ticularmente cortisol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fontScale="91000"/>
          </a:bodyPr>
          <a:p>
            <a:pPr marL="248040" indent="-24804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glucocorticoides a su vez, ejercen retroalimentación negativa en la hipófisis anterior, hipotálamo e hipocampo mediante la estimulación de receptores de glucocorticoides. De este modo la cantidad de corticoides es mantenida dentro de un nivel normal. Las investigaciones sugieren que la perturbación hipotalámica primaria en la depresión puede consistir en un número aumentado de neuronas  contienen CFR en el núcleo paraventricular, el que se traduciría en una hipersecreción de CFR por el Hipotálamo. Se presume que el aumento en la síntesis y liberación de CFR desencadene una secuencia de hechos, partiendo por un crecimiento de la hipófisis y aumento de la secreción de ACTH, el que a su vez lleva a un cr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anchor="t">
            <a:normAutofit fontScale="97000"/>
          </a:bodyPr>
          <a:p>
            <a:pPr marL="264600" indent="-26460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cimiento de la glándula suprarrenal y a un aumento de los niveles basales de cortisol. Esta hipercorticosolemia altera los receptores de glucocorticoides los que sufrirían una regulación a la baja, permaneciendo disfuncionales o con una “resistencia a los glucocorticoides” en algunos pacientes depresivos. Esta alteración explica los resultados anormales de La Prueba de Supresión del Cortisol X dexametasona y la respuesta aplanada de ACTH a la administración I.V. de CFR exógeno en algunos pacientes depresivos en comparación con controles normale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fontScale="98000"/>
          </a:bodyPr>
          <a:p>
            <a:pPr marL="267120" indent="-26712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Se supone que la alteración de los receptores de glucocorticoides en algunas regiones cerebrales particularmente en el hipocampo podría contribuir a la sintomatología depresiva.</a:t>
            </a:r>
            <a:endParaRPr b="0" lang="en-US" sz="2800" spc="-1" strike="noStrike">
              <a:solidFill>
                <a:srgbClr val="000000"/>
              </a:solidFill>
              <a:latin typeface="Century Schoolbook"/>
            </a:endParaRPr>
          </a:p>
          <a:p>
            <a:pPr marL="267120" indent="-26712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Normalmente el hipocampo tiene un efecto inhibitorio sobre el eje HHA. Sin embargo cuando los receptores de glucocorticoides se encuentran afectados secundariamente a la hipercorticosolemia, se altera este efecto inhibitorio lo que lleva a una persistente secreción  de cortisol. La hipercorticosolemia, por su parte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anchor="t">
            <a:normAutofit/>
          </a:bodyPr>
          <a:p>
            <a:pPr marL="272880" indent="-272880" algn="just">
              <a:lnSpc>
                <a:spcPct val="7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está asociada con neurotoxicidad y con una reducción de la neurogénesis en el hipocampo. Un hipocampo que funciona mal puede estar asociado a algunos de los síntomas depresivos.</a:t>
            </a:r>
            <a:endParaRPr b="0" lang="en-US" sz="2800" spc="-1" strike="noStrike">
              <a:solidFill>
                <a:srgbClr val="000000"/>
              </a:solidFill>
              <a:latin typeface="Century Schoolbook"/>
            </a:endParaRPr>
          </a:p>
          <a:p>
            <a:pPr marL="272880" indent="-272880" algn="just">
              <a:lnSpc>
                <a:spcPct val="7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Estudios efectuados en animales demuestran que los antidepresivos y la terapia electroconvulsiva afectan a los receptores de glucocorticoides, aumentando la unión entre los glucocorticoides y los receptores. Este efecto se observa luego de dos semanas, coincidiendo con el tiempo que requieren los antidepresivos para ejercer su efecto.</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Eje Hipotálamo-Hipófisis-Tiroideo</a:t>
            </a:r>
            <a:endParaRPr b="0" lang="en-US" sz="3000" spc="-1" strike="noStrike">
              <a:solidFill>
                <a:srgbClr val="1f497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os pacientes depresivos presentan varias alteraciones en el eje hipotálamo-hipófisis-tiroídeo.</a:t>
            </a:r>
            <a:endParaRPr b="0" lang="en-US" sz="28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Pacientes con niveles hormonales normales de hormonas tiroídeas y sin disfunción tiroidea evidente pueden tener niveles elevados de anticuerpos tiroídeos, lo que indicaría la existencia de tiroiditis subclínica, la que puede estar asociada con cuadros depresivo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entury Schoolbook"/>
              </a:rPr>
              <a:t>INTRODUCCIÓN</a:t>
            </a:r>
            <a:endParaRPr b="0" lang="en-US" sz="3600" spc="-1" strike="noStrike">
              <a:solidFill>
                <a:srgbClr val="1f497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 depresión es un trastorno de elevada frecuencia. En Chile se ha encontrado una prevalencia de un 11,3% para la ciudad de Santiago. Un importante número de personas afectadas no recibe un diagnóstico y un tratamiento apropiado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HORMONA DEL CRECIMIENTO</a:t>
            </a:r>
            <a:endParaRPr b="0" lang="en-US" sz="3200" spc="-1" strike="noStrike">
              <a:solidFill>
                <a:srgbClr val="1f497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 hormona del crecimiento es secretada por la hipófisis anterior y juega un papel esencial en el crecimiento somático. Su secreción es afectada por el stress.</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 secreción de la hormona del crecimiento es controlada por dos péptidos hipotalámicos: La hormona liberadora de  hormona del crecimiento que tiene un papel estimulante, y la somatostatina que tiene un papel inhibitorio.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pacientes depresivos tienen un aplanamiento de la curva de secreción diurna de hormona del crecimiento y en especial del pico nocturno.Este aplanamiento puede ser consecuencia del sueño fragmentado que presentan los pacientes depresivos. También se ha observado un aplanamiento de la respuesta de hormona del crecimiento a la estimulación por clonidina, por stress, y por hipoglicemia en pacientes depresiv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ALTERACIÓN DEL SISTEMA INMUNE </a:t>
            </a:r>
            <a:endParaRPr b="0" lang="en-US" sz="3200" spc="-1" strike="noStrike">
              <a:solidFill>
                <a:srgbClr val="1f497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fontScale="96000"/>
          </a:bodyPr>
          <a:p>
            <a:pPr marL="261720" indent="-26172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Una serie de evidencias sugiere la existencia de una comunicación recíproca entre el sistema inmune y el sistema nervioso central, la que se efectúa mediante una serie de hormonas transmisores y péptidos. </a:t>
            </a:r>
            <a:endParaRPr b="0" lang="en-US" sz="2800" spc="-1" strike="noStrike">
              <a:solidFill>
                <a:srgbClr val="000000"/>
              </a:solidFill>
              <a:latin typeface="Century Schoolbook"/>
            </a:endParaRPr>
          </a:p>
          <a:p>
            <a:pPr marL="261720" indent="-26172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El stress psicológico y los trastornos psiquiátricos severos afectan la respuesta inmune y el curso de las enfermedades mediados por este sistema. Al parecer los estresores pueden tanto aumentar como disminuír la respuesta inmune, dependiendo si el estrés es agudo o crónico y del tipo de componente estudiado.</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Por otra parte las alteraciones del sistema inmune traducidas por la depresión, varían dependiendo la severidad clínica, de la edad y del sexo del paciente. </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 </a:t>
            </a:r>
            <a:r>
              <a:rPr b="0" lang="es-ES" sz="2800" spc="-1" strike="noStrike">
                <a:solidFill>
                  <a:srgbClr val="000000"/>
                </a:solidFill>
                <a:latin typeface="Century Schoolbook"/>
              </a:rPr>
              <a:t>En la depresión parecen jugar un papel importante los mediadores inmunes denominados  “citoquinas”(interleukinas,interferón y factor de necrosis tumoral) En los pacientes depresivos se han encontrado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niveles elevados de citokinas proinflamatorias. Estas citokinas podrían activar el eje hipotálamo-hipófisis-adrenal de un modo directo a través de sus efectos sobre CFR, o indirectamente a través de volver resistente al receptor de glucocorticoides, lo que puede llevar a una hiperactividad del eje HHA. Como ya se ha señalado, esta hiperactividad del CRF y del eje HHA puede contribuír a la génesis de los trastornos del  estado de ánimo. Por otra parte las citokinas  proin-</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00" name=""/>
          <p:cNvSpPr txBox="1"/>
          <p:nvPr/>
        </p:nvSpPr>
        <p:spPr>
          <a:xfrm>
            <a:off x="456840" y="157968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inflamatorias pueden alterar los sistemas de trasmisión monoaminérgicos en varias regiones cerebrales , por ejm reduciendo la disponibilidad de l-triptófano, lo que a su vez lleva a una reducción de los niveles de serotonina.</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02" name=""/>
          <p:cNvSpPr txBox="1"/>
          <p:nvPr/>
        </p:nvSpPr>
        <p:spPr>
          <a:xfrm>
            <a:off x="456840" y="1579680"/>
            <a:ext cx="7467480" cy="4873680"/>
          </a:xfrm>
          <a:prstGeom prst="rect">
            <a:avLst/>
          </a:prstGeom>
          <a:noFill/>
          <a:ln w="0">
            <a:noFill/>
          </a:ln>
        </p:spPr>
        <p:txBody>
          <a:bodyPr anchor="t">
            <a:normAutofit fontScale="95000"/>
          </a:bodyPr>
          <a:p>
            <a:pPr marL="259200" indent="-25920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Alteraciones Anatómicas y fisiológicas.-</a:t>
            </a:r>
            <a:endParaRPr b="0" lang="en-US" sz="2800" spc="-1" strike="noStrike">
              <a:solidFill>
                <a:srgbClr val="000000"/>
              </a:solidFill>
              <a:latin typeface="Century Schoolbook"/>
            </a:endParaRPr>
          </a:p>
          <a:p>
            <a:pPr marL="259200" indent="-25920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s bases anatómicas y fisiológicas de la depresión son objeto de activa investigación de las que se puede concluír que las áreas más probablemente involucradas son las estructuras límbicas .Los pacientes con infarto que afectan las regiones frontales derechas suelen presentar un estado de ánimo indiferente, apático o eufórico, en tanto los pacientes con infartos que afectan las regiones frontales izquierdas suelen presentar ansiedad o depresión.</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04"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Tradicionalmente se pensaba que los estados de ánimo como la depresión, estaban asociados unicamente al sistema límbico, no obstante hoy existe abundante evidencia de que también participan estructuras no límbicas como la materia blanca en regiones asociadas con la corteza frontal y los ganglios basales, disminución del volumen frontal bilateral y reducción del tamaño del putamen y del caudado.</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7570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Schoolbook"/>
              </a:rPr>
              <a:t>Modelo integrado de la depresión</a:t>
            </a:r>
            <a:endParaRPr b="0" lang="en-US" sz="2800" spc="-1" strike="noStrike">
              <a:solidFill>
                <a:srgbClr val="1f497d"/>
              </a:solidFill>
              <a:latin typeface="Century Schoolbook"/>
            </a:endParaRPr>
          </a:p>
        </p:txBody>
      </p:sp>
      <p:sp>
        <p:nvSpPr>
          <p:cNvPr id="406"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Actualmente la depresión es entendida cómo una enfermedad sistémica, heterogénea y compleja que afecta a diferentes sistemas, aunque sus principales manifestaciones se expresan en el plano psíquico. Involucra alteraciones en los sistemas de neurotrasmisión cerebrales y en los sistemas neuroendocrinos e inmunológicos  los que pueden explicar la variedad de síntomas observables en la fase depresiva.</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060"/>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Hoy se cree que esta enfermedad se origina en la interacción compleja entre una predisposición genética y sucesos vitales como trauma o abuso infantil, los que producen cambios significativos en el sistema nervioso central. El resultado es una hiperactividad del sistema CRF que conduce a una hipercorticosolemia mantenida y a una hiperactividad del sistema noradrenérgico. Tanto CRF como el sistema noradrenérgico son los mediadores de la respuesta al estrés. Am-</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CONSIDERACIONES DIAGNÓSTICAS</a:t>
            </a:r>
            <a:endParaRPr b="0" lang="en-US" sz="3200" spc="-1" strike="noStrike">
              <a:solidFill>
                <a:srgbClr val="1f497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trastorno depresivo Mayor es un trastorno mental que incluye anormalidades del afecto y del ánimo, de las funciones vegetativas(como los trastornos del sueño y del apetito), cognitivas (como ideas de culpa y de desesperanzas) y de la actividad psicomotora (como la inhibición y la agitación)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Factores de riesgo: su importancia causal es muy débil. Entre ellos se incluyen: clase social baja, residencia urbana, estado marital de separación o divorcio, escaso soporte social y pertenencia a las generaciones nacidas más recientement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931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800" spc="-1" strike="noStrike">
                <a:solidFill>
                  <a:srgbClr val="002060"/>
                </a:solidFill>
                <a:latin typeface="Century Schoolbook"/>
              </a:rPr>
              <a:t>HACIA UN MODO INTEGRAL DE LA DEPRESIÓN</a:t>
            </a:r>
            <a:endParaRPr b="0" lang="en-US" sz="2800" spc="-1" strike="noStrike">
              <a:solidFill>
                <a:srgbClr val="1f497d"/>
              </a:solidFill>
              <a:latin typeface="Century Schoolbook"/>
            </a:endParaRPr>
          </a:p>
        </p:txBody>
      </p:sp>
      <p:sp>
        <p:nvSpPr>
          <p:cNvPr id="410" name=""/>
          <p:cNvSpPr txBox="1"/>
          <p:nvPr/>
        </p:nvSpPr>
        <p:spPr>
          <a:xfrm>
            <a:off x="456840" y="1600200"/>
            <a:ext cx="7467480" cy="4873680"/>
          </a:xfrm>
          <a:prstGeom prst="rect">
            <a:avLst/>
          </a:prstGeom>
          <a:noFill/>
          <a:ln w="0">
            <a:noFill/>
          </a:ln>
        </p:spPr>
        <p:txBody>
          <a:bodyPr anchor="t">
            <a:normAutofit fontScale="98000"/>
          </a:bodyPr>
          <a:p>
            <a:pPr marL="267120" indent="-26712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bos sistemas ejercen amplias influencias tanto en el cerebro como en la periferia, a través del eje HHA y del sistema nervioso autónomo.           Estas  alteraciones neurobiológicas pueden persistir durante la vida adulta, llevando a un sistema hipersensible al estrés, el que sobrerreacciona incluso ante situaciones de tensión leves, propias de la vida cotidiana. Esta hipersensibilidad al estrés predispone tanto a los trastornos ansiosos como a los depresivos, condiciones clínicas que exhiben una elevada comorbilidad. También explica la tendencia a la recu-</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12" name=""/>
          <p:cNvSpPr txBox="1"/>
          <p:nvPr/>
        </p:nvSpPr>
        <p:spPr>
          <a:xfrm>
            <a:off x="456840" y="1600200"/>
            <a:ext cx="7467480" cy="4873680"/>
          </a:xfrm>
          <a:prstGeom prst="rect">
            <a:avLst/>
          </a:prstGeom>
          <a:noFill/>
          <a:ln w="0">
            <a:noFill/>
          </a:ln>
        </p:spPr>
        <p:txBody>
          <a:bodyPr anchor="t">
            <a:normAutofit fontScale="97000"/>
          </a:bodyPr>
          <a:p>
            <a:pPr marL="264600" indent="-26460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rrencia de los trastornos del estado de ánimo, ya que los sucesivos episodios vuelven más vulnerable el sistema y por lo tanto más predispuestos a sufrir nuevas fases depresivas. En este modelo explicativo muchas alteraciones como las observadas en los sistemas de neurotrasmisión, a las que en un momento se les atribuyó importancia causal, hoy son vistas como epifenómenos. Lo mismo ocurriría con las alteraciones inmunes y de otros sistemas hormonale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14"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Un mérito importante de esta nueva visión de la depresión, es que permite entenderla como una enfermedad que no  sólo deriva de una perturbación del funcionamiento cerebral, sino que involucra a todo el organismo. De este modo ha crecido el interés por conocer sus efectos en otros ámbitos, por ejm en el sistema CV y su relación con la patologías de este sistema.Asimismo ha aumentado el interés por el estudio de los factores patogénicos en la infancia.</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otra parte ha surgido toda una nueva área de desarrollo psicofarmacológico, orientada a tratar los efectos biológicos del estrés, por ejm. mediante el empleo de antagonistas de CRF que ya se encuentran en la etapa de estudio clínico en seres humanos. Si estos nuevos tratamientos resultan eficaces, significarán la introducción de toda una nueva generación de fármacos que no están basados sus efectos en las monoaminas cerebrales con las que disponemos en la actualidad.Se ha avanzado hacia la formulación de una hipòtesis integrada acerca de las bases biológicas de la depresión.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9640" y="43920"/>
            <a:ext cx="746784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entury Schoolbook"/>
              </a:rPr>
              <a:t>FIGURA 1. CADENAS DE SUCESOS QUE SE SUPONE INVOLUCRADA EN LA GÉNESIS DE LA DEPRESIÓN</a:t>
            </a:r>
            <a:endParaRPr b="0" lang="en-US" sz="2400" spc="-1" strike="noStrike">
              <a:solidFill>
                <a:srgbClr val="1f497d"/>
              </a:solidFill>
              <a:latin typeface="Century Schoolbook"/>
            </a:endParaRPr>
          </a:p>
        </p:txBody>
      </p:sp>
      <p:pic>
        <p:nvPicPr>
          <p:cNvPr id="418" name="Picture 5" descr="http://www.scielo.cl/fbpe/img/rchnp/v40s1/img02-01.gif"/>
          <p:cNvPicPr/>
          <p:nvPr/>
        </p:nvPicPr>
        <p:blipFill>
          <a:blip r:embed="rId1"/>
          <a:stretch/>
        </p:blipFill>
        <p:spPr>
          <a:xfrm>
            <a:off x="1692360" y="1413000"/>
            <a:ext cx="5904000" cy="4203720"/>
          </a:xfrm>
          <a:prstGeom prst="rect">
            <a:avLst/>
          </a:prstGeom>
          <a:ln w="0">
            <a:noFill/>
          </a:ln>
        </p:spPr>
      </p:pic>
      <p:sp>
        <p:nvSpPr>
          <p:cNvPr id="419" name="7 Rectángulo"/>
          <p:cNvSpPr/>
          <p:nvPr/>
        </p:nvSpPr>
        <p:spPr>
          <a:xfrm>
            <a:off x="1042920" y="5407200"/>
            <a:ext cx="7129440" cy="1037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igura 1. </a:t>
            </a:r>
            <a:r>
              <a:rPr b="1" lang="es-ES" sz="1100" spc="-1" strike="noStrike">
                <a:solidFill>
                  <a:srgbClr val="000000"/>
                </a:solidFill>
                <a:latin typeface="Arial"/>
              </a:rPr>
              <a:t>Modelo integrado de la neurobiología de la depresión.</a:t>
            </a:r>
            <a:r>
              <a:rPr b="0" lang="es-ES" sz="1100" spc="-1" strike="noStrike">
                <a:solidFill>
                  <a:srgbClr val="000000"/>
                </a:solidFill>
                <a:latin typeface="Arial"/>
              </a:rPr>
              <a:t> Modificado de: Heim, Nemeroff (2001) </a:t>
            </a:r>
            <a:br>
              <a:rPr sz="1100"/>
            </a:br>
            <a:r>
              <a:rPr b="0" lang="es-ES" sz="1100" spc="-1" strike="noStrike">
                <a:solidFill>
                  <a:srgbClr val="000000"/>
                </a:solidFill>
                <a:latin typeface="Arial"/>
              </a:rPr>
              <a:t>000000CRF = corticotrophin releasing factor </a:t>
            </a:r>
            <a:br>
              <a:rPr sz="1100"/>
            </a:br>
            <a:r>
              <a:rPr b="0" lang="es-ES" sz="1100" spc="-1" strike="noStrike">
                <a:solidFill>
                  <a:srgbClr val="000000"/>
                </a:solidFill>
                <a:latin typeface="Arial"/>
              </a:rPr>
              <a:t>000000HHA = hipotálamo - hipófisis - adrenal </a:t>
            </a:r>
            <a:br>
              <a:rPr sz="1100"/>
            </a:br>
            <a:r>
              <a:rPr b="0" lang="es-ES" sz="1100" spc="-1" strike="noStrike">
                <a:solidFill>
                  <a:srgbClr val="000000"/>
                </a:solidFill>
                <a:latin typeface="Arial"/>
              </a:rPr>
              <a:t>000000HHT = hipotálamo - hipófisis - tiroideo.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859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060"/>
              </a:solidFill>
              <a:latin typeface="Century Schoolbook"/>
            </a:endParaRPr>
          </a:p>
        </p:txBody>
      </p:sp>
      <p:sp>
        <p:nvSpPr>
          <p:cNvPr id="421"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fontScale="96000"/>
          </a:bodyPr>
          <a:p>
            <a:pPr marL="261720" indent="-26172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Hay 4 factores de riesgo que muestran consistencia en su asociación con trastorno depresivo mayor: género, eventos vitales estresantes, experiencias infantiles diversas y ciertos riesgos de personalidad.</a:t>
            </a:r>
            <a:endParaRPr b="0" lang="en-US" sz="2800" spc="-1" strike="noStrike">
              <a:solidFill>
                <a:srgbClr val="000000"/>
              </a:solidFill>
              <a:latin typeface="Century Schoolbook"/>
            </a:endParaRPr>
          </a:p>
          <a:p>
            <a:pPr marL="261720" indent="-26172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En muchos estudios efectuados se demuestra que la mujeres están en mayor riesgo de sufrir depresión (15,4 vs 5,4 ), El hecho más asociado con el comienzo de la depresión adulta es la pérdida del cónyug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specto a las experiencias infantiles adversas, estas incluyen el abuso sexual y físico, la pobre relación entre padres e hijos y la discordia y divorcio entre los padres. Todos estos hechos se asocian a un aumento del riesgo de sufrir un trastorno depresivo mayor en la vida adulta, siendo el más importante la pérdida de uno o de ambos padres antes de los once años de edad.</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CURSO DE LA ENFERMEDAD</a:t>
            </a:r>
            <a:endParaRPr b="0" lang="en-US" sz="3200" spc="-1" strike="noStrike">
              <a:solidFill>
                <a:srgbClr val="1f497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l trastorno depresivo mayor no se presenta en forma exclusiva en la edad adulta, sino que un número sustancial de pacientes experimentan su primer episodio depresivo mayor durante la infancia y la adolescencia. En esos casos típicamente los sujetos continúan con episodios depresivos durante la vida adulta. </a:t>
            </a:r>
            <a:endParaRPr b="0" lang="en-US" sz="24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ra muchos pacientes la enfermedad se desarrolla en forma episódico durante toda la vida (se ha calculado un promedio de un episodio cada cinco años ) y un 20 a 25% de ellos el trastorno presenta un curso crónico y sin remisiones. En ausencia de una intervención terapéutica exitosa, los episodios sucesivos  se presentan con una frecuencia y una intensidad crecientes, en tanto los períodos de normalidad se van haciendo más breves.</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os estudios efectuados en gemelos, entregan una fuerte evidencia genética.</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Heredabilidad, trastorno Bipolar y Esquizofrenia es del 80%.</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Con el conocimiento creciente del genoma humano se ha hecho posible la localización cromosómica de genes que confieren vulnerabilidad para trastornos complejos como la depresión mayor.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FACTORES GENÉTICOS</a:t>
            </a:r>
            <a:endParaRPr b="0" lang="en-US" sz="3200" spc="-1" strike="noStrike">
              <a:solidFill>
                <a:srgbClr val="1f497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amiliares de primer grado (padres, hijos hermanos) de sujetos con Trastorno Depresivo mayor tienen alrededor de tres veces más probabilidades de enfermar de depresión que la población en general. No se sabe si en el riesgo influyen más los factores genéticos y cuanto del ambiente familiar.</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15:46:03Z</dcterms:created>
  <dc:creator>Igor Lemus</dc:creator>
  <dc:description/>
  <dc:language>en-US</dc:language>
  <cp:lastModifiedBy>Igor Lemus</cp:lastModifiedBy>
  <dcterms:modified xsi:type="dcterms:W3CDTF">2010-03-25T19:44:57Z</dcterms:modified>
  <cp:revision>43</cp:revision>
  <dc:subject/>
  <dc:title>NUEVAS PERSPECTIVAS EN EL DESARROLLO DE LA DEPRESION</dc:title>
</cp:coreProperties>
</file>