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6858000" cy="97236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23600"/>
              <a:gd name="textAreaBottom" fmla="*/ 9723240 h 9723600"/>
            </a:gdLst>
            <a:ahLst/>
            <a:rect l="textAreaLeft" t="textAreaTop" r="textAreaRight" b="textAreaBottom"/>
            <a:pathLst>
              <a:path w="21600" h="30625">
                <a:moveTo>
                  <a:pt x="5" y="0"/>
                </a:moveTo>
                <a:arcTo wR="5" hR="5" stAng="16200000" swAng="-5400000"/>
                <a:lnTo>
                  <a:pt x="0" y="30620"/>
                </a:lnTo>
                <a:arcTo wR="5" hR="5" stAng="10800000" swAng="-5400000"/>
                <a:lnTo>
                  <a:pt x="21595" y="3062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036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760" y="-360"/>
            <a:ext cx="29700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998640" y="728280"/>
            <a:ext cx="4860720" cy="364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4960" cy="43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9235800"/>
            <a:ext cx="297036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760" y="9235800"/>
            <a:ext cx="29700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827C473-A517-4555-8778-2AB92797F21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998640" y="728640"/>
            <a:ext cx="4862520" cy="36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85800" y="4618080"/>
            <a:ext cx="54864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0DF4-B293-4732-A384-8EBACD0A9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1187-5D02-4133-840A-53BA3E190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294F-CD30-4E18-889D-46C1646EE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838D-7E1B-451D-84C5-FB300FAE2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566E0-FF56-45C2-8224-5AE754F4C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60250-6958-4014-A886-72B99D0D6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6D4A9-4D9C-4630-A755-C86AAF4DA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C55FA-86F0-4E04-9112-5A39766B4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2ECD6-69C6-4EA6-93F0-E9F5FEC73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FEEBE-DEBD-4BA6-9FA3-25CB6839E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ADC81-01E9-4945-AF48-BFFA618D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EF28-254C-43D9-9137-AAF9B0C01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74807-2729-43B2-8AEA-ED2970BE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D3EE6-A9D6-424D-9F80-4EB946C0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81A67-3F5C-4771-AF02-8408CDD7B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B62D5-BA98-45B7-A7D2-CD042FD19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AA0D5-3450-412B-8B1F-DF5C09AFF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46A2-AADB-490A-856B-5285EC47A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80B5-339B-4090-9C22-CD137FB7A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484B-12F8-4BA4-A1C1-BF0524FD5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376F-E178-405D-938B-66E2537AF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AD7C-8F36-462D-A86A-6B4BC2D2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1BB2-45E4-4F10-99CD-D19809B7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5E65-AF9E-4AFD-A0DA-429E5428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59D845F-CDE3-4EB6-A57B-ABCF6E81E901}" type="slidenum">
              <a:rPr b="0" lang="es-E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E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2EB3F92-B4E2-40A7-B836-FFDEB8D77266}" type="slidenum">
              <a:rPr b="0" lang="es-E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14280"/>
            <a:ext cx="68724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Comic Sans MS"/>
              </a:rPr>
              <a:t>OM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47920" y="2133360"/>
            <a:ext cx="5788080" cy="417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e acuerdo a estudios de la OMS          las enfermedades se previenen, diagnostican y curan en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74 % con medicament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0 %  con intervención quirúrgic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6 % con otras intervenciones: medicina nuclear, psicoterapia, kinesioterapia, et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4284720" y="692280"/>
            <a:ext cx="3456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763640" y="1125360"/>
            <a:ext cx="367200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Tahoma"/>
              </a:rPr>
              <a:t>OMS, importa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993366"/>
                </a:solidFill>
                <a:latin typeface="Tahoma"/>
              </a:rPr>
              <a:t>del medica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858000" y="533520"/>
            <a:ext cx="2178000" cy="198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5878-736C-499F-866D-02AE8F6F8711}" type="slidenum">
              <a:t>1</a:t>
            </a:fld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872400" cy="16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AS DEL PACIENTE PEDIATRIC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60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PENDENC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TORNO SOCI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TEROGENEO (CRECIMIENTO CONTINUO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6400800" y="1905120"/>
            <a:ext cx="1600200" cy="155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0270-BBCB-425C-86A2-5D0FAF619116}" type="slidenum">
              <a:t>10</a:t>
            </a:fld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Derechos del niñ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990033"/>
                </a:solidFill>
                <a:latin typeface="Comic Sans MS"/>
              </a:rPr>
              <a:t>Declaración de los Derechos del Niño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Proclamada por la Asamblea General en su resolución 1386 (XIV), de 20 de noviembre de 1959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5181480" y="4495680"/>
            <a:ext cx="8572680" cy="7212240"/>
            <a:chOff x="5181480" y="4495680"/>
            <a:chExt cx="8572680" cy="7212240"/>
          </a:xfrm>
        </p:grpSpPr>
        <p:sp>
          <p:nvSpPr>
            <p:cNvPr id="166" name=""/>
            <p:cNvSpPr/>
            <p:nvPr/>
          </p:nvSpPr>
          <p:spPr>
            <a:xfrm>
              <a:off x="5181480" y="4495680"/>
              <a:ext cx="8572680" cy="721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5181480" y="4495680"/>
              <a:ext cx="7201080" cy="2868480"/>
              <a:chOff x="5181480" y="4495680"/>
              <a:chExt cx="7201080" cy="2868480"/>
            </a:xfrm>
          </p:grpSpPr>
          <p:sp>
            <p:nvSpPr>
              <p:cNvPr id="168" name=""/>
              <p:cNvSpPr/>
              <p:nvPr/>
            </p:nvSpPr>
            <p:spPr>
              <a:xfrm>
                <a:off x="5181480" y="4495680"/>
                <a:ext cx="72010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5181480" y="4495680"/>
                <a:ext cx="7201080" cy="2868480"/>
                <a:chOff x="5181480" y="4495680"/>
                <a:chExt cx="7201080" cy="286848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5181480" y="4495680"/>
                  <a:ext cx="7201080" cy="2868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1" name=""/>
                <p:cNvGrpSpPr/>
                <p:nvPr/>
              </p:nvGrpSpPr>
              <p:grpSpPr>
                <a:xfrm>
                  <a:off x="5181480" y="4495680"/>
                  <a:ext cx="2857680" cy="1323720"/>
                  <a:chOff x="5181480" y="4495680"/>
                  <a:chExt cx="2857680" cy="132372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>
                    <a:off x="5181480" y="4495680"/>
                    <a:ext cx="2857680" cy="1323720"/>
                  </a:xfrm>
                  <a:prstGeom prst="rect">
                    <a:avLst/>
                  </a:prstGeom>
                  <a:solidFill>
                    <a:srgbClr val="b0ffe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lnSpc>
                        <a:spcPct val="95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5181480" y="4495680"/>
                    <a:ext cx="2857680" cy="1323720"/>
                  </a:xfrm>
                  <a:prstGeom prst="rect">
                    <a:avLst/>
                  </a:prstGeom>
                  <a:solidFill>
                    <a:srgbClr val="b0ffe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5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GB" sz="1000" spc="-1" strike="noStrike">
                        <a:solidFill>
                          <a:srgbClr val="990033"/>
                        </a:solidFill>
                        <a:latin typeface="Comic Sans MS"/>
                      </a:rPr>
                      <a:t>Principio 5</a:t>
                    </a:r>
                    <a:br>
                      <a:rPr sz="1400"/>
                    </a:br>
                    <a:r>
                      <a:rPr b="0" lang="en-GB" sz="900" spc="-1" strike="noStrike">
                        <a:solidFill>
                          <a:srgbClr val="000000"/>
                        </a:solidFill>
                        <a:latin typeface="Comic Sans MS"/>
                      </a:rPr>
                      <a:t>     El niño física o mentalmente impedido o que sufra algún impedimento scial debe recibir el tratamiento, la educación y el cuidado especiales que requiere su caso particular.</a:t>
                    </a:r>
                    <a:br>
                      <a:rPr sz="900"/>
                    </a:b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0" lang="en-GB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	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74" name=""/>
          <p:cNvGrpSpPr/>
          <p:nvPr/>
        </p:nvGrpSpPr>
        <p:grpSpPr>
          <a:xfrm>
            <a:off x="1905120" y="4572000"/>
            <a:ext cx="8572320" cy="7211880"/>
            <a:chOff x="1905120" y="4572000"/>
            <a:chExt cx="8572320" cy="7211880"/>
          </a:xfrm>
        </p:grpSpPr>
        <p:sp>
          <p:nvSpPr>
            <p:cNvPr id="175" name=""/>
            <p:cNvSpPr/>
            <p:nvPr/>
          </p:nvSpPr>
          <p:spPr>
            <a:xfrm>
              <a:off x="1905120" y="4572000"/>
              <a:ext cx="8572320" cy="72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1905120" y="4572000"/>
              <a:ext cx="7200720" cy="2868480"/>
              <a:chOff x="1905120" y="4572000"/>
              <a:chExt cx="7200720" cy="2868480"/>
            </a:xfrm>
          </p:grpSpPr>
          <p:sp>
            <p:nvSpPr>
              <p:cNvPr id="177" name=""/>
              <p:cNvSpPr/>
              <p:nvPr/>
            </p:nvSpPr>
            <p:spPr>
              <a:xfrm>
                <a:off x="1905120" y="4572000"/>
                <a:ext cx="72007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8" name=""/>
              <p:cNvGrpSpPr/>
              <p:nvPr/>
            </p:nvGrpSpPr>
            <p:grpSpPr>
              <a:xfrm>
                <a:off x="1905120" y="4572000"/>
                <a:ext cx="7200720" cy="2868480"/>
                <a:chOff x="1905120" y="4572000"/>
                <a:chExt cx="7200720" cy="286848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1905120" y="4572000"/>
                  <a:ext cx="7200720" cy="2868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0" name=""/>
                <p:cNvGrpSpPr/>
                <p:nvPr/>
              </p:nvGrpSpPr>
              <p:grpSpPr>
                <a:xfrm>
                  <a:off x="1905120" y="4572000"/>
                  <a:ext cx="2857320" cy="1323720"/>
                  <a:chOff x="1905120" y="4572000"/>
                  <a:chExt cx="2857320" cy="132372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>
                    <a:off x="1905120" y="4572000"/>
                    <a:ext cx="2857320" cy="1323720"/>
                  </a:xfrm>
                  <a:prstGeom prst="rect">
                    <a:avLst/>
                  </a:prstGeom>
                  <a:solidFill>
                    <a:srgbClr val="b0ffe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lnSpc>
                        <a:spcPct val="95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1905120" y="4572000"/>
                    <a:ext cx="2857320" cy="1323720"/>
                  </a:xfrm>
                  <a:prstGeom prst="rect">
                    <a:avLst/>
                  </a:prstGeom>
                  <a:solidFill>
                    <a:srgbClr val="b0ffe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5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GB" sz="1000" spc="-1" strike="noStrike">
                        <a:solidFill>
                          <a:srgbClr val="990033"/>
                        </a:solidFill>
                        <a:latin typeface="Comic Sans MS"/>
                      </a:rPr>
                      <a:t>Principio 5</a:t>
                    </a:r>
                    <a:br>
                      <a:rPr sz="1400"/>
                    </a:br>
                    <a:r>
                      <a:rPr b="0" lang="en-GB" sz="900" spc="-1" strike="noStrike">
                        <a:solidFill>
                          <a:srgbClr val="000000"/>
                        </a:solidFill>
                        <a:latin typeface="Comic Sans MS"/>
                      </a:rPr>
                      <a:t>     El niño física o mentalmente impedido o que sufra algún impedimento social debe recibir el tratamiento, la educación y el cuidado especiales que requiere su caso particular.</a:t>
                    </a:r>
                    <a:br>
                      <a:rPr sz="900"/>
                    </a:b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83" name=""/>
          <p:cNvGrpSpPr/>
          <p:nvPr/>
        </p:nvGrpSpPr>
        <p:grpSpPr>
          <a:xfrm>
            <a:off x="1676520" y="3809880"/>
            <a:ext cx="8572320" cy="7212240"/>
            <a:chOff x="1676520" y="3809880"/>
            <a:chExt cx="8572320" cy="7212240"/>
          </a:xfrm>
        </p:grpSpPr>
        <p:sp>
          <p:nvSpPr>
            <p:cNvPr id="184" name=""/>
            <p:cNvSpPr/>
            <p:nvPr/>
          </p:nvSpPr>
          <p:spPr>
            <a:xfrm>
              <a:off x="1676520" y="3809880"/>
              <a:ext cx="8572320" cy="721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1676520" y="3809880"/>
              <a:ext cx="7200720" cy="482760"/>
              <a:chOff x="1676520" y="3809880"/>
              <a:chExt cx="7200720" cy="482760"/>
            </a:xfrm>
          </p:grpSpPr>
          <p:sp>
            <p:nvSpPr>
              <p:cNvPr id="186" name=""/>
              <p:cNvSpPr/>
              <p:nvPr/>
            </p:nvSpPr>
            <p:spPr>
              <a:xfrm>
                <a:off x="1676520" y="3809880"/>
                <a:ext cx="72007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7" name=""/>
              <p:cNvGrpSpPr/>
              <p:nvPr/>
            </p:nvGrpSpPr>
            <p:grpSpPr>
              <a:xfrm>
                <a:off x="1676520" y="3809880"/>
                <a:ext cx="2857320" cy="482760"/>
                <a:chOff x="1676520" y="3809880"/>
                <a:chExt cx="2857320" cy="48276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1676520" y="3809880"/>
                  <a:ext cx="2857320" cy="482760"/>
                </a:xfrm>
                <a:prstGeom prst="rect">
                  <a:avLst/>
                </a:prstGeom>
                <a:solidFill>
                  <a:srgbClr val="b0f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1676520" y="3809880"/>
                  <a:ext cx="2857320" cy="482760"/>
                </a:xfrm>
                <a:prstGeom prst="rect">
                  <a:avLst/>
                </a:prstGeom>
                <a:solidFill>
                  <a:srgbClr val="b0f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0" lang="en-GB" sz="900" spc="-1" strike="noStrike">
                      <a:solidFill>
                        <a:srgbClr val="000000"/>
                      </a:solidFill>
                      <a:latin typeface="Comic Sans MS"/>
                    </a:rPr>
                    <a:t>El niño tendrá derecho a disfrutar de alimentación, vivienda, recreo y servicios médicos adecuados.</a:t>
                  </a:r>
                  <a:r>
                    <a:rPr b="0" lang="en-GB" sz="900" spc="-1" strike="noStrike">
                      <a:solidFill>
                        <a:srgbClr val="000000"/>
                      </a:solidFill>
                      <a:latin typeface="Verdana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90" name=""/>
          <p:cNvGrpSpPr/>
          <p:nvPr/>
        </p:nvGrpSpPr>
        <p:grpSpPr>
          <a:xfrm>
            <a:off x="5181480" y="4495680"/>
            <a:ext cx="8572680" cy="7212240"/>
            <a:chOff x="5181480" y="4495680"/>
            <a:chExt cx="8572680" cy="7212240"/>
          </a:xfrm>
        </p:grpSpPr>
        <p:sp>
          <p:nvSpPr>
            <p:cNvPr id="191" name=""/>
            <p:cNvSpPr/>
            <p:nvPr/>
          </p:nvSpPr>
          <p:spPr>
            <a:xfrm>
              <a:off x="5181480" y="4495680"/>
              <a:ext cx="8572680" cy="721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5181480" y="4495680"/>
              <a:ext cx="7201080" cy="2868480"/>
              <a:chOff x="5181480" y="4495680"/>
              <a:chExt cx="7201080" cy="2868480"/>
            </a:xfrm>
          </p:grpSpPr>
          <p:sp>
            <p:nvSpPr>
              <p:cNvPr id="193" name=""/>
              <p:cNvSpPr/>
              <p:nvPr/>
            </p:nvSpPr>
            <p:spPr>
              <a:xfrm>
                <a:off x="5181480" y="4495680"/>
                <a:ext cx="72010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4" name=""/>
              <p:cNvGrpSpPr/>
              <p:nvPr/>
            </p:nvGrpSpPr>
            <p:grpSpPr>
              <a:xfrm>
                <a:off x="5181480" y="4495680"/>
                <a:ext cx="7201080" cy="2868480"/>
                <a:chOff x="5181480" y="4495680"/>
                <a:chExt cx="7201080" cy="286848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181480" y="4495680"/>
                  <a:ext cx="7201080" cy="2868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6" name=""/>
                <p:cNvGrpSpPr/>
                <p:nvPr/>
              </p:nvGrpSpPr>
              <p:grpSpPr>
                <a:xfrm>
                  <a:off x="5181480" y="4495680"/>
                  <a:ext cx="2857680" cy="1323720"/>
                  <a:chOff x="5181480" y="4495680"/>
                  <a:chExt cx="2857680" cy="1323720"/>
                </a:xfrm>
              </p:grpSpPr>
              <p:sp>
                <p:nvSpPr>
                  <p:cNvPr id="197" name=""/>
                  <p:cNvSpPr/>
                  <p:nvPr/>
                </p:nvSpPr>
                <p:spPr>
                  <a:xfrm>
                    <a:off x="5181480" y="4495680"/>
                    <a:ext cx="2857680" cy="1323720"/>
                  </a:xfrm>
                  <a:prstGeom prst="rect">
                    <a:avLst/>
                  </a:prstGeom>
                  <a:solidFill>
                    <a:srgbClr val="b0ffe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lnSpc>
                        <a:spcPct val="95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5181480" y="4495680"/>
                    <a:ext cx="2857680" cy="1323720"/>
                  </a:xfrm>
                  <a:prstGeom prst="rect">
                    <a:avLst/>
                  </a:prstGeom>
                  <a:solidFill>
                    <a:srgbClr val="b0ffe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95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GB" sz="1000" spc="-1" strike="noStrike">
                        <a:solidFill>
                          <a:srgbClr val="990033"/>
                        </a:solidFill>
                        <a:latin typeface="Comic Sans MS"/>
                      </a:rPr>
                      <a:t>Principio 5</a:t>
                    </a:r>
                    <a:br>
                      <a:rPr sz="1400"/>
                    </a:br>
                    <a:r>
                      <a:rPr b="0" lang="en-GB" sz="900" spc="-1" strike="noStrike">
                        <a:solidFill>
                          <a:srgbClr val="000000"/>
                        </a:solidFill>
                        <a:latin typeface="Comic Sans MS"/>
                      </a:rPr>
                      <a:t> el tratamiento, la educación y el cuidado especiales que requiere su caso particular.</a:t>
                    </a:r>
                    <a:br>
                      <a:rPr sz="900"/>
                    </a:b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0" lang="en-GB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	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7924680" y="5791320"/>
            <a:ext cx="857520" cy="761760"/>
          </a:xfrm>
          <a:prstGeom prst="rect">
            <a:avLst/>
          </a:prstGeom>
          <a:ln w="0">
            <a:noFill/>
          </a:ln>
        </p:spPr>
      </p:pic>
      <p:grpSp>
        <p:nvGrpSpPr>
          <p:cNvPr id="200" name=""/>
          <p:cNvGrpSpPr/>
          <p:nvPr/>
        </p:nvGrpSpPr>
        <p:grpSpPr>
          <a:xfrm>
            <a:off x="4857840" y="3962520"/>
            <a:ext cx="8572320" cy="7211880"/>
            <a:chOff x="4857840" y="3962520"/>
            <a:chExt cx="8572320" cy="7211880"/>
          </a:xfrm>
        </p:grpSpPr>
        <p:sp>
          <p:nvSpPr>
            <p:cNvPr id="201" name=""/>
            <p:cNvSpPr/>
            <p:nvPr/>
          </p:nvSpPr>
          <p:spPr>
            <a:xfrm>
              <a:off x="4857840" y="3962520"/>
              <a:ext cx="8572320" cy="72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4857840" y="3962520"/>
              <a:ext cx="7200720" cy="1874520"/>
              <a:chOff x="4857840" y="3962520"/>
              <a:chExt cx="7200720" cy="1874520"/>
            </a:xfrm>
          </p:grpSpPr>
          <p:sp>
            <p:nvSpPr>
              <p:cNvPr id="203" name=""/>
              <p:cNvSpPr/>
              <p:nvPr/>
            </p:nvSpPr>
            <p:spPr>
              <a:xfrm>
                <a:off x="4857840" y="3962520"/>
                <a:ext cx="72007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4" name=""/>
              <p:cNvGrpSpPr/>
              <p:nvPr/>
            </p:nvGrpSpPr>
            <p:grpSpPr>
              <a:xfrm>
                <a:off x="4857840" y="3962520"/>
                <a:ext cx="3600000" cy="1874520"/>
                <a:chOff x="4857840" y="3962520"/>
                <a:chExt cx="3600000" cy="187452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4857840" y="3962520"/>
                  <a:ext cx="3600000" cy="1874520"/>
                </a:xfrm>
                <a:prstGeom prst="rect">
                  <a:avLst/>
                </a:prstGeom>
                <a:solidFill>
                  <a:srgbClr val="b0f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6" name=""/>
                <p:cNvGrpSpPr/>
                <p:nvPr/>
              </p:nvGrpSpPr>
              <p:grpSpPr>
                <a:xfrm>
                  <a:off x="4857840" y="3962520"/>
                  <a:ext cx="3600000" cy="1874160"/>
                  <a:chOff x="4857840" y="3962520"/>
                  <a:chExt cx="3600000" cy="187416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>
                    <a:off x="4857840" y="3962520"/>
                    <a:ext cx="3600000" cy="783720"/>
                  </a:xfrm>
                  <a:prstGeom prst="rect">
                    <a:avLst/>
                  </a:prstGeom>
                  <a:solidFill>
                    <a:srgbClr val="b0ffe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95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r>
                      <a:rPr b="1" lang="en-GB" sz="1000" spc="-1" strike="noStrike">
                        <a:solidFill>
                          <a:srgbClr val="990033"/>
                        </a:solidFill>
                        <a:latin typeface="Comic Sans MS"/>
                      </a:rPr>
                      <a:t>Principio 8</a:t>
                    </a:r>
                    <a:br>
                      <a:rPr sz="1400"/>
                    </a:br>
                    <a:r>
                      <a:rPr b="0" lang="en-GB" sz="900" spc="-1" strike="noStrike">
                        <a:solidFill>
                          <a:srgbClr val="000000"/>
                        </a:solidFill>
                        <a:latin typeface="Comic Sans MS"/>
                      </a:rPr>
                      <a:t>El niño debe, en todas las circunstancias, figurar entre los primeros que reciban protección y socorro.</a:t>
                    </a:r>
                    <a:r>
                      <a:rPr b="0" lang="en-GB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08" name=""/>
                  <p:cNvGrpSpPr/>
                  <p:nvPr/>
                </p:nvGrpSpPr>
                <p:grpSpPr>
                  <a:xfrm>
                    <a:off x="4857840" y="4970880"/>
                    <a:ext cx="3598200" cy="865800"/>
                    <a:chOff x="4857840" y="4970880"/>
                    <a:chExt cx="3598200" cy="865800"/>
                  </a:xfrm>
                </p:grpSpPr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4857840" y="4970880"/>
                      <a:ext cx="2971440" cy="865440"/>
                    </a:xfrm>
                    <a:prstGeom prst="rect">
                      <a:avLst/>
                    </a:prstGeom>
                    <a:solidFill>
                      <a:srgbClr val="b0ffe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4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7829280" y="4970880"/>
                      <a:ext cx="626760" cy="865440"/>
                    </a:xfrm>
                    <a:prstGeom prst="rect">
                      <a:avLst/>
                    </a:prstGeom>
                    <a:solidFill>
                      <a:srgbClr val="b0ffe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" name=""/>
                    <p:cNvSpPr/>
                    <p:nvPr/>
                  </p:nvSpPr>
                  <p:spPr>
                    <a:xfrm>
                      <a:off x="4857840" y="5836320"/>
                      <a:ext cx="2971440" cy="360"/>
                    </a:xfrm>
                    <a:prstGeom prst="rect">
                      <a:avLst/>
                    </a:prstGeom>
                    <a:solidFill>
                      <a:srgbClr val="b0ffe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sp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7829280" y="5836320"/>
                      <a:ext cx="626760" cy="360"/>
                    </a:xfrm>
                    <a:prstGeom prst="rect">
                      <a:avLst/>
                    </a:prstGeom>
                    <a:solidFill>
                      <a:srgbClr val="b0ffe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sp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213" name=""/>
          <p:cNvGrpSpPr/>
          <p:nvPr/>
        </p:nvGrpSpPr>
        <p:grpSpPr>
          <a:xfrm>
            <a:off x="0" y="-353880"/>
            <a:ext cx="8572680" cy="7211880"/>
            <a:chOff x="0" y="-353880"/>
            <a:chExt cx="8572680" cy="7211880"/>
          </a:xfrm>
        </p:grpSpPr>
        <p:sp>
          <p:nvSpPr>
            <p:cNvPr id="214" name=""/>
            <p:cNvSpPr/>
            <p:nvPr/>
          </p:nvSpPr>
          <p:spPr>
            <a:xfrm>
              <a:off x="0" y="-353880"/>
              <a:ext cx="8572680" cy="72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0" y="-353880"/>
              <a:ext cx="7201080" cy="236160"/>
              <a:chOff x="0" y="-353880"/>
              <a:chExt cx="7201080" cy="236160"/>
            </a:xfrm>
          </p:grpSpPr>
          <p:sp>
            <p:nvSpPr>
              <p:cNvPr id="216" name=""/>
              <p:cNvSpPr/>
              <p:nvPr/>
            </p:nvSpPr>
            <p:spPr>
              <a:xfrm>
                <a:off x="0" y="-353880"/>
                <a:ext cx="72010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7" name=""/>
              <p:cNvGrpSpPr/>
              <p:nvPr/>
            </p:nvGrpSpPr>
            <p:grpSpPr>
              <a:xfrm>
                <a:off x="0" y="-353880"/>
                <a:ext cx="2857680" cy="236160"/>
                <a:chOff x="0" y="-353880"/>
                <a:chExt cx="2857680" cy="23616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0" y="-353880"/>
                  <a:ext cx="2857680" cy="236160"/>
                </a:xfrm>
                <a:prstGeom prst="rect">
                  <a:avLst/>
                </a:prstGeom>
                <a:solidFill>
                  <a:srgbClr val="b0f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0" y="-353880"/>
                  <a:ext cx="2857680" cy="236160"/>
                </a:xfrm>
                <a:prstGeom prst="rect">
                  <a:avLst/>
                </a:prstGeom>
                <a:solidFill>
                  <a:srgbClr val="b0f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n-GB" sz="1000" spc="-1" strike="noStrike">
                      <a:solidFill>
                        <a:srgbClr val="990033"/>
                      </a:solidFill>
                      <a:latin typeface="Comic Sans MS"/>
                    </a:rPr>
                    <a:t>Principio 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20" name=""/>
          <p:cNvGrpSpPr/>
          <p:nvPr/>
        </p:nvGrpSpPr>
        <p:grpSpPr>
          <a:xfrm>
            <a:off x="0" y="-353880"/>
            <a:ext cx="8572680" cy="7211880"/>
            <a:chOff x="0" y="-353880"/>
            <a:chExt cx="8572680" cy="7211880"/>
          </a:xfrm>
        </p:grpSpPr>
        <p:sp>
          <p:nvSpPr>
            <p:cNvPr id="221" name=""/>
            <p:cNvSpPr/>
            <p:nvPr/>
          </p:nvSpPr>
          <p:spPr>
            <a:xfrm>
              <a:off x="0" y="-353880"/>
              <a:ext cx="8572680" cy="72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0" y="-353880"/>
              <a:ext cx="7201080" cy="236160"/>
              <a:chOff x="0" y="-353880"/>
              <a:chExt cx="7201080" cy="236160"/>
            </a:xfrm>
          </p:grpSpPr>
          <p:sp>
            <p:nvSpPr>
              <p:cNvPr id="223" name=""/>
              <p:cNvSpPr/>
              <p:nvPr/>
            </p:nvSpPr>
            <p:spPr>
              <a:xfrm>
                <a:off x="0" y="-353880"/>
                <a:ext cx="72010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4" name=""/>
              <p:cNvGrpSpPr/>
              <p:nvPr/>
            </p:nvGrpSpPr>
            <p:grpSpPr>
              <a:xfrm>
                <a:off x="0" y="-353880"/>
                <a:ext cx="2857680" cy="236160"/>
                <a:chOff x="0" y="-353880"/>
                <a:chExt cx="2857680" cy="2361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0" y="-353880"/>
                  <a:ext cx="2857680" cy="236160"/>
                </a:xfrm>
                <a:prstGeom prst="rect">
                  <a:avLst/>
                </a:prstGeom>
                <a:solidFill>
                  <a:srgbClr val="b0f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0" y="-353880"/>
                  <a:ext cx="2857680" cy="236160"/>
                </a:xfrm>
                <a:prstGeom prst="rect">
                  <a:avLst/>
                </a:prstGeom>
                <a:solidFill>
                  <a:srgbClr val="b0f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r>
                    <a:rPr b="1" lang="en-GB" sz="1000" spc="-1" strike="noStrike">
                      <a:solidFill>
                        <a:srgbClr val="990033"/>
                      </a:solidFill>
                      <a:latin typeface="Comic Sans MS"/>
                    </a:rPr>
                    <a:t>Principio 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9B21-2C76-4058-BB02-B974505C380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RMACIA HRRI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440000" y="1979280"/>
            <a:ext cx="724680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IS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s abastecer y suministrar medicamentos e insumos clínicos en forma eficaz, oportuna y eficiente. A la población pediátrica que lo requiera con el fin de prevenir,paliar o cuidar la salud de nuestros pacientes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600200" y="4419720"/>
            <a:ext cx="1371600" cy="10666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7162920" y="533412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3352680" y="4495680"/>
            <a:ext cx="1143000" cy="8575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57200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5"/>
          <a:stretch/>
        </p:blipFill>
        <p:spPr>
          <a:xfrm>
            <a:off x="2057400" y="5562720"/>
            <a:ext cx="1219320" cy="9903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6"/>
          <a:stretch/>
        </p:blipFill>
        <p:spPr>
          <a:xfrm>
            <a:off x="4343400" y="5486400"/>
            <a:ext cx="1143000" cy="85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58FB-CA18-4BC4-91F8-C7D03B00F3C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71600" y="252360"/>
            <a:ext cx="731520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OBLEMAS RELACIONADOS CON LOS MEDICAMENTO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905120" y="1904760"/>
            <a:ext cx="723888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 PACIENTE NO USA LOS MEDICAMENTOS QUE NECESI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 PACIENTE USA MEDICAMENTOS QUE NO NECESI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 PACIENTE NO RESPONDE A TRATAMI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 PACIENTE USA UNA DOSIS, PAUTA Y O DURACION INFERIOR O SUPERIOR A LA QUE NECESITA DE UN MEDICAMENTO CORRECTAMENTE SELECCIONAD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 PACIENTE USA UN MEDICAMENTO QUE LE PRODUCE UNA REACION ADVERS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66B9-5B66-4FCD-A8C6-826C87FA50F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JETIVOS ESTRATEGIC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7162920" cy="42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bastecimiento de medicamento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ispensación de medicamentos a pacientes hospitalizado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ispensación de medicamentos a pacientes ambulatorios crónicos y agudo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ispensación de medicamentos de urgencia.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reparaciones magistrales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ocencia a alumnos de química y farmacia Y técnicos paramédic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201E-9933-4737-B18F-E91BD7108E0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314280"/>
            <a:ext cx="68724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GRAM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"/>
          <p:cNvSpPr/>
          <p:nvPr/>
        </p:nvSpPr>
        <p:spPr>
          <a:xfrm>
            <a:off x="2463840" y="2666880"/>
            <a:ext cx="5371920" cy="2629080"/>
          </a:xfrm>
          <a:prstGeom prst="roundRect">
            <a:avLst>
              <a:gd name="adj" fmla="val 6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42" idx="1"/>
            <a:endCxn id="243" idx="2"/>
          </p:cNvCxnSpPr>
          <p:nvPr/>
        </p:nvCxnSpPr>
        <p:spPr>
          <a:xfrm flipH="1" rot="10800000">
            <a:off x="3351600" y="4876200"/>
            <a:ext cx="343800" cy="1059480"/>
          </a:xfrm>
          <a:prstGeom prst="bentConnector4">
            <a:avLst>
              <a:gd name="adj1" fmla="val -66666"/>
              <a:gd name="adj2" fmla="val 64004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44" name=""/>
          <p:cNvCxnSpPr>
            <a:stCxn id="243" idx="0"/>
            <a:endCxn id="245" idx="2"/>
          </p:cNvCxnSpPr>
          <p:nvPr/>
        </p:nvCxnSpPr>
        <p:spPr>
          <a:xfrm flipV="1" rot="16200000">
            <a:off x="3280320" y="3851280"/>
            <a:ext cx="405360" cy="426240"/>
          </a:xfrm>
          <a:prstGeom prst="bentConnector3">
            <a:avLst>
              <a:gd name="adj1" fmla="val 49777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46" name=""/>
          <p:cNvCxnSpPr>
            <a:stCxn id="247" idx="0"/>
            <a:endCxn id="248" idx="2"/>
          </p:cNvCxnSpPr>
          <p:nvPr/>
        </p:nvCxnSpPr>
        <p:spPr>
          <a:xfrm flipV="1" rot="16200000">
            <a:off x="5835240" y="2132640"/>
            <a:ext cx="533880" cy="190584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49" name=""/>
          <p:cNvCxnSpPr>
            <a:stCxn id="250" idx="0"/>
            <a:endCxn id="248" idx="2"/>
          </p:cNvCxnSpPr>
          <p:nvPr/>
        </p:nvCxnSpPr>
        <p:spPr>
          <a:xfrm flipV="1">
            <a:off x="5149440" y="2818800"/>
            <a:ext cx="1080" cy="533880"/>
          </a:xfrm>
          <a:prstGeom prst="bentConnector2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51" name=""/>
          <p:cNvCxnSpPr>
            <a:stCxn id="245" idx="0"/>
            <a:endCxn id="248" idx="2"/>
          </p:cNvCxnSpPr>
          <p:nvPr/>
        </p:nvCxnSpPr>
        <p:spPr>
          <a:xfrm flipH="1" flipV="1" rot="5400000">
            <a:off x="3926880" y="2161800"/>
            <a:ext cx="565920" cy="1880280"/>
          </a:xfrm>
          <a:prstGeom prst="bentConnector3">
            <a:avLst>
              <a:gd name="adj1" fmla="val 49968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48" name=""/>
          <p:cNvSpPr/>
          <p:nvPr/>
        </p:nvSpPr>
        <p:spPr>
          <a:xfrm>
            <a:off x="4343400" y="2209680"/>
            <a:ext cx="1612800" cy="6098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C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463840" y="3384720"/>
            <a:ext cx="1611360" cy="477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DIRECCION MÉD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343400" y="3352680"/>
            <a:ext cx="1612800" cy="478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DIRECCION ADMINISTRA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48520" y="3352680"/>
            <a:ext cx="1611360" cy="478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BDIRECCION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RH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057400" y="4267080"/>
            <a:ext cx="3276720" cy="6098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O DE RESPONSABIL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OYO AL DIAGNOSTICO Y TRAT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352680" y="5638680"/>
            <a:ext cx="1611360" cy="592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DA9F-220C-46DE-A45B-B1275264909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SELECC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A TRAVES DEL COMITÉ DE FARMACIA Y TERAPEUTIC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EDICION DEL ARSENAL TERAPEUTIC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DIFUSION DE LA GU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EVALUACION PERIODICA DEL ARSENAL TERAPEUTIC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F962-3B6F-4FC6-8C45-5FB8516553F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Comic Sans MS"/>
              </a:rPr>
              <a:t>MARCO   LEGAL PARA ADQUISICIONES DEL ESTADO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mic Sans MS"/>
              </a:rPr>
              <a:t>LEY  Nº19.886</a:t>
            </a:r>
            <a:r>
              <a:rPr b="0" lang="es-ES" sz="2200" spc="-1" strike="noStrike">
                <a:solidFill>
                  <a:srgbClr val="000000"/>
                </a:solidFill>
                <a:latin typeface="Comic Sans MS"/>
              </a:rPr>
              <a:t> .  LEY DE BASES SOBRE CONTRATOS ADMINISTRATIVOS  DE  SUMINISTROS  Y PRESTACIONES DE SERVICIOS. AGOSTO 2003.  PMG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mic Sans MS"/>
              </a:rPr>
              <a:t>REGLAMENTO DE LA LEY DE COMPRAS PUBLICAS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USO OBLIGATORIO DEL PORTAL ELECTRONICO CHILE COMPRA PARA ADQUISICIONES &gt; A 3 UTM.  </a:t>
            </a: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CONT. MARC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DEFINE TIEMPOS DE PUBLICACIÓN SEGÚN MONTO DE LA COMPRA.  &lt; A 100 UTM; ENTRE 100 Y 1000 UTM Y &gt; A 1000 UTM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mic Sans MS"/>
              </a:rPr>
              <a:t>NORMATIVA  MINSAL.   </a:t>
            </a:r>
            <a:r>
              <a:rPr b="0" lang="es-ES" sz="2200" spc="-1" strike="noStrike">
                <a:solidFill>
                  <a:srgbClr val="000000"/>
                </a:solidFill>
                <a:latin typeface="Comic Sans MS"/>
              </a:rPr>
              <a:t>A TRAVÉS DE DPI PARA COMPRAS CON ANTICIPOS A PROVEEDOR, AVANCES, Y FONDOS FIJOS ENTRE OTROS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5543-3EAB-48AA-A35C-EB2D94050F9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ADQUISICION Y CONTROL DE INVENTARI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DENTRO DEL MARCO LEGAL:CENABAST,CHILECOMPR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DEFINIR LAS ESPECIFICACIONES TECNIC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DEFINIR CRITERIOS DE ADJUDICAC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GESTION DE STOCK:MINIMO,CRITICO,METODO AB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7BCF-397A-48BA-80FA-646D3808E0D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_jefe_farma</cp:lastModifiedBy>
  <dcterms:modified xsi:type="dcterms:W3CDTF">2010-08-25T23:35:30Z</dcterms:modified>
  <cp:revision>20</cp:revision>
  <dc:subject/>
  <dc:title>La farmacocinética y farmacodinamia en pediatría</dc:title>
</cp:coreProperties>
</file>