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723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23600"/>
              <a:gd name="textAreaBottom" fmla="*/ 9723240 h 9723600"/>
            </a:gdLst>
            <a:ahLst/>
            <a:rect l="textAreaLeft" t="textAreaTop" r="textAreaRight" b="textAreaBottom"/>
            <a:pathLst>
              <a:path w="21600" h="30625">
                <a:moveTo>
                  <a:pt x="5" y="0"/>
                </a:moveTo>
                <a:arcTo wR="5" hR="5" stAng="16200000" swAng="-5400000"/>
                <a:lnTo>
                  <a:pt x="0" y="30620"/>
                </a:lnTo>
                <a:arcTo wR="5" hR="5" stAng="10800000" swAng="-5400000"/>
                <a:lnTo>
                  <a:pt x="21595" y="306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496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760" y="9235800"/>
            <a:ext cx="29700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0913F3-35C6-4A33-BB01-574215EB6B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6180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A0E-FFDF-4104-8DC0-3A7F4748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DF7-9308-4162-B4BD-CB1A4B12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133-06F6-4062-814C-427C891A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855E-9813-4E35-8564-31BDF54A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4A5D-7481-4A38-A347-95F735FE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AF6-5348-40AD-B10D-0FD25623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FD43-4BF9-4673-937B-ABB439F5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019B-16B0-485B-8BD8-AC959C90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35DB-45C2-42F9-9843-26E3BFE1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13A2-AEB6-49FF-8B70-58F513E9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160A-9CBB-42F5-A3CC-C7618EC0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BDC-2DF4-4F98-BD3E-8713C0FF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9272-4F8D-4AFF-AE1D-44213B59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B604-103E-452C-918E-CE824DC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52F4-739A-42B5-8577-1C2D4424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EAF7-CC2E-4C3F-9D4F-6227EFB6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A493-B585-417A-A259-D0F1B52D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EA0E-ADF8-482B-8C70-F252C790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312-16CF-4783-8E59-2930D350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B2F-3FEB-4F8F-BE56-8669D116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AC0-5DFC-4AD4-9F2D-CBE2969A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104-0C26-4F3A-8798-FAF33413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B2C-C1A7-45A4-9117-8FD919EC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7DD-1878-4385-A1ED-78ED7505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A66F38-85F6-4F67-A97C-D53CF7949845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55DE46-F5C0-4FA8-BDF8-F2B3282EAF62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68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O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5788080" cy="41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 acuerdo a estudios de la OMS          las enfermedades se previenen, diagnostican y curan 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4 % con medicamen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0 %  con intervención quirúrg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 % con otras intervenciones: medicina nuclear, psicoterapia, kinesioterapia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692280"/>
            <a:ext cx="345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1125360"/>
            <a:ext cx="36720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OMS, impor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del medic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1780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F8C-A083-4607-B7B5-40A4254A92A9}" type="slidenum">
              <a:t>1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2400" cy="16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AS DEL PACIENTE PEDIATR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ORNO SOC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TEROGENEO (CRECIMIENTO CONTINUO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600200" cy="15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3D9-D598-4C01-918D-69883C3D1D2F}" type="slidenum">
              <a:t>10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Derechos del ni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Comic Sans MS"/>
              </a:rPr>
              <a:t>Declaración de los Derechos del Niño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clamada por la Asamblea General en su resolución 1386 (XIV), de 20 de noviembre de 195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81480" y="4495680"/>
            <a:ext cx="8572680" cy="7212240"/>
            <a:chOff x="5181480" y="4495680"/>
            <a:chExt cx="8572680" cy="7212240"/>
          </a:xfrm>
        </p:grpSpPr>
        <p:sp>
          <p:nvSpPr>
            <p:cNvPr id="166" name=""/>
            <p:cNvSpPr/>
            <p:nvPr/>
          </p:nvSpPr>
          <p:spPr>
            <a:xfrm>
              <a:off x="5181480" y="4495680"/>
              <a:ext cx="857268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181480" y="4495680"/>
              <a:ext cx="7201080" cy="2868480"/>
              <a:chOff x="5181480" y="4495680"/>
              <a:chExt cx="7201080" cy="2868480"/>
            </a:xfrm>
          </p:grpSpPr>
          <p:sp>
            <p:nvSpPr>
              <p:cNvPr id="168" name=""/>
              <p:cNvSpPr/>
              <p:nvPr/>
            </p:nvSpPr>
            <p:spPr>
              <a:xfrm>
                <a:off x="5181480" y="44956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181480" y="4495680"/>
                <a:ext cx="7201080" cy="2868480"/>
                <a:chOff x="5181480" y="4495680"/>
                <a:chExt cx="7201080" cy="2868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181480" y="4495680"/>
                  <a:ext cx="720108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5181480" y="4495680"/>
                  <a:ext cx="2857680" cy="1323720"/>
                  <a:chOff x="5181480" y="4495680"/>
                  <a:chExt cx="2857680" cy="13237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     El niño física o mentalmente impedido o que sufra algún impedimento scial debe recibir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	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4" name=""/>
          <p:cNvGrpSpPr/>
          <p:nvPr/>
        </p:nvGrpSpPr>
        <p:grpSpPr>
          <a:xfrm>
            <a:off x="1905120" y="4572000"/>
            <a:ext cx="8572320" cy="7211880"/>
            <a:chOff x="1905120" y="4572000"/>
            <a:chExt cx="8572320" cy="7211880"/>
          </a:xfrm>
        </p:grpSpPr>
        <p:sp>
          <p:nvSpPr>
            <p:cNvPr id="175" name=""/>
            <p:cNvSpPr/>
            <p:nvPr/>
          </p:nvSpPr>
          <p:spPr>
            <a:xfrm>
              <a:off x="1905120" y="4572000"/>
              <a:ext cx="857232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905120" y="4572000"/>
              <a:ext cx="7200720" cy="2868480"/>
              <a:chOff x="1905120" y="4572000"/>
              <a:chExt cx="7200720" cy="2868480"/>
            </a:xfrm>
          </p:grpSpPr>
          <p:sp>
            <p:nvSpPr>
              <p:cNvPr id="177" name=""/>
              <p:cNvSpPr/>
              <p:nvPr/>
            </p:nvSpPr>
            <p:spPr>
              <a:xfrm>
                <a:off x="1905120" y="457200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1905120" y="4572000"/>
                <a:ext cx="7200720" cy="2868480"/>
                <a:chOff x="1905120" y="4572000"/>
                <a:chExt cx="7200720" cy="2868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905120" y="4572000"/>
                  <a:ext cx="720072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1905120" y="4572000"/>
                  <a:ext cx="2857320" cy="1323720"/>
                  <a:chOff x="1905120" y="4572000"/>
                  <a:chExt cx="2857320" cy="1323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1905120" y="4572000"/>
                    <a:ext cx="285732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05120" y="4572000"/>
                    <a:ext cx="285732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     El niño física o mentalmente impedido o que sufra algún impedimento social debe recibir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3" name=""/>
          <p:cNvGrpSpPr/>
          <p:nvPr/>
        </p:nvGrpSpPr>
        <p:grpSpPr>
          <a:xfrm>
            <a:off x="1676520" y="3809880"/>
            <a:ext cx="8572320" cy="7212240"/>
            <a:chOff x="1676520" y="3809880"/>
            <a:chExt cx="8572320" cy="7212240"/>
          </a:xfrm>
        </p:grpSpPr>
        <p:sp>
          <p:nvSpPr>
            <p:cNvPr id="184" name=""/>
            <p:cNvSpPr/>
            <p:nvPr/>
          </p:nvSpPr>
          <p:spPr>
            <a:xfrm>
              <a:off x="1676520" y="3809880"/>
              <a:ext cx="857232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676520" y="3809880"/>
              <a:ext cx="7200720" cy="482760"/>
              <a:chOff x="1676520" y="3809880"/>
              <a:chExt cx="7200720" cy="482760"/>
            </a:xfrm>
          </p:grpSpPr>
          <p:sp>
            <p:nvSpPr>
              <p:cNvPr id="186" name=""/>
              <p:cNvSpPr/>
              <p:nvPr/>
            </p:nvSpPr>
            <p:spPr>
              <a:xfrm>
                <a:off x="1676520" y="380988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676520" y="3809880"/>
                <a:ext cx="2857320" cy="482760"/>
                <a:chOff x="1676520" y="3809880"/>
                <a:chExt cx="2857320" cy="4827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676520" y="3809880"/>
                  <a:ext cx="2857320" cy="4827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676520" y="3809880"/>
                  <a:ext cx="2857320" cy="4827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Comic Sans MS"/>
                    </a:rPr>
                    <a:t>El niño tendrá derecho a disfrutar de alimentación, vivienda, recreo y servicios médicos adecuados.</a:t>
                  </a:r>
                  <a:r>
                    <a:rPr b="0" lang="en-GB" sz="9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0" name=""/>
          <p:cNvGrpSpPr/>
          <p:nvPr/>
        </p:nvGrpSpPr>
        <p:grpSpPr>
          <a:xfrm>
            <a:off x="5181480" y="4495680"/>
            <a:ext cx="8572680" cy="7212240"/>
            <a:chOff x="5181480" y="4495680"/>
            <a:chExt cx="8572680" cy="7212240"/>
          </a:xfrm>
        </p:grpSpPr>
        <p:sp>
          <p:nvSpPr>
            <p:cNvPr id="191" name=""/>
            <p:cNvSpPr/>
            <p:nvPr/>
          </p:nvSpPr>
          <p:spPr>
            <a:xfrm>
              <a:off x="5181480" y="4495680"/>
              <a:ext cx="857268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181480" y="4495680"/>
              <a:ext cx="7201080" cy="2868480"/>
              <a:chOff x="5181480" y="4495680"/>
              <a:chExt cx="7201080" cy="2868480"/>
            </a:xfrm>
          </p:grpSpPr>
          <p:sp>
            <p:nvSpPr>
              <p:cNvPr id="193" name=""/>
              <p:cNvSpPr/>
              <p:nvPr/>
            </p:nvSpPr>
            <p:spPr>
              <a:xfrm>
                <a:off x="5181480" y="44956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5181480" y="4495680"/>
                <a:ext cx="7201080" cy="2868480"/>
                <a:chOff x="5181480" y="4495680"/>
                <a:chExt cx="7201080" cy="2868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181480" y="4495680"/>
                  <a:ext cx="720108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5181480" y="4495680"/>
                  <a:ext cx="2857680" cy="1323720"/>
                  <a:chOff x="5181480" y="4495680"/>
                  <a:chExt cx="2857680" cy="13237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	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857520" cy="76176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4857840" y="3962520"/>
            <a:ext cx="8572320" cy="7211880"/>
            <a:chOff x="4857840" y="3962520"/>
            <a:chExt cx="8572320" cy="7211880"/>
          </a:xfrm>
        </p:grpSpPr>
        <p:sp>
          <p:nvSpPr>
            <p:cNvPr id="201" name=""/>
            <p:cNvSpPr/>
            <p:nvPr/>
          </p:nvSpPr>
          <p:spPr>
            <a:xfrm>
              <a:off x="4857840" y="3962520"/>
              <a:ext cx="857232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857840" y="3962520"/>
              <a:ext cx="7200720" cy="1874520"/>
              <a:chOff x="4857840" y="3962520"/>
              <a:chExt cx="7200720" cy="1874520"/>
            </a:xfrm>
          </p:grpSpPr>
          <p:sp>
            <p:nvSpPr>
              <p:cNvPr id="203" name=""/>
              <p:cNvSpPr/>
              <p:nvPr/>
            </p:nvSpPr>
            <p:spPr>
              <a:xfrm>
                <a:off x="4857840" y="396252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857840" y="3962520"/>
                <a:ext cx="3600000" cy="1874520"/>
                <a:chOff x="4857840" y="3962520"/>
                <a:chExt cx="3600000" cy="1874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857840" y="3962520"/>
                  <a:ext cx="3600000" cy="187452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4857840" y="3962520"/>
                  <a:ext cx="3600000" cy="1874160"/>
                  <a:chOff x="4857840" y="3962520"/>
                  <a:chExt cx="3600000" cy="18741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4857840" y="3962520"/>
                    <a:ext cx="3600000" cy="78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8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El niño debe, en todas las circunstancias, figurar entre los primeros que reciban protección y socorro.</a:t>
                    </a: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4857840" y="4970880"/>
                    <a:ext cx="3598200" cy="865800"/>
                    <a:chOff x="4857840" y="4970880"/>
                    <a:chExt cx="3598200" cy="8658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857840" y="4970880"/>
                      <a:ext cx="2971440" cy="86544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4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829280" y="4970880"/>
                      <a:ext cx="626760" cy="86544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857840" y="5836320"/>
                      <a:ext cx="2971440" cy="36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829280" y="5836320"/>
                      <a:ext cx="626760" cy="36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3" name=""/>
          <p:cNvGrpSpPr/>
          <p:nvPr/>
        </p:nvGrpSpPr>
        <p:grpSpPr>
          <a:xfrm>
            <a:off x="0" y="-353880"/>
            <a:ext cx="8572680" cy="7211880"/>
            <a:chOff x="0" y="-353880"/>
            <a:chExt cx="8572680" cy="7211880"/>
          </a:xfrm>
        </p:grpSpPr>
        <p:sp>
          <p:nvSpPr>
            <p:cNvPr id="214" name=""/>
            <p:cNvSpPr/>
            <p:nvPr/>
          </p:nvSpPr>
          <p:spPr>
            <a:xfrm>
              <a:off x="0" y="-353880"/>
              <a:ext cx="857268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0" y="-353880"/>
              <a:ext cx="7201080" cy="236160"/>
              <a:chOff x="0" y="-353880"/>
              <a:chExt cx="7201080" cy="23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-3538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0" y="-353880"/>
                <a:ext cx="2857680" cy="236160"/>
                <a:chOff x="0" y="-353880"/>
                <a:chExt cx="2857680" cy="2361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000" spc="-1" strike="noStrike">
                      <a:solidFill>
                        <a:srgbClr val="990033"/>
                      </a:solidFill>
                      <a:latin typeface="Comic Sans MS"/>
                    </a:rPr>
                    <a:t>Principi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" name=""/>
          <p:cNvGrpSpPr/>
          <p:nvPr/>
        </p:nvGrpSpPr>
        <p:grpSpPr>
          <a:xfrm>
            <a:off x="0" y="-353880"/>
            <a:ext cx="8572680" cy="7211880"/>
            <a:chOff x="0" y="-353880"/>
            <a:chExt cx="8572680" cy="7211880"/>
          </a:xfrm>
        </p:grpSpPr>
        <p:sp>
          <p:nvSpPr>
            <p:cNvPr id="221" name=""/>
            <p:cNvSpPr/>
            <p:nvPr/>
          </p:nvSpPr>
          <p:spPr>
            <a:xfrm>
              <a:off x="0" y="-353880"/>
              <a:ext cx="857268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0" y="-353880"/>
              <a:ext cx="7201080" cy="236160"/>
              <a:chOff x="0" y="-353880"/>
              <a:chExt cx="7201080" cy="23616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-3538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0" y="-353880"/>
                <a:ext cx="2857680" cy="236160"/>
                <a:chOff x="0" y="-353880"/>
                <a:chExt cx="2857680" cy="236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000" spc="-1" strike="noStrike">
                      <a:solidFill>
                        <a:srgbClr val="990033"/>
                      </a:solidFill>
                      <a:latin typeface="Comic Sans MS"/>
                    </a:rPr>
                    <a:t>Principi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62D-06E7-4147-80E1-F487581D4E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RMACIA HR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0000" y="1979280"/>
            <a:ext cx="7246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 abastecer y suministrar medicamentos e insumos clínicos en forma eficaz, oportuna y eficiente. A la población pediátrica que lo requiera con el fin de prevenir,paliar o cuidar la salud de nuestros pacient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162920" y="5334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352680" y="44956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2057400" y="5562720"/>
            <a:ext cx="1219320" cy="99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343400" y="54864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A9F-26DF-419B-944F-C6CA066677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252360"/>
            <a:ext cx="73152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AS RELACIONADOS CON LOS MEDICAMENT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72388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NO USA LOS MEDICAMENTOS QUE NECES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MEDICAMENTOS QUE NO NECES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NO RESPONDE A TRATAMI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UNA DOSIS, PAUTA Y O DURACION INFERIOR O SUPERIOR A LA QUE NECESITA DE UN MEDICAMENTO CORRECTAMENTE SELECCIO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UN MEDICAMENTO QUE LE PRODUCE UNA REACION ADVERS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9B1-3DA8-4E94-9B4D-1299A2DF019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TIVOS ESTRATEG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astecimiento de medicamen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a pacientes hospitalizad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a pacientes ambulatorios crónicos y agud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de urgencia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paraciones magistral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cencia a alumnos de química y farmacia Y técnicos paraméd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6C2-2EE3-4A96-A84B-4B4455E2C5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68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463840" y="2666880"/>
            <a:ext cx="5371920" cy="2629080"/>
          </a:xfrm>
          <a:prstGeom prst="roundRect">
            <a:avLst>
              <a:gd name="adj" fmla="val 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2" idx="1"/>
            <a:endCxn id="243" idx="2"/>
          </p:cNvCxnSpPr>
          <p:nvPr/>
        </p:nvCxnSpPr>
        <p:spPr>
          <a:xfrm flipH="1" rot="10800000">
            <a:off x="3351600" y="4876200"/>
            <a:ext cx="343800" cy="1059480"/>
          </a:xfrm>
          <a:prstGeom prst="bentConnector4">
            <a:avLst>
              <a:gd name="adj1" fmla="val -66666"/>
              <a:gd name="adj2" fmla="val 64004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43" idx="0"/>
            <a:endCxn id="245" idx="2"/>
          </p:cNvCxnSpPr>
          <p:nvPr/>
        </p:nvCxnSpPr>
        <p:spPr>
          <a:xfrm flipV="1" rot="16200000">
            <a:off x="3280320" y="3851280"/>
            <a:ext cx="405360" cy="426240"/>
          </a:xfrm>
          <a:prstGeom prst="bentConnector3">
            <a:avLst>
              <a:gd name="adj1" fmla="val 4977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7" idx="0"/>
            <a:endCxn id="248" idx="2"/>
          </p:cNvCxnSpPr>
          <p:nvPr/>
        </p:nvCxnSpPr>
        <p:spPr>
          <a:xfrm flipV="1" rot="16200000">
            <a:off x="5835240" y="2132640"/>
            <a:ext cx="533880" cy="1905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50" idx="0"/>
            <a:endCxn id="248" idx="2"/>
          </p:cNvCxnSpPr>
          <p:nvPr/>
        </p:nvCxnSpPr>
        <p:spPr>
          <a:xfrm flipV="1">
            <a:off x="5149440" y="2818800"/>
            <a:ext cx="1080" cy="533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5" idx="0"/>
            <a:endCxn id="248" idx="2"/>
          </p:cNvCxnSpPr>
          <p:nvPr/>
        </p:nvCxnSpPr>
        <p:spPr>
          <a:xfrm flipH="1" flipV="1" rot="5400000">
            <a:off x="3926880" y="2161800"/>
            <a:ext cx="565920" cy="1880280"/>
          </a:xfrm>
          <a:prstGeom prst="bentConnector3">
            <a:avLst>
              <a:gd name="adj1" fmla="val 4996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4343400" y="2209680"/>
            <a:ext cx="161280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63840" y="3384720"/>
            <a:ext cx="1611360" cy="477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RECCION MÉ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52680"/>
            <a:ext cx="1612800" cy="47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RECCION ADMINIST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3352680"/>
            <a:ext cx="1611360" cy="47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DIREC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R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267080"/>
            <a:ext cx="327672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 DE RESPONSA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YO AL DIAGNOSTICO Y TRAT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5638680"/>
            <a:ext cx="1611360" cy="592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3A3-91D8-4475-9CD4-51EF227832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ELECC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 TRAVES DEL COMITÉ DE FARMACIA Y TERAPEU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DICION DEL ARSENAL TERAPEU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IFUSION DE LA GU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VALUACION PERIODICA DEL ARSENAL TERAPEU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88AF-9696-47D5-84F3-54BA99DA2C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omic Sans MS"/>
              </a:rPr>
              <a:t>MARCO   LEGAL PARA ADQUISICIONES DEL ESTAD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LEY  Nº19.886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.  LEY DE BASES SOBRE CONTRATOS ADMINISTRATIVOS  DE  SUMINISTROS  Y PRESTACIONES DE SERVICIOS. AGOSTO 2003.  PMG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REGLAMENTO DE LA LEY DE COMPRAS PUBLIC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USO OBLIGATORIO DEL PORTAL ELECTRONICO CHILE COMPRA PARA ADQUISICIONES &gt; A 3 UTM. 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. MAR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FINE TIEMPOS DE PUBLICACIÓN SEGÚN MONTO DE LA COMPRA.  &lt; A 100 UTM; ENTRE 100 Y 1000 UTM Y &gt; A 1000 UT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NORMATIVA  MINSAL.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A TRAVÉS DE DPI PARA COMPRAS CON ANTICIPOS A PROVEEDOR, AVANCES, Y FONDOS FIJOS ENTRE OTR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B6B-B32D-4320-A59D-563740379C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ADQUISICION Y CONTROL DE INVENTARI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NTRO DEL MARCO LEGAL:CENABAST,CHILECOMP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FINIR LAS ESPECIFICACIONES TECN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FINIR CRITERIOS DE ADJUDICAC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ESTION DE STOCK:MINIMO,CRITICO,METODO AB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A579-E5F9-4C8F-A808-8FB5A71EF8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_jefe_farma</cp:lastModifiedBy>
  <dcterms:modified xsi:type="dcterms:W3CDTF">2010-08-25T23:35:30Z</dcterms:modified>
  <cp:revision>20</cp:revision>
  <dc:subject/>
  <dc:title>La farmacocinética y farmacodinamia en pediatría</dc:title>
</cp:coreProperties>
</file>