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7234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0" y="0"/>
            <a:ext cx="6858000" cy="97236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0"/>
            <a:ext cx="6858000" cy="97236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723600"/>
              <a:gd name="textAreaBottom" fmla="*/ 9723240 h 9723600"/>
            </a:gdLst>
            <a:ahLst/>
            <a:rect l="textAreaLeft" t="textAreaTop" r="textAreaRight" b="textAreaBottom"/>
            <a:pathLst>
              <a:path w="21600" h="30625">
                <a:moveTo>
                  <a:pt x="5" y="0"/>
                </a:moveTo>
                <a:arcTo wR="5" hR="5" stAng="16200000" swAng="-5400000"/>
                <a:lnTo>
                  <a:pt x="0" y="30620"/>
                </a:lnTo>
                <a:arcTo wR="5" hR="5" stAng="10800000" swAng="-5400000"/>
                <a:lnTo>
                  <a:pt x="21595" y="3062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036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4760" y="-360"/>
            <a:ext cx="297000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998640" y="728280"/>
            <a:ext cx="4860720" cy="3645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685800" y="4617720"/>
            <a:ext cx="5484960" cy="43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9235800"/>
            <a:ext cx="297036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4760" y="9235800"/>
            <a:ext cx="297000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B910C5F-BBED-428E-9EA2-721B5E074640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998640" y="728640"/>
            <a:ext cx="4862520" cy="3646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685800" y="4618080"/>
            <a:ext cx="548640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E2802-9283-430A-8163-0D8B88D62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D3D58-16A4-44CC-98F3-465C03DE9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279A3-D100-4508-A6B3-57CB691AE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EAD19-C4FD-4060-97E2-AEA72AC6F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8B07F-7A2A-466A-8088-E4C312296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80A9E-B5DA-43BF-B65B-7EA3B3017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8ADD9-A3B6-4B36-A856-241EC7917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27695-720B-4FAF-96D3-D36F1C672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FE05B-EA39-4376-9422-D4D566E20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A62E2-8AA1-42F2-94F0-D83EA7FB4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D62ED-14EC-4E4F-B7ED-58DF6F7F4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8F0A2-EC25-4353-8275-AA5D4F1B5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39A33-C2FA-4F67-B4F0-75095265C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E04D8-1873-4CEE-9EAF-4E1F5B7EC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721C6-3B19-438A-9BDD-DF378D824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E18D0-84F0-4A20-B875-7B894A8C3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84D35-6A08-497E-AE09-FBC75784E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D1ACF-3265-4800-BC44-D6267184B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61E5F-868E-43CB-8427-FA1DF6396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15360-9AED-4091-9266-C70E5F619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58F4D-BBB6-4FB3-B7CD-B21344C8E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5BDB3-2213-4611-A95E-BC412C404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306D7-15F0-4E58-AD10-5F01CC0B9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F7375-31D0-4423-A5DD-390381CF3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E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E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2BF9FA3-2FE7-4DBC-996E-42F7EEABBFD8}" type="slidenum">
              <a:rPr b="0" lang="es-E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5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5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5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5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5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5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5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5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5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5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5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5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5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5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5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5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5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5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5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E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E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855C157-A74B-4693-BAEF-B664EC65F746}" type="slidenum">
              <a:rPr b="0" lang="es-E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314280"/>
            <a:ext cx="68724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Comic Sans MS"/>
              </a:rPr>
              <a:t>OM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447920" y="2133360"/>
            <a:ext cx="5788080" cy="417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De acuerdo a estudios de la OMS          las enfermedades se previenen, diagnostican y curan en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74 % con medicamento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20 %  con intervención quirúrgic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6 % con otras intervenciones: medicina nuclear, psicoterapia, kinesioterapia, etc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"/>
          <p:cNvSpPr/>
          <p:nvPr/>
        </p:nvSpPr>
        <p:spPr>
          <a:xfrm>
            <a:off x="4284720" y="692280"/>
            <a:ext cx="34560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763640" y="1125360"/>
            <a:ext cx="3672000" cy="7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993366"/>
                </a:solidFill>
                <a:latin typeface="Tahoma"/>
              </a:rPr>
              <a:t>OMS, importanc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993366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993366"/>
                </a:solidFill>
                <a:latin typeface="Tahoma"/>
              </a:rPr>
              <a:t>del medicame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6858000" y="533520"/>
            <a:ext cx="2178000" cy="1981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33A7C-196A-47C4-B7E3-AACC73776694}" type="slidenum">
              <a:t>1</a:t>
            </a:fld>
          </a:p>
        </p:txBody>
      </p:sp>
    </p:spTree>
  </p:cSld>
  <p:transition spd="med"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" dur="5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" dur="5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500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6872400" cy="16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BLEMAS DEL PACIENTE PEDIATRIC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60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EPENDENCI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NTORNO SOCIA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ETEROGENEO (CRECIMIENTO CONTINUO)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‏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6400800" y="1905120"/>
            <a:ext cx="1600200" cy="1550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2D7CD-3F4E-4678-B8BB-2046761A310A}" type="slidenum">
              <a:t>10</a:t>
            </a:fld>
          </a:p>
        </p:txBody>
      </p:sp>
    </p:spTree>
  </p:cSld>
  <p:transition spd="med">
    <p:cover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omic Sans MS"/>
              </a:rPr>
              <a:t>Derechos del niñ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99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990033"/>
                </a:solidFill>
                <a:latin typeface="Comic Sans MS"/>
              </a:rPr>
              <a:t>Declaración de los Derechos del Niño</a:t>
            </a: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 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Proclamada por la Asamblea General en su resolución 1386 (XIV), de 20 de noviembre de 1959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5181480" y="4495680"/>
            <a:ext cx="8572680" cy="7212240"/>
            <a:chOff x="5181480" y="4495680"/>
            <a:chExt cx="8572680" cy="7212240"/>
          </a:xfrm>
        </p:grpSpPr>
        <p:sp>
          <p:nvSpPr>
            <p:cNvPr id="166" name=""/>
            <p:cNvSpPr/>
            <p:nvPr/>
          </p:nvSpPr>
          <p:spPr>
            <a:xfrm>
              <a:off x="5181480" y="4495680"/>
              <a:ext cx="8572680" cy="721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7" name=""/>
            <p:cNvGrpSpPr/>
            <p:nvPr/>
          </p:nvGrpSpPr>
          <p:grpSpPr>
            <a:xfrm>
              <a:off x="5181480" y="4495680"/>
              <a:ext cx="7201080" cy="2868480"/>
              <a:chOff x="5181480" y="4495680"/>
              <a:chExt cx="7201080" cy="2868480"/>
            </a:xfrm>
          </p:grpSpPr>
          <p:sp>
            <p:nvSpPr>
              <p:cNvPr id="168" name=""/>
              <p:cNvSpPr/>
              <p:nvPr/>
            </p:nvSpPr>
            <p:spPr>
              <a:xfrm>
                <a:off x="5181480" y="4495680"/>
                <a:ext cx="720108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9" name=""/>
              <p:cNvGrpSpPr/>
              <p:nvPr/>
            </p:nvGrpSpPr>
            <p:grpSpPr>
              <a:xfrm>
                <a:off x="5181480" y="4495680"/>
                <a:ext cx="7201080" cy="2868480"/>
                <a:chOff x="5181480" y="4495680"/>
                <a:chExt cx="7201080" cy="286848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5181480" y="4495680"/>
                  <a:ext cx="7201080" cy="2868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95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71" name=""/>
                <p:cNvGrpSpPr/>
                <p:nvPr/>
              </p:nvGrpSpPr>
              <p:grpSpPr>
                <a:xfrm>
                  <a:off x="5181480" y="4495680"/>
                  <a:ext cx="2857680" cy="1323720"/>
                  <a:chOff x="5181480" y="4495680"/>
                  <a:chExt cx="2857680" cy="1323720"/>
                </a:xfrm>
              </p:grpSpPr>
              <p:sp>
                <p:nvSpPr>
                  <p:cNvPr id="172" name=""/>
                  <p:cNvSpPr/>
                  <p:nvPr/>
                </p:nvSpPr>
                <p:spPr>
                  <a:xfrm>
                    <a:off x="5181480" y="4495680"/>
                    <a:ext cx="2857680" cy="1323720"/>
                  </a:xfrm>
                  <a:prstGeom prst="rect">
                    <a:avLst/>
                  </a:prstGeom>
                  <a:solidFill>
                    <a:srgbClr val="b0ffe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lnSpc>
                        <a:spcPct val="95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3" name=""/>
                  <p:cNvSpPr/>
                  <p:nvPr/>
                </p:nvSpPr>
                <p:spPr>
                  <a:xfrm>
                    <a:off x="5181480" y="4495680"/>
                    <a:ext cx="2857680" cy="1323720"/>
                  </a:xfrm>
                  <a:prstGeom prst="rect">
                    <a:avLst/>
                  </a:prstGeom>
                  <a:solidFill>
                    <a:srgbClr val="b0ffe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95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r>
                      <a:rPr b="1" lang="en-GB" sz="1000" spc="-1" strike="noStrike">
                        <a:solidFill>
                          <a:srgbClr val="990033"/>
                        </a:solidFill>
                        <a:latin typeface="Comic Sans MS"/>
                      </a:rPr>
                      <a:t>Principio 5</a:t>
                    </a:r>
                    <a:br>
                      <a:rPr sz="1400"/>
                    </a:br>
                    <a:r>
                      <a:rPr b="0" lang="en-GB" sz="900" spc="-1" strike="noStrike">
                        <a:solidFill>
                          <a:srgbClr val="000000"/>
                        </a:solidFill>
                        <a:latin typeface="Comic Sans MS"/>
                      </a:rPr>
                      <a:t>     El niño física o mentalmente impedido o que sufra algún impedimento scial debe recibir el tratamiento, la educación y el cuidado especiales que requiere su caso particular.</a:t>
                    </a:r>
                    <a:br>
                      <a:rPr sz="900"/>
                    </a:b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r>
                      <a:rPr b="0" lang="en-GB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	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grpSp>
        <p:nvGrpSpPr>
          <p:cNvPr id="174" name=""/>
          <p:cNvGrpSpPr/>
          <p:nvPr/>
        </p:nvGrpSpPr>
        <p:grpSpPr>
          <a:xfrm>
            <a:off x="1905120" y="4572000"/>
            <a:ext cx="8572320" cy="7211880"/>
            <a:chOff x="1905120" y="4572000"/>
            <a:chExt cx="8572320" cy="7211880"/>
          </a:xfrm>
        </p:grpSpPr>
        <p:sp>
          <p:nvSpPr>
            <p:cNvPr id="175" name=""/>
            <p:cNvSpPr/>
            <p:nvPr/>
          </p:nvSpPr>
          <p:spPr>
            <a:xfrm>
              <a:off x="1905120" y="4572000"/>
              <a:ext cx="8572320" cy="721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6" name=""/>
            <p:cNvGrpSpPr/>
            <p:nvPr/>
          </p:nvGrpSpPr>
          <p:grpSpPr>
            <a:xfrm>
              <a:off x="1905120" y="4572000"/>
              <a:ext cx="7200720" cy="2868480"/>
              <a:chOff x="1905120" y="4572000"/>
              <a:chExt cx="7200720" cy="2868480"/>
            </a:xfrm>
          </p:grpSpPr>
          <p:sp>
            <p:nvSpPr>
              <p:cNvPr id="177" name=""/>
              <p:cNvSpPr/>
              <p:nvPr/>
            </p:nvSpPr>
            <p:spPr>
              <a:xfrm>
                <a:off x="1905120" y="4572000"/>
                <a:ext cx="72007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8" name=""/>
              <p:cNvGrpSpPr/>
              <p:nvPr/>
            </p:nvGrpSpPr>
            <p:grpSpPr>
              <a:xfrm>
                <a:off x="1905120" y="4572000"/>
                <a:ext cx="7200720" cy="2868480"/>
                <a:chOff x="1905120" y="4572000"/>
                <a:chExt cx="7200720" cy="286848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1905120" y="4572000"/>
                  <a:ext cx="7200720" cy="2868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95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80" name=""/>
                <p:cNvGrpSpPr/>
                <p:nvPr/>
              </p:nvGrpSpPr>
              <p:grpSpPr>
                <a:xfrm>
                  <a:off x="1905120" y="4572000"/>
                  <a:ext cx="2857320" cy="1323720"/>
                  <a:chOff x="1905120" y="4572000"/>
                  <a:chExt cx="2857320" cy="1323720"/>
                </a:xfrm>
              </p:grpSpPr>
              <p:sp>
                <p:nvSpPr>
                  <p:cNvPr id="181" name=""/>
                  <p:cNvSpPr/>
                  <p:nvPr/>
                </p:nvSpPr>
                <p:spPr>
                  <a:xfrm>
                    <a:off x="1905120" y="4572000"/>
                    <a:ext cx="2857320" cy="1323720"/>
                  </a:xfrm>
                  <a:prstGeom prst="rect">
                    <a:avLst/>
                  </a:prstGeom>
                  <a:solidFill>
                    <a:srgbClr val="b0ffe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lnSpc>
                        <a:spcPct val="95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2" name=""/>
                  <p:cNvSpPr/>
                  <p:nvPr/>
                </p:nvSpPr>
                <p:spPr>
                  <a:xfrm>
                    <a:off x="1905120" y="4572000"/>
                    <a:ext cx="2857320" cy="1323720"/>
                  </a:xfrm>
                  <a:prstGeom prst="rect">
                    <a:avLst/>
                  </a:prstGeom>
                  <a:solidFill>
                    <a:srgbClr val="b0ffe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95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r>
                      <a:rPr b="1" lang="en-GB" sz="1000" spc="-1" strike="noStrike">
                        <a:solidFill>
                          <a:srgbClr val="990033"/>
                        </a:solidFill>
                        <a:latin typeface="Comic Sans MS"/>
                      </a:rPr>
                      <a:t>Principio 5</a:t>
                    </a:r>
                    <a:br>
                      <a:rPr sz="1400"/>
                    </a:br>
                    <a:r>
                      <a:rPr b="0" lang="en-GB" sz="900" spc="-1" strike="noStrike">
                        <a:solidFill>
                          <a:srgbClr val="000000"/>
                        </a:solidFill>
                        <a:latin typeface="Comic Sans MS"/>
                      </a:rPr>
                      <a:t>     El niño física o mentalmente impedido o que sufra algún impedimento social debe recibir el tratamiento, la educación y el cuidado especiales que requiere su caso particular.</a:t>
                    </a:r>
                    <a:br>
                      <a:rPr sz="900"/>
                    </a:b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grpSp>
        <p:nvGrpSpPr>
          <p:cNvPr id="183" name=""/>
          <p:cNvGrpSpPr/>
          <p:nvPr/>
        </p:nvGrpSpPr>
        <p:grpSpPr>
          <a:xfrm>
            <a:off x="1676520" y="3809880"/>
            <a:ext cx="8572320" cy="7212240"/>
            <a:chOff x="1676520" y="3809880"/>
            <a:chExt cx="8572320" cy="7212240"/>
          </a:xfrm>
        </p:grpSpPr>
        <p:sp>
          <p:nvSpPr>
            <p:cNvPr id="184" name=""/>
            <p:cNvSpPr/>
            <p:nvPr/>
          </p:nvSpPr>
          <p:spPr>
            <a:xfrm>
              <a:off x="1676520" y="3809880"/>
              <a:ext cx="8572320" cy="721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5" name=""/>
            <p:cNvGrpSpPr/>
            <p:nvPr/>
          </p:nvGrpSpPr>
          <p:grpSpPr>
            <a:xfrm>
              <a:off x="1676520" y="3809880"/>
              <a:ext cx="7200720" cy="482760"/>
              <a:chOff x="1676520" y="3809880"/>
              <a:chExt cx="7200720" cy="482760"/>
            </a:xfrm>
          </p:grpSpPr>
          <p:sp>
            <p:nvSpPr>
              <p:cNvPr id="186" name=""/>
              <p:cNvSpPr/>
              <p:nvPr/>
            </p:nvSpPr>
            <p:spPr>
              <a:xfrm>
                <a:off x="1676520" y="3809880"/>
                <a:ext cx="72007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7" name=""/>
              <p:cNvGrpSpPr/>
              <p:nvPr/>
            </p:nvGrpSpPr>
            <p:grpSpPr>
              <a:xfrm>
                <a:off x="1676520" y="3809880"/>
                <a:ext cx="2857320" cy="482760"/>
                <a:chOff x="1676520" y="3809880"/>
                <a:chExt cx="2857320" cy="482760"/>
              </a:xfrm>
            </p:grpSpPr>
            <p:sp>
              <p:nvSpPr>
                <p:cNvPr id="188" name=""/>
                <p:cNvSpPr/>
                <p:nvPr/>
              </p:nvSpPr>
              <p:spPr>
                <a:xfrm>
                  <a:off x="1676520" y="3809880"/>
                  <a:ext cx="2857320" cy="482760"/>
                </a:xfrm>
                <a:prstGeom prst="rect">
                  <a:avLst/>
                </a:prstGeom>
                <a:solidFill>
                  <a:srgbClr val="b0ffe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5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1676520" y="3809880"/>
                  <a:ext cx="2857320" cy="482760"/>
                </a:xfrm>
                <a:prstGeom prst="rect">
                  <a:avLst/>
                </a:prstGeom>
                <a:solidFill>
                  <a:srgbClr val="b0ffe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5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r>
                    <a:rPr b="0" lang="en-GB" sz="900" spc="-1" strike="noStrike">
                      <a:solidFill>
                        <a:srgbClr val="000000"/>
                      </a:solidFill>
                      <a:latin typeface="Comic Sans MS"/>
                    </a:rPr>
                    <a:t>El niño tendrá derecho a disfrutar de alimentación, vivienda, recreo y servicios médicos adecuados.</a:t>
                  </a:r>
                  <a:r>
                    <a:rPr b="0" lang="en-GB" sz="900" spc="-1" strike="noStrike">
                      <a:solidFill>
                        <a:srgbClr val="000000"/>
                      </a:solidFill>
                      <a:latin typeface="Verdana"/>
                    </a:rPr>
                    <a:t> 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90" name=""/>
          <p:cNvGrpSpPr/>
          <p:nvPr/>
        </p:nvGrpSpPr>
        <p:grpSpPr>
          <a:xfrm>
            <a:off x="5181480" y="4495680"/>
            <a:ext cx="8572680" cy="7212240"/>
            <a:chOff x="5181480" y="4495680"/>
            <a:chExt cx="8572680" cy="7212240"/>
          </a:xfrm>
        </p:grpSpPr>
        <p:sp>
          <p:nvSpPr>
            <p:cNvPr id="191" name=""/>
            <p:cNvSpPr/>
            <p:nvPr/>
          </p:nvSpPr>
          <p:spPr>
            <a:xfrm>
              <a:off x="5181480" y="4495680"/>
              <a:ext cx="8572680" cy="721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2" name=""/>
            <p:cNvGrpSpPr/>
            <p:nvPr/>
          </p:nvGrpSpPr>
          <p:grpSpPr>
            <a:xfrm>
              <a:off x="5181480" y="4495680"/>
              <a:ext cx="7201080" cy="2868480"/>
              <a:chOff x="5181480" y="4495680"/>
              <a:chExt cx="7201080" cy="2868480"/>
            </a:xfrm>
          </p:grpSpPr>
          <p:sp>
            <p:nvSpPr>
              <p:cNvPr id="193" name=""/>
              <p:cNvSpPr/>
              <p:nvPr/>
            </p:nvSpPr>
            <p:spPr>
              <a:xfrm>
                <a:off x="5181480" y="4495680"/>
                <a:ext cx="720108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4" name=""/>
              <p:cNvGrpSpPr/>
              <p:nvPr/>
            </p:nvGrpSpPr>
            <p:grpSpPr>
              <a:xfrm>
                <a:off x="5181480" y="4495680"/>
                <a:ext cx="7201080" cy="2868480"/>
                <a:chOff x="5181480" y="4495680"/>
                <a:chExt cx="7201080" cy="286848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5181480" y="4495680"/>
                  <a:ext cx="7201080" cy="2868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95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96" name=""/>
                <p:cNvGrpSpPr/>
                <p:nvPr/>
              </p:nvGrpSpPr>
              <p:grpSpPr>
                <a:xfrm>
                  <a:off x="5181480" y="4495680"/>
                  <a:ext cx="2857680" cy="1323720"/>
                  <a:chOff x="5181480" y="4495680"/>
                  <a:chExt cx="2857680" cy="1323720"/>
                </a:xfrm>
              </p:grpSpPr>
              <p:sp>
                <p:nvSpPr>
                  <p:cNvPr id="197" name=""/>
                  <p:cNvSpPr/>
                  <p:nvPr/>
                </p:nvSpPr>
                <p:spPr>
                  <a:xfrm>
                    <a:off x="5181480" y="4495680"/>
                    <a:ext cx="2857680" cy="1323720"/>
                  </a:xfrm>
                  <a:prstGeom prst="rect">
                    <a:avLst/>
                  </a:prstGeom>
                  <a:solidFill>
                    <a:srgbClr val="b0ffe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lnSpc>
                        <a:spcPct val="95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8" name=""/>
                  <p:cNvSpPr/>
                  <p:nvPr/>
                </p:nvSpPr>
                <p:spPr>
                  <a:xfrm>
                    <a:off x="5181480" y="4495680"/>
                    <a:ext cx="2857680" cy="1323720"/>
                  </a:xfrm>
                  <a:prstGeom prst="rect">
                    <a:avLst/>
                  </a:prstGeom>
                  <a:solidFill>
                    <a:srgbClr val="b0ffe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95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r>
                      <a:rPr b="1" lang="en-GB" sz="1000" spc="-1" strike="noStrike">
                        <a:solidFill>
                          <a:srgbClr val="990033"/>
                        </a:solidFill>
                        <a:latin typeface="Comic Sans MS"/>
                      </a:rPr>
                      <a:t>Principio 5</a:t>
                    </a:r>
                    <a:br>
                      <a:rPr sz="1400"/>
                    </a:br>
                    <a:r>
                      <a:rPr b="0" lang="en-GB" sz="900" spc="-1" strike="noStrike">
                        <a:solidFill>
                          <a:srgbClr val="000000"/>
                        </a:solidFill>
                        <a:latin typeface="Comic Sans MS"/>
                      </a:rPr>
                      <a:t> el tratamiento, la educación y el cuidado especiales que requiere su caso particular.</a:t>
                    </a:r>
                    <a:br>
                      <a:rPr sz="900"/>
                    </a:b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r>
                      <a:rPr b="0" lang="en-GB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	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7924680" y="5791320"/>
            <a:ext cx="857520" cy="761760"/>
          </a:xfrm>
          <a:prstGeom prst="rect">
            <a:avLst/>
          </a:prstGeom>
          <a:ln w="0">
            <a:noFill/>
          </a:ln>
        </p:spPr>
      </p:pic>
      <p:grpSp>
        <p:nvGrpSpPr>
          <p:cNvPr id="200" name=""/>
          <p:cNvGrpSpPr/>
          <p:nvPr/>
        </p:nvGrpSpPr>
        <p:grpSpPr>
          <a:xfrm>
            <a:off x="4857840" y="3962520"/>
            <a:ext cx="8572320" cy="7211880"/>
            <a:chOff x="4857840" y="3962520"/>
            <a:chExt cx="8572320" cy="7211880"/>
          </a:xfrm>
        </p:grpSpPr>
        <p:sp>
          <p:nvSpPr>
            <p:cNvPr id="201" name=""/>
            <p:cNvSpPr/>
            <p:nvPr/>
          </p:nvSpPr>
          <p:spPr>
            <a:xfrm>
              <a:off x="4857840" y="3962520"/>
              <a:ext cx="8572320" cy="721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2" name=""/>
            <p:cNvGrpSpPr/>
            <p:nvPr/>
          </p:nvGrpSpPr>
          <p:grpSpPr>
            <a:xfrm>
              <a:off x="4857840" y="3962520"/>
              <a:ext cx="7200720" cy="1874520"/>
              <a:chOff x="4857840" y="3962520"/>
              <a:chExt cx="7200720" cy="1874520"/>
            </a:xfrm>
          </p:grpSpPr>
          <p:sp>
            <p:nvSpPr>
              <p:cNvPr id="203" name=""/>
              <p:cNvSpPr/>
              <p:nvPr/>
            </p:nvSpPr>
            <p:spPr>
              <a:xfrm>
                <a:off x="4857840" y="3962520"/>
                <a:ext cx="72007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4" name=""/>
              <p:cNvGrpSpPr/>
              <p:nvPr/>
            </p:nvGrpSpPr>
            <p:grpSpPr>
              <a:xfrm>
                <a:off x="4857840" y="3962520"/>
                <a:ext cx="3600000" cy="1874520"/>
                <a:chOff x="4857840" y="3962520"/>
                <a:chExt cx="3600000" cy="1874520"/>
              </a:xfrm>
            </p:grpSpPr>
            <p:sp>
              <p:nvSpPr>
                <p:cNvPr id="205" name=""/>
                <p:cNvSpPr/>
                <p:nvPr/>
              </p:nvSpPr>
              <p:spPr>
                <a:xfrm>
                  <a:off x="4857840" y="3962520"/>
                  <a:ext cx="3600000" cy="1874520"/>
                </a:xfrm>
                <a:prstGeom prst="rect">
                  <a:avLst/>
                </a:prstGeom>
                <a:solidFill>
                  <a:srgbClr val="b0ffe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5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06" name=""/>
                <p:cNvGrpSpPr/>
                <p:nvPr/>
              </p:nvGrpSpPr>
              <p:grpSpPr>
                <a:xfrm>
                  <a:off x="4857840" y="3962520"/>
                  <a:ext cx="3600000" cy="1874160"/>
                  <a:chOff x="4857840" y="3962520"/>
                  <a:chExt cx="3600000" cy="1874160"/>
                </a:xfrm>
              </p:grpSpPr>
              <p:sp>
                <p:nvSpPr>
                  <p:cNvPr id="207" name=""/>
                  <p:cNvSpPr/>
                  <p:nvPr/>
                </p:nvSpPr>
                <p:spPr>
                  <a:xfrm>
                    <a:off x="4857840" y="3962520"/>
                    <a:ext cx="3600000" cy="783720"/>
                  </a:xfrm>
                  <a:prstGeom prst="rect">
                    <a:avLst/>
                  </a:prstGeom>
                  <a:solidFill>
                    <a:srgbClr val="b0ffe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95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r>
                      <a:rPr b="1" lang="en-GB" sz="1000" spc="-1" strike="noStrike">
                        <a:solidFill>
                          <a:srgbClr val="990033"/>
                        </a:solidFill>
                        <a:latin typeface="Comic Sans MS"/>
                      </a:rPr>
                      <a:t>Principio 8</a:t>
                    </a:r>
                    <a:br>
                      <a:rPr sz="1400"/>
                    </a:br>
                    <a:r>
                      <a:rPr b="0" lang="en-GB" sz="900" spc="-1" strike="noStrike">
                        <a:solidFill>
                          <a:srgbClr val="000000"/>
                        </a:solidFill>
                        <a:latin typeface="Comic Sans MS"/>
                      </a:rPr>
                      <a:t>El niño debe, en todas las circunstancias, figurar entre los primeros que reciban protección y socorro.</a:t>
                    </a:r>
                    <a:r>
                      <a:rPr b="0" lang="en-GB" sz="1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 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08" name=""/>
                  <p:cNvGrpSpPr/>
                  <p:nvPr/>
                </p:nvGrpSpPr>
                <p:grpSpPr>
                  <a:xfrm>
                    <a:off x="4857840" y="4970880"/>
                    <a:ext cx="3598200" cy="865800"/>
                    <a:chOff x="4857840" y="4970880"/>
                    <a:chExt cx="3598200" cy="865800"/>
                  </a:xfrm>
                </p:grpSpPr>
                <p:sp>
                  <p:nvSpPr>
                    <p:cNvPr id="209" name=""/>
                    <p:cNvSpPr/>
                    <p:nvPr/>
                  </p:nvSpPr>
                  <p:spPr>
                    <a:xfrm>
                      <a:off x="4857840" y="4970880"/>
                      <a:ext cx="2971440" cy="865440"/>
                    </a:xfrm>
                    <a:prstGeom prst="rect">
                      <a:avLst/>
                    </a:prstGeom>
                    <a:solidFill>
                      <a:srgbClr val="b0ffe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4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        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0" name=""/>
                    <p:cNvSpPr/>
                    <p:nvPr/>
                  </p:nvSpPr>
                  <p:spPr>
                    <a:xfrm>
                      <a:off x="7829280" y="4970880"/>
                      <a:ext cx="626760" cy="865440"/>
                    </a:xfrm>
                    <a:prstGeom prst="rect">
                      <a:avLst/>
                    </a:prstGeom>
                    <a:solidFill>
                      <a:srgbClr val="b0ffe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1" name=""/>
                    <p:cNvSpPr/>
                    <p:nvPr/>
                  </p:nvSpPr>
                  <p:spPr>
                    <a:xfrm>
                      <a:off x="4857840" y="5836320"/>
                      <a:ext cx="2971440" cy="360"/>
                    </a:xfrm>
                    <a:prstGeom prst="rect">
                      <a:avLst/>
                    </a:prstGeom>
                    <a:solidFill>
                      <a:srgbClr val="b0ffe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sp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>
                      <a:off x="7829280" y="5836320"/>
                      <a:ext cx="626760" cy="360"/>
                    </a:xfrm>
                    <a:prstGeom prst="rect">
                      <a:avLst/>
                    </a:prstGeom>
                    <a:solidFill>
                      <a:srgbClr val="b0ffe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sp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</p:grpSp>
      <p:grpSp>
        <p:nvGrpSpPr>
          <p:cNvPr id="213" name=""/>
          <p:cNvGrpSpPr/>
          <p:nvPr/>
        </p:nvGrpSpPr>
        <p:grpSpPr>
          <a:xfrm>
            <a:off x="0" y="-353880"/>
            <a:ext cx="8572680" cy="7211880"/>
            <a:chOff x="0" y="-353880"/>
            <a:chExt cx="8572680" cy="7211880"/>
          </a:xfrm>
        </p:grpSpPr>
        <p:sp>
          <p:nvSpPr>
            <p:cNvPr id="214" name=""/>
            <p:cNvSpPr/>
            <p:nvPr/>
          </p:nvSpPr>
          <p:spPr>
            <a:xfrm>
              <a:off x="0" y="-353880"/>
              <a:ext cx="8572680" cy="721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5" name=""/>
            <p:cNvGrpSpPr/>
            <p:nvPr/>
          </p:nvGrpSpPr>
          <p:grpSpPr>
            <a:xfrm>
              <a:off x="0" y="-353880"/>
              <a:ext cx="7201080" cy="236160"/>
              <a:chOff x="0" y="-353880"/>
              <a:chExt cx="7201080" cy="236160"/>
            </a:xfrm>
          </p:grpSpPr>
          <p:sp>
            <p:nvSpPr>
              <p:cNvPr id="216" name=""/>
              <p:cNvSpPr/>
              <p:nvPr/>
            </p:nvSpPr>
            <p:spPr>
              <a:xfrm>
                <a:off x="0" y="-353880"/>
                <a:ext cx="720108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7" name=""/>
              <p:cNvGrpSpPr/>
              <p:nvPr/>
            </p:nvGrpSpPr>
            <p:grpSpPr>
              <a:xfrm>
                <a:off x="0" y="-353880"/>
                <a:ext cx="2857680" cy="236160"/>
                <a:chOff x="0" y="-353880"/>
                <a:chExt cx="2857680" cy="236160"/>
              </a:xfrm>
            </p:grpSpPr>
            <p:sp>
              <p:nvSpPr>
                <p:cNvPr id="218" name=""/>
                <p:cNvSpPr/>
                <p:nvPr/>
              </p:nvSpPr>
              <p:spPr>
                <a:xfrm>
                  <a:off x="0" y="-353880"/>
                  <a:ext cx="2857680" cy="236160"/>
                </a:xfrm>
                <a:prstGeom prst="rect">
                  <a:avLst/>
                </a:prstGeom>
                <a:solidFill>
                  <a:srgbClr val="b0ffe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5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0" y="-353880"/>
                  <a:ext cx="2857680" cy="236160"/>
                </a:xfrm>
                <a:prstGeom prst="rect">
                  <a:avLst/>
                </a:prstGeom>
                <a:solidFill>
                  <a:srgbClr val="b0ffe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5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r>
                    <a:rPr b="1" lang="en-GB" sz="1000" spc="-1" strike="noStrike">
                      <a:solidFill>
                        <a:srgbClr val="990033"/>
                      </a:solidFill>
                      <a:latin typeface="Comic Sans MS"/>
                    </a:rPr>
                    <a:t>Principio 4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20" name=""/>
          <p:cNvGrpSpPr/>
          <p:nvPr/>
        </p:nvGrpSpPr>
        <p:grpSpPr>
          <a:xfrm>
            <a:off x="0" y="-353880"/>
            <a:ext cx="8572680" cy="7211880"/>
            <a:chOff x="0" y="-353880"/>
            <a:chExt cx="8572680" cy="7211880"/>
          </a:xfrm>
        </p:grpSpPr>
        <p:sp>
          <p:nvSpPr>
            <p:cNvPr id="221" name=""/>
            <p:cNvSpPr/>
            <p:nvPr/>
          </p:nvSpPr>
          <p:spPr>
            <a:xfrm>
              <a:off x="0" y="-353880"/>
              <a:ext cx="8572680" cy="721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2" name=""/>
            <p:cNvGrpSpPr/>
            <p:nvPr/>
          </p:nvGrpSpPr>
          <p:grpSpPr>
            <a:xfrm>
              <a:off x="0" y="-353880"/>
              <a:ext cx="7201080" cy="236160"/>
              <a:chOff x="0" y="-353880"/>
              <a:chExt cx="7201080" cy="236160"/>
            </a:xfrm>
          </p:grpSpPr>
          <p:sp>
            <p:nvSpPr>
              <p:cNvPr id="223" name=""/>
              <p:cNvSpPr/>
              <p:nvPr/>
            </p:nvSpPr>
            <p:spPr>
              <a:xfrm>
                <a:off x="0" y="-353880"/>
                <a:ext cx="720108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24" name=""/>
              <p:cNvGrpSpPr/>
              <p:nvPr/>
            </p:nvGrpSpPr>
            <p:grpSpPr>
              <a:xfrm>
                <a:off x="0" y="-353880"/>
                <a:ext cx="2857680" cy="236160"/>
                <a:chOff x="0" y="-353880"/>
                <a:chExt cx="2857680" cy="2361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0" y="-353880"/>
                  <a:ext cx="2857680" cy="236160"/>
                </a:xfrm>
                <a:prstGeom prst="rect">
                  <a:avLst/>
                </a:prstGeom>
                <a:solidFill>
                  <a:srgbClr val="b0ffe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5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0" y="-353880"/>
                  <a:ext cx="2857680" cy="236160"/>
                </a:xfrm>
                <a:prstGeom prst="rect">
                  <a:avLst/>
                </a:prstGeom>
                <a:solidFill>
                  <a:srgbClr val="b0ffe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5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r>
                    <a:rPr b="1" lang="en-GB" sz="1000" spc="-1" strike="noStrike">
                      <a:solidFill>
                        <a:srgbClr val="990033"/>
                      </a:solidFill>
                      <a:latin typeface="Comic Sans MS"/>
                    </a:rPr>
                    <a:t>Principio 4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055B2-2C7F-42E3-B511-DD02F49E212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ARMACIA HRRI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440000" y="1979280"/>
            <a:ext cx="7246800" cy="41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MIS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Es abastecer y suministrar medicamentos e insumos clínicos en forma eficaz, oportuna y eficiente. A la población pediátrica que lo requiera con el fin de prevenir,paliar o cuidar la salud de nuestros pacientes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1600200" y="4419720"/>
            <a:ext cx="1371600" cy="106668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7162920" y="5334120"/>
            <a:ext cx="1143000" cy="85716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3"/>
          <a:stretch/>
        </p:blipFill>
        <p:spPr>
          <a:xfrm>
            <a:off x="3352680" y="4495680"/>
            <a:ext cx="1143000" cy="85752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4"/>
          <a:stretch/>
        </p:blipFill>
        <p:spPr>
          <a:xfrm>
            <a:off x="5638680" y="4572000"/>
            <a:ext cx="1143000" cy="85716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5"/>
          <a:stretch/>
        </p:blipFill>
        <p:spPr>
          <a:xfrm>
            <a:off x="2057400" y="5562720"/>
            <a:ext cx="1219320" cy="99036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6"/>
          <a:stretch/>
        </p:blipFill>
        <p:spPr>
          <a:xfrm>
            <a:off x="4343400" y="5486400"/>
            <a:ext cx="1143000" cy="857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AF69C-F14F-49B6-939F-D54585C1339D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371600" y="252360"/>
            <a:ext cx="7315200" cy="11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PROBLEMAS RELACIONADOS CON LOS MEDICAMENTO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905120" y="1904760"/>
            <a:ext cx="7238880" cy="414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L PACIENTE NO USA LOS MEDICAMENTOS QUE NECESIT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L PACIENTE USA MEDICAMENTOS QUE NO NECESIT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L PACIENTE NO RESPONDE A TRATAMIENT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L PACIENTE USA UNA DOSIS, PAUTA Y O DURACION INFERIOR O SUPERIOR A LA QUE NECESITA DE UN MEDICAMENTO CORRECTAMENTE SELECCIONAD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L PACIENTE USA UN MEDICAMENTO QUE LE PRODUCE UNA REACION ADVERSA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BAAC1-9B71-4A81-9B27-9E6F8196B838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BJETIVOS ESTRATEGICO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523520" y="1905120"/>
            <a:ext cx="7162920" cy="42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Abastecimiento de medicamento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8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8000" indent="-2880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Dispensación de medicamentos a pacientes hospitalizado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8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8000" indent="-2880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Dispensación de medicamentos a pacientes ambulatorios crónicos y agudos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8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8000" indent="-2880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Dispensación de medicamentos de urgencia.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8000" indent="-2880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Preparaciones magistrales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8000" indent="-2880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Docencia a alumnos de química y farmacia Y técnicos paramédico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9C55C-2EC2-49D1-B68A-655D8EB6F939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314280"/>
            <a:ext cx="68724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RGANIGRAM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"/>
          <p:cNvSpPr/>
          <p:nvPr/>
        </p:nvSpPr>
        <p:spPr>
          <a:xfrm>
            <a:off x="2463840" y="2666880"/>
            <a:ext cx="5371920" cy="2629080"/>
          </a:xfrm>
          <a:prstGeom prst="roundRect">
            <a:avLst>
              <a:gd name="adj" fmla="val 6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42" idx="1"/>
            <a:endCxn id="243" idx="2"/>
          </p:cNvCxnSpPr>
          <p:nvPr/>
        </p:nvCxnSpPr>
        <p:spPr>
          <a:xfrm flipH="1" rot="10800000">
            <a:off x="3351600" y="4876200"/>
            <a:ext cx="343800" cy="1059480"/>
          </a:xfrm>
          <a:prstGeom prst="bentConnector4">
            <a:avLst>
              <a:gd name="adj1" fmla="val -66666"/>
              <a:gd name="adj2" fmla="val 64004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44" name=""/>
          <p:cNvCxnSpPr>
            <a:stCxn id="243" idx="0"/>
            <a:endCxn id="245" idx="2"/>
          </p:cNvCxnSpPr>
          <p:nvPr/>
        </p:nvCxnSpPr>
        <p:spPr>
          <a:xfrm flipV="1" rot="16200000">
            <a:off x="3280320" y="3851280"/>
            <a:ext cx="405360" cy="426240"/>
          </a:xfrm>
          <a:prstGeom prst="bentConnector3">
            <a:avLst>
              <a:gd name="adj1" fmla="val 49777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46" name=""/>
          <p:cNvCxnSpPr>
            <a:stCxn id="247" idx="0"/>
            <a:endCxn id="248" idx="2"/>
          </p:cNvCxnSpPr>
          <p:nvPr/>
        </p:nvCxnSpPr>
        <p:spPr>
          <a:xfrm flipV="1" rot="16200000">
            <a:off x="5835240" y="2132640"/>
            <a:ext cx="533880" cy="190584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49" name=""/>
          <p:cNvCxnSpPr>
            <a:stCxn id="250" idx="0"/>
            <a:endCxn id="248" idx="2"/>
          </p:cNvCxnSpPr>
          <p:nvPr/>
        </p:nvCxnSpPr>
        <p:spPr>
          <a:xfrm flipV="1">
            <a:off x="5149440" y="2818800"/>
            <a:ext cx="1080" cy="5338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51" name=""/>
          <p:cNvCxnSpPr>
            <a:stCxn id="245" idx="0"/>
            <a:endCxn id="248" idx="2"/>
          </p:cNvCxnSpPr>
          <p:nvPr/>
        </p:nvCxnSpPr>
        <p:spPr>
          <a:xfrm flipH="1" flipV="1" rot="5400000">
            <a:off x="3926880" y="2161800"/>
            <a:ext cx="565920" cy="1880280"/>
          </a:xfrm>
          <a:prstGeom prst="bentConnector3">
            <a:avLst>
              <a:gd name="adj1" fmla="val 49968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248" name=""/>
          <p:cNvSpPr/>
          <p:nvPr/>
        </p:nvSpPr>
        <p:spPr>
          <a:xfrm>
            <a:off x="4343400" y="2209680"/>
            <a:ext cx="1612800" cy="6098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C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463840" y="3384720"/>
            <a:ext cx="1611360" cy="4777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DIRECCION MÉD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343400" y="3352680"/>
            <a:ext cx="1612800" cy="4780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DIRECCION ADMINISTRATIV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48520" y="3352680"/>
            <a:ext cx="1611360" cy="4780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UBDIRECCION 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RH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057400" y="4267080"/>
            <a:ext cx="3276720" cy="6098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NTRO DE RESPONSABILID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OYO AL DIAGNOSTICO Y TRATAMI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352680" y="5638680"/>
            <a:ext cx="1611360" cy="5922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98629-560E-43DA-8FE0-252A617D4581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omic Sans MS"/>
              </a:rPr>
              <a:t>SELECC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A TRAVES DEL COMITÉ DE FARMACIA Y TERAPEUTIC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EDICION DEL ARSENAL TERAPEUTIC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DIFUSION DE LA GUI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EVALUACION PERIODICA DEL ARSENAL TERAPEUTIC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3AAB8-4BF4-4ACF-B2DD-6B2E3B91170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000000"/>
                </a:solidFill>
                <a:latin typeface="Comic Sans MS"/>
              </a:rPr>
              <a:t>MARCO   LEGAL PARA ADQUISICIONES DEL ESTADO</a:t>
            </a:r>
            <a:endParaRPr b="0" lang="en-US" sz="3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83059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omic Sans MS"/>
              </a:rPr>
              <a:t>LEY  Nº19.886</a:t>
            </a:r>
            <a:r>
              <a:rPr b="0" lang="es-ES" sz="2200" spc="-1" strike="noStrike">
                <a:solidFill>
                  <a:srgbClr val="000000"/>
                </a:solidFill>
                <a:latin typeface="Comic Sans MS"/>
              </a:rPr>
              <a:t> .  LEY DE BASES SOBRE CONTRATOS ADMINISTRATIVOS  DE  SUMINISTROS  Y PRESTACIONES DE SERVICIOS. AGOSTO 2003.  PMG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omic Sans MS"/>
              </a:rPr>
              <a:t>REGLAMENTO DE LA LEY DE COMPRAS PUBLICAS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USO OBLIGATORIO DEL PORTAL ELECTRONICO CHILE COMPRA PARA ADQUISICIONES &gt; A 3 UTM.  </a:t>
            </a:r>
            <a:r>
              <a:rPr b="1" lang="es-ES" sz="1800" spc="-1" strike="noStrike">
                <a:solidFill>
                  <a:srgbClr val="000000"/>
                </a:solidFill>
                <a:latin typeface="Comic Sans MS"/>
              </a:rPr>
              <a:t>CONT. MARC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DEFINE TIEMPOS DE PUBLICACIÓN SEGÚN MONTO DE LA COMPRA.  &lt; A 100 UTM; ENTRE 100 Y 1000 UTM Y &gt; A 1000 UTM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omic Sans MS"/>
              </a:rPr>
              <a:t>NORMATIVA  MINSAL.   </a:t>
            </a:r>
            <a:r>
              <a:rPr b="0" lang="es-ES" sz="2200" spc="-1" strike="noStrike">
                <a:solidFill>
                  <a:srgbClr val="000000"/>
                </a:solidFill>
                <a:latin typeface="Comic Sans MS"/>
              </a:rPr>
              <a:t>A TRAVÉS DE DPI PARA COMPRAS CON ANTICIPOS A PROVEEDOR, AVANCES, Y FONDOS FIJOS ENTRE OTROS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mic Sans MS"/>
              </a:rPr>
              <a:t>      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399BD-E881-4546-A3EA-D0D04EF1713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omic Sans MS"/>
              </a:rPr>
              <a:t>ADQUISICION Y CONTROL DE INVENTARIO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DENTRO DEL MARCO LEGAL:CENABAST,CHILECOMPR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DEFINIR LAS ESPECIFICACIONES TECNICA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DEFINIR CRITERIOS DE ADJUDICAC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GESTION DE STOCK:MINIMO,CRITICO,METODO ABC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78BC7-012F-423D-AFE1-3C90D36874C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_jefe_farma</cp:lastModifiedBy>
  <dcterms:modified xsi:type="dcterms:W3CDTF">2010-08-25T23:35:30Z</dcterms:modified>
  <cp:revision>20</cp:revision>
  <dc:subject/>
  <dc:title>La farmacocinética y farmacodinamia en pediatría</dc:title>
</cp:coreProperties>
</file>