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6858000" cy="9723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23600"/>
              <a:gd name="textAreaBottom" fmla="*/ 9723240 h 9723600"/>
            </a:gdLst>
            <a:ahLst/>
            <a:rect l="textAreaLeft" t="textAreaTop" r="textAreaRight" b="textAreaBottom"/>
            <a:pathLst>
              <a:path w="21600" h="30625">
                <a:moveTo>
                  <a:pt x="5" y="0"/>
                </a:moveTo>
                <a:arcTo wR="5" hR="5" stAng="16200000" swAng="-5400000"/>
                <a:lnTo>
                  <a:pt x="0" y="30620"/>
                </a:lnTo>
                <a:arcTo wR="5" hR="5" stAng="10800000" swAng="-5400000"/>
                <a:lnTo>
                  <a:pt x="21595" y="306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700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496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03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760" y="9235800"/>
            <a:ext cx="29700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024BEC-C2DC-4C1A-B4C1-BF19480E9A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98640" y="72864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800" y="4618080"/>
            <a:ext cx="54864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418B-9BF9-4A3B-9AEB-34C21383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FF4D-46E7-417C-A492-2A9CED91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68F-F997-4D53-BCD6-0D6096EC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49B-9E2A-4701-B062-ACD5E738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1736-5C46-42CE-AD38-691E6C58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A02C-1B64-4417-B95D-26C47536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73E8-F00A-4D42-B34D-847DF90C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38E1-FB86-46EF-83FB-B9FF124E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10A5-0B9B-45E0-B781-47A4E580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422C-B001-4779-936E-7607228E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4557-80B4-4DFD-A7BC-402F4B2F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03C-6470-4545-AA1D-9266AE53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6B8C-69F6-48FB-AF0F-B23722D1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AB64-A5B1-4F59-BB9A-EB6DF107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28A0-C7FD-42D8-8CF9-A7A69262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7E11-7992-48C6-A5D4-858D19A7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3758-AF8C-42D4-83CB-B8E4F1D3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E04-9CA9-4B6B-8EBC-BE14BFA7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5AA-B6A7-407E-AED8-57A3A5E5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7045-77B6-488D-B13D-5A76D808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9FA-1AE4-414C-A7FA-0928F18E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00A-1334-4024-B38C-C419BCD4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350-70FC-4EBF-B101-B78B1B4C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60E-0E45-42D0-AFDA-F7AD2BBF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023161-19A6-4408-8CE1-636F0D91804E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405B72-6CF3-419C-92B0-886EBEA1D0CF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14280"/>
            <a:ext cx="68724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omic Sans MS"/>
              </a:rPr>
              <a:t>O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5788080" cy="41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 acuerdo a estudios de la OMS          las enfermedades se previenen, diagnostican y curan 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4 % con medicamen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0 %  con intervención quirúrg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 % con otras intervenciones: medicina nuclear, psicoterapia, kinesioterapia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4284720" y="692280"/>
            <a:ext cx="345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1125360"/>
            <a:ext cx="36720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ahoma"/>
              </a:rPr>
              <a:t>OMS, importa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993366"/>
                </a:solidFill>
                <a:latin typeface="Tahoma"/>
              </a:rPr>
              <a:t>del medic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17800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500-CEC7-4984-8B01-43FE798D850F}" type="slidenum">
              <a:t>1</a:t>
            </a:fld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2400" cy="16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AS DEL PACIENTE PEDIATR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6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PENDENC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ORNO SOCI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TEROGENEO (CRECIMIENTO CONTINUO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400800" y="1905120"/>
            <a:ext cx="1600200" cy="155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521-6C3C-45F9-BDB4-9A6B05C700A7}" type="slidenum">
              <a:t>10</a:t>
            </a:fld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Derechos del ni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0033"/>
                </a:solidFill>
                <a:latin typeface="Comic Sans MS"/>
              </a:rPr>
              <a:t>Declaración de los Derechos del Niño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clamada por la Asamblea General en su resolución 1386 (XIV), de 20 de noviembre de 1959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181480" y="4495680"/>
            <a:ext cx="8572680" cy="7212240"/>
            <a:chOff x="5181480" y="4495680"/>
            <a:chExt cx="8572680" cy="7212240"/>
          </a:xfrm>
        </p:grpSpPr>
        <p:sp>
          <p:nvSpPr>
            <p:cNvPr id="166" name=""/>
            <p:cNvSpPr/>
            <p:nvPr/>
          </p:nvSpPr>
          <p:spPr>
            <a:xfrm>
              <a:off x="5181480" y="4495680"/>
              <a:ext cx="8572680" cy="72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181480" y="4495680"/>
              <a:ext cx="7201080" cy="2868480"/>
              <a:chOff x="5181480" y="4495680"/>
              <a:chExt cx="7201080" cy="2868480"/>
            </a:xfrm>
          </p:grpSpPr>
          <p:sp>
            <p:nvSpPr>
              <p:cNvPr id="168" name=""/>
              <p:cNvSpPr/>
              <p:nvPr/>
            </p:nvSpPr>
            <p:spPr>
              <a:xfrm>
                <a:off x="5181480" y="449568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5181480" y="4495680"/>
                <a:ext cx="7201080" cy="2868480"/>
                <a:chOff x="5181480" y="4495680"/>
                <a:chExt cx="7201080" cy="2868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181480" y="4495680"/>
                  <a:ext cx="7201080" cy="28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" name=""/>
                <p:cNvGrpSpPr/>
                <p:nvPr/>
              </p:nvGrpSpPr>
              <p:grpSpPr>
                <a:xfrm>
                  <a:off x="5181480" y="4495680"/>
                  <a:ext cx="2857680" cy="1323720"/>
                  <a:chOff x="5181480" y="4495680"/>
                  <a:chExt cx="2857680" cy="13237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5181480" y="4495680"/>
                    <a:ext cx="285768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5181480" y="4495680"/>
                    <a:ext cx="285768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GB" sz="1000" spc="-1" strike="noStrike">
                        <a:solidFill>
                          <a:srgbClr val="990033"/>
                        </a:solidFill>
                        <a:latin typeface="Comic Sans MS"/>
                      </a:rPr>
                      <a:t>Principio 5</a:t>
                    </a:r>
                    <a:br>
                      <a:rPr sz="1400"/>
                    </a:b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Comic Sans MS"/>
                      </a:rPr>
                      <a:t>     El niño física o mentalmente impedido o que sufra algún impedimento scial debe recibir el tratamiento, la educación y el cuidado especiales que requiere su caso particular.</a:t>
                    </a:r>
                    <a:br>
                      <a:rPr sz="900"/>
                    </a:b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	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74" name=""/>
          <p:cNvGrpSpPr/>
          <p:nvPr/>
        </p:nvGrpSpPr>
        <p:grpSpPr>
          <a:xfrm>
            <a:off x="1905120" y="4572000"/>
            <a:ext cx="8572320" cy="7211880"/>
            <a:chOff x="1905120" y="4572000"/>
            <a:chExt cx="8572320" cy="7211880"/>
          </a:xfrm>
        </p:grpSpPr>
        <p:sp>
          <p:nvSpPr>
            <p:cNvPr id="175" name=""/>
            <p:cNvSpPr/>
            <p:nvPr/>
          </p:nvSpPr>
          <p:spPr>
            <a:xfrm>
              <a:off x="1905120" y="4572000"/>
              <a:ext cx="8572320" cy="72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905120" y="4572000"/>
              <a:ext cx="7200720" cy="2868480"/>
              <a:chOff x="1905120" y="4572000"/>
              <a:chExt cx="7200720" cy="2868480"/>
            </a:xfrm>
          </p:grpSpPr>
          <p:sp>
            <p:nvSpPr>
              <p:cNvPr id="177" name=""/>
              <p:cNvSpPr/>
              <p:nvPr/>
            </p:nvSpPr>
            <p:spPr>
              <a:xfrm>
                <a:off x="1905120" y="4572000"/>
                <a:ext cx="7200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1905120" y="4572000"/>
                <a:ext cx="7200720" cy="2868480"/>
                <a:chOff x="1905120" y="4572000"/>
                <a:chExt cx="7200720" cy="28684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905120" y="4572000"/>
                  <a:ext cx="7200720" cy="28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1905120" y="4572000"/>
                  <a:ext cx="2857320" cy="1323720"/>
                  <a:chOff x="1905120" y="4572000"/>
                  <a:chExt cx="2857320" cy="1323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1905120" y="4572000"/>
                    <a:ext cx="285732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1905120" y="4572000"/>
                    <a:ext cx="285732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GB" sz="1000" spc="-1" strike="noStrike">
                        <a:solidFill>
                          <a:srgbClr val="990033"/>
                        </a:solidFill>
                        <a:latin typeface="Comic Sans MS"/>
                      </a:rPr>
                      <a:t>Principio 5</a:t>
                    </a:r>
                    <a:br>
                      <a:rPr sz="1400"/>
                    </a:b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Comic Sans MS"/>
                      </a:rPr>
                      <a:t>     El niño física o mentalmente impedido o que sufra algún impedimento social debe recibir el tratamiento, la educación y el cuidado especiales que requiere su caso particular.</a:t>
                    </a:r>
                    <a:br>
                      <a:rPr sz="900"/>
                    </a:b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83" name=""/>
          <p:cNvGrpSpPr/>
          <p:nvPr/>
        </p:nvGrpSpPr>
        <p:grpSpPr>
          <a:xfrm>
            <a:off x="1676520" y="3809880"/>
            <a:ext cx="8572320" cy="7212240"/>
            <a:chOff x="1676520" y="3809880"/>
            <a:chExt cx="8572320" cy="7212240"/>
          </a:xfrm>
        </p:grpSpPr>
        <p:sp>
          <p:nvSpPr>
            <p:cNvPr id="184" name=""/>
            <p:cNvSpPr/>
            <p:nvPr/>
          </p:nvSpPr>
          <p:spPr>
            <a:xfrm>
              <a:off x="1676520" y="3809880"/>
              <a:ext cx="8572320" cy="72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676520" y="3809880"/>
              <a:ext cx="7200720" cy="482760"/>
              <a:chOff x="1676520" y="3809880"/>
              <a:chExt cx="7200720" cy="482760"/>
            </a:xfrm>
          </p:grpSpPr>
          <p:sp>
            <p:nvSpPr>
              <p:cNvPr id="186" name=""/>
              <p:cNvSpPr/>
              <p:nvPr/>
            </p:nvSpPr>
            <p:spPr>
              <a:xfrm>
                <a:off x="1676520" y="3809880"/>
                <a:ext cx="7200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1676520" y="3809880"/>
                <a:ext cx="2857320" cy="482760"/>
                <a:chOff x="1676520" y="3809880"/>
                <a:chExt cx="2857320" cy="4827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676520" y="3809880"/>
                  <a:ext cx="2857320" cy="4827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676520" y="3809880"/>
                  <a:ext cx="2857320" cy="4827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900" spc="-1" strike="noStrike">
                      <a:solidFill>
                        <a:srgbClr val="000000"/>
                      </a:solidFill>
                      <a:latin typeface="Comic Sans MS"/>
                    </a:rPr>
                    <a:t>El niño tendrá derecho a disfrutar de alimentación, vivienda, recreo y servicios médicos adecuados.</a:t>
                  </a:r>
                  <a:r>
                    <a:rPr b="0" lang="en-GB" sz="9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0" name=""/>
          <p:cNvGrpSpPr/>
          <p:nvPr/>
        </p:nvGrpSpPr>
        <p:grpSpPr>
          <a:xfrm>
            <a:off x="5181480" y="4495680"/>
            <a:ext cx="8572680" cy="7212240"/>
            <a:chOff x="5181480" y="4495680"/>
            <a:chExt cx="8572680" cy="7212240"/>
          </a:xfrm>
        </p:grpSpPr>
        <p:sp>
          <p:nvSpPr>
            <p:cNvPr id="191" name=""/>
            <p:cNvSpPr/>
            <p:nvPr/>
          </p:nvSpPr>
          <p:spPr>
            <a:xfrm>
              <a:off x="5181480" y="4495680"/>
              <a:ext cx="8572680" cy="72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181480" y="4495680"/>
              <a:ext cx="7201080" cy="2868480"/>
              <a:chOff x="5181480" y="4495680"/>
              <a:chExt cx="7201080" cy="2868480"/>
            </a:xfrm>
          </p:grpSpPr>
          <p:sp>
            <p:nvSpPr>
              <p:cNvPr id="193" name=""/>
              <p:cNvSpPr/>
              <p:nvPr/>
            </p:nvSpPr>
            <p:spPr>
              <a:xfrm>
                <a:off x="5181480" y="449568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5181480" y="4495680"/>
                <a:ext cx="7201080" cy="2868480"/>
                <a:chOff x="5181480" y="4495680"/>
                <a:chExt cx="7201080" cy="28684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181480" y="4495680"/>
                  <a:ext cx="7201080" cy="28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5181480" y="4495680"/>
                  <a:ext cx="2857680" cy="1323720"/>
                  <a:chOff x="5181480" y="4495680"/>
                  <a:chExt cx="2857680" cy="132372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5181480" y="4495680"/>
                    <a:ext cx="285768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5181480" y="4495680"/>
                    <a:ext cx="285768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GB" sz="1000" spc="-1" strike="noStrike">
                        <a:solidFill>
                          <a:srgbClr val="990033"/>
                        </a:solidFill>
                        <a:latin typeface="Comic Sans MS"/>
                      </a:rPr>
                      <a:t>Principio 5</a:t>
                    </a:r>
                    <a:br>
                      <a:rPr sz="1400"/>
                    </a:b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el tratamiento, la educación y el cuidado especiales que requiere su caso particular.</a:t>
                    </a:r>
                    <a:br>
                      <a:rPr sz="900"/>
                    </a:b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	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924680" y="5791320"/>
            <a:ext cx="857520" cy="76176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4857840" y="3962520"/>
            <a:ext cx="8572320" cy="7211880"/>
            <a:chOff x="4857840" y="3962520"/>
            <a:chExt cx="8572320" cy="7211880"/>
          </a:xfrm>
        </p:grpSpPr>
        <p:sp>
          <p:nvSpPr>
            <p:cNvPr id="201" name=""/>
            <p:cNvSpPr/>
            <p:nvPr/>
          </p:nvSpPr>
          <p:spPr>
            <a:xfrm>
              <a:off x="4857840" y="3962520"/>
              <a:ext cx="8572320" cy="72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4857840" y="3962520"/>
              <a:ext cx="7200720" cy="1874520"/>
              <a:chOff x="4857840" y="3962520"/>
              <a:chExt cx="7200720" cy="1874520"/>
            </a:xfrm>
          </p:grpSpPr>
          <p:sp>
            <p:nvSpPr>
              <p:cNvPr id="203" name=""/>
              <p:cNvSpPr/>
              <p:nvPr/>
            </p:nvSpPr>
            <p:spPr>
              <a:xfrm>
                <a:off x="4857840" y="3962520"/>
                <a:ext cx="7200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4857840" y="3962520"/>
                <a:ext cx="3600000" cy="1874520"/>
                <a:chOff x="4857840" y="3962520"/>
                <a:chExt cx="3600000" cy="18745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857840" y="3962520"/>
                  <a:ext cx="3600000" cy="187452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" name=""/>
                <p:cNvGrpSpPr/>
                <p:nvPr/>
              </p:nvGrpSpPr>
              <p:grpSpPr>
                <a:xfrm>
                  <a:off x="4857840" y="3962520"/>
                  <a:ext cx="3600000" cy="1874160"/>
                  <a:chOff x="4857840" y="3962520"/>
                  <a:chExt cx="3600000" cy="187416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4857840" y="3962520"/>
                    <a:ext cx="3600000" cy="78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GB" sz="1000" spc="-1" strike="noStrike">
                        <a:solidFill>
                          <a:srgbClr val="990033"/>
                        </a:solidFill>
                        <a:latin typeface="Comic Sans MS"/>
                      </a:rPr>
                      <a:t>Principio 8</a:t>
                    </a:r>
                    <a:br>
                      <a:rPr sz="1400"/>
                    </a:b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Comic Sans MS"/>
                      </a:rPr>
                      <a:t>El niño debe, en todas las circunstancias, figurar entre los primeros que reciban protección y socorro.</a:t>
                    </a:r>
                    <a:r>
                      <a:rPr b="0" lang="en-GB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4857840" y="4970880"/>
                    <a:ext cx="3598200" cy="865800"/>
                    <a:chOff x="4857840" y="4970880"/>
                    <a:chExt cx="3598200" cy="86580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4857840" y="4970880"/>
                      <a:ext cx="2971440" cy="865440"/>
                    </a:xfrm>
                    <a:prstGeom prst="rect">
                      <a:avLst/>
                    </a:prstGeom>
                    <a:solidFill>
                      <a:srgbClr val="b0ffe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4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7829280" y="4970880"/>
                      <a:ext cx="626760" cy="865440"/>
                    </a:xfrm>
                    <a:prstGeom prst="rect">
                      <a:avLst/>
                    </a:prstGeom>
                    <a:solidFill>
                      <a:srgbClr val="b0ffe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4857840" y="5836320"/>
                      <a:ext cx="2971440" cy="360"/>
                    </a:xfrm>
                    <a:prstGeom prst="rect">
                      <a:avLst/>
                    </a:prstGeom>
                    <a:solidFill>
                      <a:srgbClr val="b0ffe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7829280" y="5836320"/>
                      <a:ext cx="626760" cy="360"/>
                    </a:xfrm>
                    <a:prstGeom prst="rect">
                      <a:avLst/>
                    </a:prstGeom>
                    <a:solidFill>
                      <a:srgbClr val="b0ffe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13" name=""/>
          <p:cNvGrpSpPr/>
          <p:nvPr/>
        </p:nvGrpSpPr>
        <p:grpSpPr>
          <a:xfrm>
            <a:off x="0" y="-353880"/>
            <a:ext cx="8572680" cy="7211880"/>
            <a:chOff x="0" y="-353880"/>
            <a:chExt cx="8572680" cy="7211880"/>
          </a:xfrm>
        </p:grpSpPr>
        <p:sp>
          <p:nvSpPr>
            <p:cNvPr id="214" name=""/>
            <p:cNvSpPr/>
            <p:nvPr/>
          </p:nvSpPr>
          <p:spPr>
            <a:xfrm>
              <a:off x="0" y="-353880"/>
              <a:ext cx="8572680" cy="72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0" y="-353880"/>
              <a:ext cx="7201080" cy="236160"/>
              <a:chOff x="0" y="-353880"/>
              <a:chExt cx="7201080" cy="236160"/>
            </a:xfrm>
          </p:grpSpPr>
          <p:sp>
            <p:nvSpPr>
              <p:cNvPr id="216" name=""/>
              <p:cNvSpPr/>
              <p:nvPr/>
            </p:nvSpPr>
            <p:spPr>
              <a:xfrm>
                <a:off x="0" y="-35388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0" y="-353880"/>
                <a:ext cx="2857680" cy="236160"/>
                <a:chOff x="0" y="-353880"/>
                <a:chExt cx="2857680" cy="23616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0" y="-353880"/>
                  <a:ext cx="2857680" cy="2361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0" y="-353880"/>
                  <a:ext cx="2857680" cy="2361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1000" spc="-1" strike="noStrike">
                      <a:solidFill>
                        <a:srgbClr val="990033"/>
                      </a:solidFill>
                      <a:latin typeface="Comic Sans MS"/>
                    </a:rPr>
                    <a:t>Principio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0" name=""/>
          <p:cNvGrpSpPr/>
          <p:nvPr/>
        </p:nvGrpSpPr>
        <p:grpSpPr>
          <a:xfrm>
            <a:off x="0" y="-353880"/>
            <a:ext cx="8572680" cy="7211880"/>
            <a:chOff x="0" y="-353880"/>
            <a:chExt cx="8572680" cy="7211880"/>
          </a:xfrm>
        </p:grpSpPr>
        <p:sp>
          <p:nvSpPr>
            <p:cNvPr id="221" name=""/>
            <p:cNvSpPr/>
            <p:nvPr/>
          </p:nvSpPr>
          <p:spPr>
            <a:xfrm>
              <a:off x="0" y="-353880"/>
              <a:ext cx="8572680" cy="72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0" y="-353880"/>
              <a:ext cx="7201080" cy="236160"/>
              <a:chOff x="0" y="-353880"/>
              <a:chExt cx="7201080" cy="23616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-35388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0" y="-353880"/>
                <a:ext cx="2857680" cy="236160"/>
                <a:chOff x="0" y="-353880"/>
                <a:chExt cx="2857680" cy="2361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0" y="-353880"/>
                  <a:ext cx="2857680" cy="2361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0" y="-353880"/>
                  <a:ext cx="2857680" cy="2361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1000" spc="-1" strike="noStrike">
                      <a:solidFill>
                        <a:srgbClr val="990033"/>
                      </a:solidFill>
                      <a:latin typeface="Comic Sans MS"/>
                    </a:rPr>
                    <a:t>Principio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4909-6B93-44E4-A83D-1EC8CDB92B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RMACIA HR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40000" y="1979280"/>
            <a:ext cx="7246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s abastecer y suministrar medicamentos e insumos clínicos en forma eficaz, oportuna y eficiente. A la población pediátrica que lo requiera con el fin de prevenir,paliar o cuidar la salud de nuestros pacient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162920" y="5334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352680" y="4495680"/>
            <a:ext cx="1143000" cy="857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5720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2057400" y="5562720"/>
            <a:ext cx="1219320" cy="99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4343400" y="548640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279-00D7-4341-9231-5A031B3F256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252360"/>
            <a:ext cx="73152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AS RELACIONADOS CON LOS MEDICAMENT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905120" y="1904760"/>
            <a:ext cx="72388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ACIENTE NO USA LOS MEDICAMENTOS QUE NECESI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ACIENTE USA MEDICAMENTOS QUE NO NECESI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ACIENTE NO RESPONDE A TRATAMI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ACIENTE USA UNA DOSIS, PAUTA Y O DURACION INFERIOR O SUPERIOR A LA QUE NECESITA DE UN MEDICAMENTO CORRECTAMENTE SELECCION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ACIENTE USA UN MEDICAMENTO QUE LE PRODUCE UNA REACION ADVERS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2584-7616-40D6-8E94-81419E235B2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TIVOS ESTRATEG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16292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astecimiento de medicament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pensación de medicamentos a pacientes hospitalizad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pensación de medicamentos a pacientes ambulatorios crónicos y agudo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pensación de medicamentos de urgencia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paraciones magistrale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cencia a alumnos de química y farmacia Y técnicos paraméd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8676-ABD8-4F77-A352-DDB33E34F3D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14280"/>
            <a:ext cx="68724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2463840" y="2666880"/>
            <a:ext cx="5371920" cy="2629080"/>
          </a:xfrm>
          <a:prstGeom prst="roundRect">
            <a:avLst>
              <a:gd name="adj" fmla="val 6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2" idx="1"/>
            <a:endCxn id="243" idx="2"/>
          </p:cNvCxnSpPr>
          <p:nvPr/>
        </p:nvCxnSpPr>
        <p:spPr>
          <a:xfrm flipH="1" rot="10800000">
            <a:off x="3351600" y="4876200"/>
            <a:ext cx="343800" cy="1059480"/>
          </a:xfrm>
          <a:prstGeom prst="bentConnector4">
            <a:avLst>
              <a:gd name="adj1" fmla="val -66666"/>
              <a:gd name="adj2" fmla="val 64004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43" idx="0"/>
            <a:endCxn id="245" idx="2"/>
          </p:cNvCxnSpPr>
          <p:nvPr/>
        </p:nvCxnSpPr>
        <p:spPr>
          <a:xfrm flipV="1" rot="16200000">
            <a:off x="3280320" y="3851280"/>
            <a:ext cx="405360" cy="426240"/>
          </a:xfrm>
          <a:prstGeom prst="bentConnector3">
            <a:avLst>
              <a:gd name="adj1" fmla="val 4977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47" idx="0"/>
            <a:endCxn id="248" idx="2"/>
          </p:cNvCxnSpPr>
          <p:nvPr/>
        </p:nvCxnSpPr>
        <p:spPr>
          <a:xfrm flipV="1" rot="16200000">
            <a:off x="5835240" y="2132640"/>
            <a:ext cx="533880" cy="1905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50" idx="0"/>
            <a:endCxn id="248" idx="2"/>
          </p:cNvCxnSpPr>
          <p:nvPr/>
        </p:nvCxnSpPr>
        <p:spPr>
          <a:xfrm flipV="1">
            <a:off x="5149440" y="2818800"/>
            <a:ext cx="1080" cy="533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45" idx="0"/>
            <a:endCxn id="248" idx="2"/>
          </p:cNvCxnSpPr>
          <p:nvPr/>
        </p:nvCxnSpPr>
        <p:spPr>
          <a:xfrm flipH="1" flipV="1" rot="5400000">
            <a:off x="3926880" y="2161800"/>
            <a:ext cx="565920" cy="1880280"/>
          </a:xfrm>
          <a:prstGeom prst="bentConnector3">
            <a:avLst>
              <a:gd name="adj1" fmla="val 4996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8" name=""/>
          <p:cNvSpPr/>
          <p:nvPr/>
        </p:nvSpPr>
        <p:spPr>
          <a:xfrm>
            <a:off x="4343400" y="2209680"/>
            <a:ext cx="161280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63840" y="3384720"/>
            <a:ext cx="1611360" cy="477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RECCION MÉD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3352680"/>
            <a:ext cx="1612800" cy="47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RECCION ADMINIST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3352680"/>
            <a:ext cx="1611360" cy="47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DIRECCIO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R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267080"/>
            <a:ext cx="327672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O DE RESPONSABI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YO AL DIAGNOSTICO Y TRAT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5638680"/>
            <a:ext cx="1611360" cy="592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209-90E5-403B-9493-B8ED2B940E2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SELECC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A TRAVES DEL COMITÉ DE FARMACIA Y TERAPEUT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DICION DEL ARSENAL TERAPEUT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DIFUSION DE LA GU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VALUACION PERIODICA DEL ARSENAL TERAPEUT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30F1-600B-4C3B-8A12-3EE6C1064E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Comic Sans MS"/>
              </a:rPr>
              <a:t>MARCO   LEGAL PARA ADQUISICIONES DEL ESTADO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LEY  Nº19.886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.  LEY DE BASES SOBRE CONTRATOS ADMINISTRATIVOS  DE  SUMINISTROS  Y PRESTACIONES DE SERVICIOS. AGOSTO 2003.  PMG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REGLAMENTO DE LA LEY DE COMPRAS PUBLICA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USO OBLIGATORIO DEL PORTAL ELECTRONICO CHILE COMPRA PARA ADQUISICIONES &gt; A 3 UTM. 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ONT. MAR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FINE TIEMPOS DE PUBLICACIÓN SEGÚN MONTO DE LA COMPRA.  &lt; A 100 UTM; ENTRE 100 Y 1000 UTM Y &gt; A 1000 UTM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NORMATIVA  MINSAL.  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A TRAVÉS DE DPI PARA COMPRAS CON ANTICIPOS A PROVEEDOR, AVANCES, Y FONDOS FIJOS ENTRE OTRO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6298-519C-4810-83BF-9E559E6614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ADQUISICION Y CONTROL DE INVENTARI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DENTRO DEL MARCO LEGAL:CENABAST,CHILECOMP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DEFINIR LAS ESPECIFICACIONES TECNIC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DEFINIR CRITERIOS DE ADJUDICAC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GESTION DE STOCK:MINIMO,CRITICO,METODO AB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37C3-E456-4172-8CD5-8F444BF921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_jefe_farma</cp:lastModifiedBy>
  <dcterms:modified xsi:type="dcterms:W3CDTF">2010-08-25T23:35:30Z</dcterms:modified>
  <cp:revision>20</cp:revision>
  <dc:subject/>
  <dc:title>La farmacocinética y farmacodinamia en pediatría</dc:title>
</cp:coreProperties>
</file>