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138-E5BA-4000-9E53-A4237A69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C31-7C29-4CEC-956F-DAAED689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020-F648-49B9-99EE-A33973A6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AF0-52CD-4D4F-AF68-8463ADA1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5229-695C-4931-A606-67254DA2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538E-FE4A-49A2-A52F-5BD7DD2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DD33-5F1B-42D3-B535-516B7F7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7297-4978-427F-9628-2317B22D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9A5E-399D-425C-89AD-C1AB251A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07DE-9372-4CA4-B0B3-E0042F37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ACA3-2478-491E-A53D-620720D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785-3F75-4055-AFF9-80DF725E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FFD6-FA94-45E9-81BC-6991C67F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F8D2-F4EE-4C93-967F-1F45B6BC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2781-FA9B-477D-AFB8-B240A890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5758-A5B2-4BB3-9D5D-FB18EF66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1B9E-260D-4F7D-B0E0-69335788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A6C-5781-4C6C-BAAB-2871E250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6E4-76C9-4D7A-803D-312ACB71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AB8-338D-445B-AF0F-79EDE9A7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69B-AC1C-459E-919F-E7CD7493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58E-988A-4E16-8357-347DD534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B44-7B74-4829-8095-88FD4947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775-9D16-45A1-8EBC-0D160E0F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767B-D9A2-4079-8A03-1DDC94DCFA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E687-3565-4569-93C1-18A73B9C9BF0}" type="slidenum">
              <a:rPr b="0" lang="es-E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8840" y="2816280"/>
            <a:ext cx="7734240" cy="1224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500" spc="-1" strike="noStrike">
                <a:solidFill>
                  <a:srgbClr val="000099"/>
                </a:solidFill>
                <a:latin typeface="Gill Sans MT"/>
              </a:rPr>
              <a:t>MODELO DE DOS COMPARTIMENTOS</a:t>
            </a:r>
            <a:br>
              <a:rPr sz="2500"/>
            </a:b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57200" y="5373720"/>
            <a:ext cx="5638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99"/>
                </a:solidFill>
                <a:latin typeface="Gill Sans MT"/>
              </a:rPr>
              <a:t>Prof. Edda Costa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99"/>
                </a:solidFill>
                <a:latin typeface="Gill Sans MT"/>
              </a:rPr>
              <a:t>-2010-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52360" y="225360"/>
            <a:ext cx="784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UNIVERSIDAD DE CHILE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Facultad de Ciencias Químicas y Farmacéuticas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Departamento de Ciencias y Tecnología Farmacéuticas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93" name="Picture 5" descr="logo-uco"/>
          <p:cNvPicPr/>
          <p:nvPr/>
        </p:nvPicPr>
        <p:blipFill>
          <a:blip r:embed="rId1"/>
          <a:stretch/>
        </p:blipFill>
        <p:spPr>
          <a:xfrm>
            <a:off x="792000" y="266760"/>
            <a:ext cx="53532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Rectangle 3"/>
              <p:cNvSpPr txBox="1"/>
              <p:nvPr/>
            </p:nvSpPr>
            <p:spPr>
              <a:xfrm>
                <a:off x="3946680" y="4092480"/>
                <a:ext cx="726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Rectangle 3"/>
              <p:cNvSpPr txBox="1"/>
              <p:nvPr/>
            </p:nvSpPr>
            <p:spPr>
              <a:xfrm>
                <a:off x="5459400" y="4092480"/>
                <a:ext cx="7905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692360" y="1844640"/>
            <a:ext cx="67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Si la infusión llega al estado estacionario, es decir, el tiempo T es suficientemente prolongado: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91440" y="411624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os términos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94320" y="4346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82720" y="411624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Cero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292480" y="4869000"/>
                <a:ext cx="2307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630760" y="4869000"/>
                <a:ext cx="2254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Rectangle 3"/>
              <p:cNvSpPr txBox="1"/>
              <p:nvPr/>
            </p:nvSpPr>
            <p:spPr>
              <a:xfrm>
                <a:off x="1763640" y="2924280"/>
                <a:ext cx="6612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β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839840" y="411624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y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Rectangle 3"/>
              <p:cNvSpPr txBox="1"/>
              <p:nvPr/>
            </p:nvSpPr>
            <p:spPr>
              <a:xfrm>
                <a:off x="2478240" y="2781360"/>
                <a:ext cx="5195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-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Rectangle 3"/>
              <p:cNvSpPr txBox="1"/>
              <p:nvPr/>
            </p:nvSpPr>
            <p:spPr>
              <a:xfrm>
                <a:off x="3708360" y="3957480"/>
                <a:ext cx="26622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Rectangle 3"/>
              <p:cNvSpPr txBox="1"/>
              <p:nvPr/>
            </p:nvSpPr>
            <p:spPr>
              <a:xfrm>
                <a:off x="2762280" y="4863960"/>
                <a:ext cx="18781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α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716400" y="1743120"/>
            <a:ext cx="87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a ecuación que indica la Cp después de finalizar la infusión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donde se logró el estado estacionario es: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Rectangle 3"/>
              <p:cNvSpPr txBox="1"/>
              <p:nvPr/>
            </p:nvSpPr>
            <p:spPr>
              <a:xfrm>
                <a:off x="5473800" y="4863960"/>
                <a:ext cx="17622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β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614" t="0" r="1227" b="0"/>
          <a:stretch/>
        </p:blipFill>
        <p:spPr>
          <a:xfrm>
            <a:off x="1619280" y="1700280"/>
            <a:ext cx="5832360" cy="4519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124000" y="2170080"/>
            <a:ext cx="5905440" cy="25164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1476360" y="1773360"/>
                <a:ext cx="71661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50800" y="3141360"/>
            <a:ext cx="7250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Ecuación que describe la evolución temporal del fármaco en el plasma durante la infusión y después de finalizada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Mientras dura la infusión, T = t y va variando con el tiempo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Cuando termina la infusión, T se hace constante y su valor corresponde al tiempo en que terminó la infusión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749680" y="3014640"/>
                <a:ext cx="4630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3720" y="4038480"/>
            <a:ext cx="7010640" cy="24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Indica aumento de la concentración de fármaco en función del tiempo desde el inicio de la infusión intravenos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a concentración plasmática </a:t>
            </a:r>
            <a:r>
              <a:rPr b="0" lang="es-CL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</a:t>
            </a: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 en el tiempo y se aproxima a un nivel constante (velocidad de eliminación = velocidad de infusión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692360" y="2276640"/>
                <a:ext cx="3116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5275440" y="2276640"/>
                <a:ext cx="325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10"/>
          <p:cNvSpPr/>
          <p:nvPr/>
        </p:nvSpPr>
        <p:spPr>
          <a:xfrm>
            <a:off x="2611440" y="160344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Durante la infusión, cuando T = t,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340000" y="1700280"/>
                <a:ext cx="547200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α-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4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32000" y="2852640"/>
            <a:ext cx="740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Concentración plasmática durante la infusión que aumenta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en función del tiempo y se aproxima a un nivel constante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Estado estacionario, los términos exponenciales tienden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a cero (t=∞)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3000240" y="4292640"/>
                <a:ext cx="41515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 de ingr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lear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2124000" y="5300640"/>
                <a:ext cx="1584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 áre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4067280" y="5445000"/>
                <a:ext cx="201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área</m:t>
                        </m:r>
                      </m:sub>
                    </m:sSub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1"/>
              <p:cNvSpPr txBox="1"/>
              <p:nvPr/>
            </p:nvSpPr>
            <p:spPr>
              <a:xfrm>
                <a:off x="6732720" y="5300640"/>
                <a:ext cx="16668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áre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71400" y="1773000"/>
            <a:ext cx="70102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Cuando la infusión finaliza T se hace constante (tiempo en que finalizó la infusión). En esta situación t = t’ + T siendo t’ el tiempo post-infusión.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En esta situación, el tiempo t se reemplaza por t = t’ + T, en la ecuación: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2124000" y="5329080"/>
                <a:ext cx="2432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5580000" y="5351400"/>
                <a:ext cx="2206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2063880" y="3645000"/>
                <a:ext cx="6024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2411280" y="6043680"/>
                <a:ext cx="18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α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5724360" y="6049800"/>
                <a:ext cx="18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596960" y="4724280"/>
            <a:ext cx="69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Los términos exponenciales se ordenan de esta forma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042920" y="2781360"/>
                <a:ext cx="3780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413080" y="5445000"/>
                <a:ext cx="201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868480" y="2060640"/>
            <a:ext cx="441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En la fase posterior de la infusión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5256360" y="2781360"/>
                <a:ext cx="3779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2063880" y="4005360"/>
                <a:ext cx="6024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997440" y="342900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si en la ecuación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4869000"/>
            <a:ext cx="165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se sustituye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5796000" y="5445000"/>
                <a:ext cx="17701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α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2411280" y="6093000"/>
                <a:ext cx="18306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5897520" y="6093000"/>
                <a:ext cx="1770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662360" y="5373720"/>
            <a:ext cx="8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por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6021360"/>
            <a:ext cx="8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por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6720" y="5373720"/>
            <a:ext cx="82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y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2268360" y="4653000"/>
                <a:ext cx="2308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5580000" y="4687920"/>
                <a:ext cx="2254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1770120" y="3141720"/>
                <a:ext cx="6611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β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862440" y="4078440"/>
                <a:ext cx="24289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584360" y="1844640"/>
            <a:ext cx="6985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Se llega a la relación entre concentración plasmática y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tiempo (t’, tiempo posterior a la infusión) durante el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periodo que sigue a la interrupción de ésta: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008720" y="5661000"/>
            <a:ext cx="813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R, S, </a:t>
            </a:r>
            <a:r>
              <a:rPr b="0" lang="es-CL" sz="23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 y </a:t>
            </a:r>
            <a:r>
              <a:rPr b="0" lang="es-CL" sz="23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 pueden obtenerse de la curva post-infusión que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es biexponencial empleando el método de los residuos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630520" y="3213000"/>
                <a:ext cx="20336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508720" y="3213000"/>
                <a:ext cx="1819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6"/>
          <p:cNvSpPr/>
          <p:nvPr/>
        </p:nvSpPr>
        <p:spPr>
          <a:xfrm>
            <a:off x="551160" y="1916280"/>
            <a:ext cx="9029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Los coeficientes R y S pueden relacionarse con  A y B, que son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las ordenadas en el origen a tiempo cero para la administración 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de una inyección i.v.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700360" y="4437000"/>
                <a:ext cx="20113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α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64000" y="4437000"/>
                <a:ext cx="1944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β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Text Box 9"/>
          <p:cNvSpPr/>
          <p:nvPr/>
        </p:nvSpPr>
        <p:spPr>
          <a:xfrm>
            <a:off x="1116000" y="5589720"/>
            <a:ext cx="7850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X</a:t>
            </a:r>
            <a:r>
              <a:rPr b="0" lang="es-CL" sz="2400" spc="-1" strike="noStrike" baseline="-25000">
                <a:solidFill>
                  <a:srgbClr val="000099"/>
                </a:solidFill>
                <a:latin typeface="Gill Sans MT"/>
              </a:rPr>
              <a:t>0</a:t>
            </a: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 dosis administrada, corresponde al producto entre la velocidad de infusión, ko, por el tiempo de duración, koT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05:03:42Z</dcterms:created>
  <dc:creator>Edda Costa</dc:creator>
  <dc:description/>
  <dc:language>en-US</dc:language>
  <cp:lastModifiedBy>Edda Costa</cp:lastModifiedBy>
  <cp:lastPrinted>2001-10-08T01:34:10Z</cp:lastPrinted>
  <dcterms:modified xsi:type="dcterms:W3CDTF">2010-09-07T02:43:58Z</dcterms:modified>
  <cp:revision>192</cp:revision>
  <dc:subject/>
  <dc:title>Cremas de Limpieza</dc:title>
</cp:coreProperties>
</file>