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8C4-0624-4FF9-924F-8A50E81B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20A4-B34D-4FB6-A277-949CEB53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A1C-B8A3-492D-BE9D-84713CCE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13BB-6253-48D5-83DD-260A7682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3A3A-0397-41D5-894B-D3875DAF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E3F5-53AF-430A-A957-2388661A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D054-2EEA-4CC1-A306-F0CA8AF1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F2A1-DD79-43AC-A0FA-EFD06E86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1F27-668E-41A0-9E48-E35D47B0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1A55-70D5-4CF8-B979-F19EB7C8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3668-69AA-484A-A77B-6DFFA983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09B-78F9-4137-AF4D-7AC46474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8824-2F9B-4780-9A6A-DD805B82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6CC9-492D-4B75-AFCB-421B06B6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0DCC-5AA5-49AA-9355-E827DBCA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E717-2863-47F4-941E-AF99A9C6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B208-6FCB-4366-A97A-EDA2AF32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6B9-0E80-4CFF-AB55-EC2CCDCC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BD8-630C-4E95-98F9-90BFC09A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519-BE6D-40F7-9D72-1BB1CB48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6DD-2071-4AE8-B5D2-C23C388B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284-11D2-439D-83E0-5C5B0D6B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690-A466-4524-A1A8-F0F59AAC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601-E73F-499E-B08D-0488F8F2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BB6E-7B34-4A48-9C2D-9B39D0AADC1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1A46-5728-4969-BC1E-5602C41463A1}" type="slidenum">
              <a:rPr b="0" lang="es-E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8840" y="2816280"/>
            <a:ext cx="7734240" cy="1224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s-ES" sz="2500" spc="-1" strike="noStrike">
                <a:solidFill>
                  <a:srgbClr val="000099"/>
                </a:solidFill>
                <a:latin typeface="Gill Sans MT"/>
              </a:rPr>
              <a:t>MODELO DE DOS COMPARTIMENTOS</a:t>
            </a:r>
            <a:br>
              <a:rPr sz="2500"/>
            </a:b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57200" y="5373720"/>
            <a:ext cx="56386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99"/>
                </a:solidFill>
                <a:latin typeface="Gill Sans MT"/>
              </a:rPr>
              <a:t>Prof. Edda Costa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99"/>
                </a:solidFill>
                <a:latin typeface="Gill Sans MT"/>
              </a:rPr>
              <a:t>-2010-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52360" y="225360"/>
            <a:ext cx="7847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Gill Sans MT"/>
              </a:rPr>
              <a:t>UNIVERSIDAD DE CHILE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Gill Sans MT"/>
              </a:rPr>
              <a:t>Facultad de Ciencias Químicas y Farmacéuticas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Gill Sans MT"/>
              </a:rPr>
              <a:t>Departamento de Ciencias y Tecnología Farmacéuticas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93" name="Picture 5" descr="logo-uco"/>
          <p:cNvPicPr/>
          <p:nvPr/>
        </p:nvPicPr>
        <p:blipFill>
          <a:blip r:embed="rId1"/>
          <a:stretch/>
        </p:blipFill>
        <p:spPr>
          <a:xfrm>
            <a:off x="792000" y="266760"/>
            <a:ext cx="53532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Rectangle 3"/>
              <p:cNvSpPr txBox="1"/>
              <p:nvPr/>
            </p:nvSpPr>
            <p:spPr>
              <a:xfrm>
                <a:off x="3946680" y="4092480"/>
                <a:ext cx="7268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Rectangle 3"/>
              <p:cNvSpPr txBox="1"/>
              <p:nvPr/>
            </p:nvSpPr>
            <p:spPr>
              <a:xfrm>
                <a:off x="5459400" y="4092480"/>
                <a:ext cx="7905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692360" y="1844640"/>
            <a:ext cx="67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Si la infusión llega al estado estacionario, es decir, el tiempo T es suficientemente prolongado: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91440" y="411624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los términos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94320" y="4346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82720" y="411624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Cero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292480" y="4869000"/>
                <a:ext cx="23079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630760" y="4869000"/>
                <a:ext cx="2254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β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Rectangle 3"/>
              <p:cNvSpPr txBox="1"/>
              <p:nvPr/>
            </p:nvSpPr>
            <p:spPr>
              <a:xfrm>
                <a:off x="1763640" y="2924280"/>
                <a:ext cx="66121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β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839840" y="411624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y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Rectangle 3"/>
              <p:cNvSpPr txBox="1"/>
              <p:nvPr/>
            </p:nvSpPr>
            <p:spPr>
              <a:xfrm>
                <a:off x="2478240" y="2781360"/>
                <a:ext cx="5195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-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β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Rectangle 3"/>
              <p:cNvSpPr txBox="1"/>
              <p:nvPr/>
            </p:nvSpPr>
            <p:spPr>
              <a:xfrm>
                <a:off x="3708360" y="3957480"/>
                <a:ext cx="26622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Rectangle 3"/>
              <p:cNvSpPr txBox="1"/>
              <p:nvPr/>
            </p:nvSpPr>
            <p:spPr>
              <a:xfrm>
                <a:off x="2762280" y="4863960"/>
                <a:ext cx="18781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α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716400" y="1743120"/>
            <a:ext cx="87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La ecuación que indica la Cp después de finalizar la infusión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donde se logró el estado estacionario es: 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Rectangle 3"/>
              <p:cNvSpPr txBox="1"/>
              <p:nvPr/>
            </p:nvSpPr>
            <p:spPr>
              <a:xfrm>
                <a:off x="5473800" y="4863960"/>
                <a:ext cx="17622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β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rcRect l="614" t="0" r="1227" b="0"/>
          <a:stretch/>
        </p:blipFill>
        <p:spPr>
          <a:xfrm>
            <a:off x="1619280" y="1700280"/>
            <a:ext cx="5832360" cy="4519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2124000" y="2170080"/>
            <a:ext cx="5905440" cy="25164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1476360" y="1773360"/>
                <a:ext cx="71661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β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50800" y="3141360"/>
            <a:ext cx="7250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99"/>
                </a:solidFill>
                <a:latin typeface="Gill Sans MT"/>
              </a:rPr>
              <a:t>Ecuación que describe la evolución temporal del fármaco en el plasma durante la infusión y después de finalizada.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99"/>
                </a:solidFill>
                <a:latin typeface="Gill Sans MT"/>
              </a:rPr>
              <a:t>Mientras dura la infusión, T = t y va variando con el tiempo.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99"/>
                </a:solidFill>
                <a:latin typeface="Gill Sans MT"/>
              </a:rPr>
              <a:t>Cuando termina la infusión, T se hace constante y su valor corresponde al tiempo en que terminó la infusión.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2749680" y="3014640"/>
                <a:ext cx="4630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3720" y="4038480"/>
            <a:ext cx="7010640" cy="24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Indica aumento de la concentración de fármaco en función del tiempo desde el inicio de la infusión intravenosa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La concentración plasmática </a:t>
            </a:r>
            <a:r>
              <a:rPr b="0" lang="es-CL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</a:t>
            </a: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 en el tiempo y se aproxima a un nivel constante (velocidad de eliminación = velocidad de infusión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692360" y="2276640"/>
                <a:ext cx="3116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5275440" y="2276640"/>
                <a:ext cx="32572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Text Box 10"/>
          <p:cNvSpPr/>
          <p:nvPr/>
        </p:nvSpPr>
        <p:spPr>
          <a:xfrm>
            <a:off x="2611440" y="160344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Durante la infusión, cuando T = t,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340000" y="1700280"/>
                <a:ext cx="547200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α-β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Rectangle 4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332000" y="2852640"/>
            <a:ext cx="7400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Concentración plasmática durante la infusión que aumenta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en función del tiempo y se aproxima a un nivel constante.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Estado estacionario, los términos exponenciales tienden 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a cero (t=∞).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3000240" y="4292640"/>
                <a:ext cx="41515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locidad  de ingres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learanc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9"/>
              <p:cNvSpPr txBox="1"/>
              <p:nvPr/>
            </p:nvSpPr>
            <p:spPr>
              <a:xfrm>
                <a:off x="2124000" y="5300640"/>
                <a:ext cx="15843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 áre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4067280" y="5445000"/>
                <a:ext cx="2017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área</m:t>
                        </m:r>
                      </m:sub>
                    </m:sSub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1"/>
              <p:cNvSpPr txBox="1"/>
              <p:nvPr/>
            </p:nvSpPr>
            <p:spPr>
              <a:xfrm>
                <a:off x="6732720" y="5300640"/>
                <a:ext cx="16668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áre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71400" y="1773000"/>
            <a:ext cx="70102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Cuando la infusión finaliza T se hace constante (tiempo en que finalizó la infusión). En esta situación t = t’ + T siendo t’ el tiempo post-infusión.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En esta situación, el tiempo t se reemplaza por t = t’ + T, en la ecuación: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2124000" y="5329080"/>
                <a:ext cx="2432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5580000" y="5351400"/>
                <a:ext cx="22068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7"/>
              <p:cNvSpPr txBox="1"/>
              <p:nvPr/>
            </p:nvSpPr>
            <p:spPr>
              <a:xfrm>
                <a:off x="2063880" y="3645000"/>
                <a:ext cx="60246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β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2411280" y="6043680"/>
                <a:ext cx="181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α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5724360" y="6049800"/>
                <a:ext cx="181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596960" y="4724280"/>
            <a:ext cx="69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Los términos exponenciales se ordenan de esta forma: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1042920" y="2781360"/>
                <a:ext cx="3780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2413080" y="5445000"/>
                <a:ext cx="20145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868480" y="2060640"/>
            <a:ext cx="441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En la fase posterior de la infusión: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5256360" y="2781360"/>
                <a:ext cx="37796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2063880" y="4005360"/>
                <a:ext cx="60246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β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997440" y="3429000"/>
            <a:ext cx="21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si en la ecuación: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4869000"/>
            <a:ext cx="165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se sustituye: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5796000" y="5445000"/>
                <a:ext cx="17701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α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2411280" y="6093000"/>
                <a:ext cx="183060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β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5897520" y="6093000"/>
                <a:ext cx="17701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4662360" y="5373720"/>
            <a:ext cx="8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por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6021360"/>
            <a:ext cx="8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por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86720" y="5373720"/>
            <a:ext cx="82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99"/>
                </a:solidFill>
                <a:latin typeface="Gill Sans MT"/>
              </a:rPr>
              <a:t>y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2268360" y="4653000"/>
                <a:ext cx="23083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0"/>
              <p:cNvSpPr txBox="1"/>
              <p:nvPr/>
            </p:nvSpPr>
            <p:spPr>
              <a:xfrm>
                <a:off x="5580000" y="4687920"/>
                <a:ext cx="22543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β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1770120" y="3141720"/>
                <a:ext cx="66117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t'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β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β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3862440" y="4078440"/>
                <a:ext cx="242892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t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1584360" y="1844640"/>
            <a:ext cx="69850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Se llega a la relación entre concentración plasmática y 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tiempo (t’, tiempo posterior a la infusión) durante el 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Gill Sans MT"/>
              </a:rPr>
              <a:t>periodo que sigue a la interrupción de ésta: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008720" y="5661000"/>
            <a:ext cx="813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R, S, </a:t>
            </a:r>
            <a:r>
              <a:rPr b="0" lang="es-CL" sz="23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 y </a:t>
            </a:r>
            <a:r>
              <a:rPr b="0" lang="es-CL" sz="23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 pueden obtenerse de la curva post-infusión que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es biexponencial empleando el método de los residuos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714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ill Sans MT"/>
              </a:rPr>
              <a:t>INFUSIÓN INTRAVENOS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2630520" y="3213000"/>
                <a:ext cx="20336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5508720" y="3213000"/>
                <a:ext cx="18190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Text Box 6"/>
          <p:cNvSpPr/>
          <p:nvPr/>
        </p:nvSpPr>
        <p:spPr>
          <a:xfrm>
            <a:off x="551160" y="1916280"/>
            <a:ext cx="9029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Los coeficientes R y S pueden relacionarse con  A y B, que son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las ordenadas en el origen a tiempo cero para la administración 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Gill Sans MT"/>
              </a:rPr>
              <a:t>de una inyección i.v.</a:t>
            </a:r>
            <a:endParaRPr b="0" lang="en-US" sz="2300" spc="-1" strike="noStrike">
              <a:solidFill>
                <a:srgbClr val="0099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2700360" y="4437000"/>
                <a:ext cx="20113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α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364000" y="4437000"/>
                <a:ext cx="19447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β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Text Box 9"/>
          <p:cNvSpPr/>
          <p:nvPr/>
        </p:nvSpPr>
        <p:spPr>
          <a:xfrm>
            <a:off x="1116000" y="5589720"/>
            <a:ext cx="7850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X</a:t>
            </a:r>
            <a:r>
              <a:rPr b="0" lang="es-CL" sz="2400" spc="-1" strike="noStrike" baseline="-25000">
                <a:solidFill>
                  <a:srgbClr val="000099"/>
                </a:solidFill>
                <a:latin typeface="Gill Sans MT"/>
              </a:rPr>
              <a:t>0</a:t>
            </a:r>
            <a:r>
              <a:rPr b="0" lang="es-CL" sz="2400" spc="-1" strike="noStrike">
                <a:solidFill>
                  <a:srgbClr val="000099"/>
                </a:solidFill>
                <a:latin typeface="Gill Sans MT"/>
              </a:rPr>
              <a:t> dosis administrada, corresponde al producto entre la velocidad de infusión, ko, por el tiempo de duración, koT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4T05:03:42Z</dcterms:created>
  <dc:creator>Edda Costa</dc:creator>
  <dc:description/>
  <dc:language>en-US</dc:language>
  <cp:lastModifiedBy>Edda Costa</cp:lastModifiedBy>
  <cp:lastPrinted>2001-10-08T01:34:10Z</cp:lastPrinted>
  <dcterms:modified xsi:type="dcterms:W3CDTF">2010-09-07T02:43:58Z</dcterms:modified>
  <cp:revision>192</cp:revision>
  <dc:subject/>
  <dc:title>Cremas de Limpieza</dc:title>
</cp:coreProperties>
</file>