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933-D703-45AE-9904-2C1493A2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2A5-742A-4D9A-A19E-A75EFE7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E3B-329C-4B08-A7AB-E227C56F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EE2-3589-4DAC-B88A-F338ACFF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77B-6CB0-45D7-9768-2375B991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E07A-EA98-4E5A-90DA-9D59434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D50F-2AE8-4F75-A893-1460E63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6559-32B9-4FAC-A4AB-9B5C854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9B71-C4EB-4DF8-8C60-FFB8977C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151B-3636-4AB9-A1E0-0E2370ED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A7F6-68D2-4019-9A1B-9FF59E0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EA8-22F1-43C5-8C2A-7792A5E2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3E7-E028-414A-B177-512C7FE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473-259D-49FB-9052-EF9343E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5478-444F-4671-A07B-258E5E8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CE3-282F-4458-A3F4-C3398A5E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EDAE-D420-48CF-BE1A-873B4A0F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006-1850-4542-AD20-99AAED8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0A2-1A7B-4B6C-85B1-13E6CBF2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808-39EF-45DF-9A53-1E6BC20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AA4-5214-4B91-AC2E-59640D4E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BED-096F-4226-8D8E-C37263F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287-4DD8-4C59-8356-F89818C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7F9-CFA9-4966-92A5-4835214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5640-AD9E-4C43-A733-EBD88C8355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8F6-382A-4BC8-93B2-F93157570BBC}" type="slidenum">
              <a:rPr b="0" lang="es-E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8840" y="2816280"/>
            <a:ext cx="7734240" cy="1224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000099"/>
                </a:solidFill>
                <a:latin typeface="Gill Sans MT"/>
              </a:rPr>
              <a:t>MODELO DE DOS COMPARTIMENTOS</a:t>
            </a:r>
            <a:br>
              <a:rPr sz="2500"/>
            </a:b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57200" y="5373720"/>
            <a:ext cx="5638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Prof. Edda Cost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-2010-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2360" y="225360"/>
            <a:ext cx="784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Facultad de Ciencias Químicas y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Departamento de Ciencias y Tecnología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93" name="Picture 5" descr="logo-uco"/>
          <p:cNvPicPr/>
          <p:nvPr/>
        </p:nvPicPr>
        <p:blipFill>
          <a:blip r:embed="rId1"/>
          <a:stretch/>
        </p:blipFill>
        <p:spPr>
          <a:xfrm>
            <a:off x="792000" y="266760"/>
            <a:ext cx="53532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3946680" y="4092480"/>
                <a:ext cx="726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5459400" y="4092480"/>
                <a:ext cx="7905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92360" y="1844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Si la infusión llega al estado estacionario, es decir, el tiempo T es suficientemente prolongado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41162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os términos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4320" y="4346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82720" y="4116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ero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92480" y="4869000"/>
                <a:ext cx="2307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0760" y="4869000"/>
                <a:ext cx="2254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1763640" y="2924280"/>
                <a:ext cx="6612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839840" y="4116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78240" y="2781360"/>
                <a:ext cx="5195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3708360" y="3957480"/>
                <a:ext cx="26622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762280" y="4863960"/>
                <a:ext cx="1878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16400" y="1743120"/>
            <a:ext cx="87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ecuación que indica la Cp después de finalizar la infusión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onde se logró el estado estacionario es: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5473800" y="4863960"/>
                <a:ext cx="1762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614" t="0" r="1227" b="0"/>
          <a:stretch/>
        </p:blipFill>
        <p:spPr>
          <a:xfrm>
            <a:off x="1619280" y="1700280"/>
            <a:ext cx="5832360" cy="4519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24000" y="2170080"/>
            <a:ext cx="5905440" cy="2516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476360" y="1773360"/>
                <a:ext cx="71661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50800" y="3141360"/>
            <a:ext cx="7250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Ecuación que describe la evolución temporal del fármaco en el plasma durante la infusión y después de finalizada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Mientras dura la infusión, T = t y va variando con el tiempo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Cuando termina la infusión, T se hace constante y su valor corresponde al tiempo en que terminó la infusión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749680" y="3014640"/>
                <a:ext cx="4630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3720" y="4038480"/>
            <a:ext cx="701064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Indica aumento de la concentración de fármaco en función del tiempo desde el inicio de la infusión intravenos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concentración plasmática </a:t>
            </a:r>
            <a:r>
              <a:rPr b="0" lang="es-CL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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en el tiempo y se aproxima a un nivel constante (velocidad de eliminación = velocidad de infusió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92360" y="2276640"/>
                <a:ext cx="3116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275440" y="2276640"/>
                <a:ext cx="325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0"/>
          <p:cNvSpPr/>
          <p:nvPr/>
        </p:nvSpPr>
        <p:spPr>
          <a:xfrm>
            <a:off x="2611440" y="1603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urante la infusión, cuando T = t,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340000" y="1700280"/>
                <a:ext cx="5472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-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4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2852640"/>
            <a:ext cx="74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oncentración plasmática durante la infusión que aumenta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n función del tiempo y se aproxima a un nivel constante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stado estacionario, los términos exponenciales tienden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a cero (t=∞)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000240" y="4292640"/>
                <a:ext cx="4151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 de ingr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ear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124000" y="530064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 áre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067280" y="5445000"/>
                <a:ext cx="201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área</m:t>
                        </m:r>
                      </m:sub>
                    </m:sSub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6732720" y="5300640"/>
                <a:ext cx="16668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áre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71400" y="1773000"/>
            <a:ext cx="7010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Cuando la infusión finaliza T se hace constante (tiempo en que finalizó la infusión). En esta situación t = t’ + T siendo t’ el tiempo post-infusión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n esta situación, el tiempo t se reemplaza por t = t’ + T, en la ecuación: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124000" y="5329080"/>
                <a:ext cx="2432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580000" y="5351400"/>
                <a:ext cx="22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2063880" y="364500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2411280" y="604368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5724360" y="604980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596960" y="4724280"/>
            <a:ext cx="69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Los términos exponenciales se ordenan de esta forma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2920" y="2781360"/>
                <a:ext cx="378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13080" y="5445000"/>
                <a:ext cx="201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868480" y="2060640"/>
            <a:ext cx="441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En la fase posterior de la infus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5256360" y="2781360"/>
                <a:ext cx="3779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063880" y="400536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97440" y="3429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i en la ecuac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869000"/>
            <a:ext cx="165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e sustituye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5796000" y="5445000"/>
                <a:ext cx="17701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411280" y="6093000"/>
                <a:ext cx="18306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5897520" y="6093000"/>
                <a:ext cx="1770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62360" y="537372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602136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6720" y="5373720"/>
            <a:ext cx="8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268360" y="4653000"/>
                <a:ext cx="2308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5580000" y="4687920"/>
                <a:ext cx="2254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1770120" y="3141720"/>
                <a:ext cx="6611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862440" y="4078440"/>
                <a:ext cx="24289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584360" y="1844640"/>
            <a:ext cx="6985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Se llega a la relación entre concentración plasmática y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tiempo (t’, tiempo posterior a la infusión) durante el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periodo que sigue a la interrupción de ésta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8720" y="5661000"/>
            <a:ext cx="813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R, S,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y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pueden obtenerse de la curva post-infusión que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s biexponencial empleando el método de los residuos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30520" y="3213000"/>
                <a:ext cx="2033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508720" y="3213000"/>
                <a:ext cx="1819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6"/>
          <p:cNvSpPr/>
          <p:nvPr/>
        </p:nvSpPr>
        <p:spPr>
          <a:xfrm>
            <a:off x="551160" y="1916280"/>
            <a:ext cx="90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os coeficientes R y S pueden relacionarse con  A y B, que son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as ordenadas en el origen a tiempo cero para la administración 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de una inyección i.v.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700360" y="4437000"/>
                <a:ext cx="2011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64000" y="4437000"/>
                <a:ext cx="1944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9"/>
          <p:cNvSpPr/>
          <p:nvPr/>
        </p:nvSpPr>
        <p:spPr>
          <a:xfrm>
            <a:off x="1116000" y="5589720"/>
            <a:ext cx="785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X</a:t>
            </a:r>
            <a:r>
              <a:rPr b="0" lang="es-CL" sz="2400" spc="-1" strike="noStrike" baseline="-25000">
                <a:solidFill>
                  <a:srgbClr val="000099"/>
                </a:solidFill>
                <a:latin typeface="Gill Sans MT"/>
              </a:rPr>
              <a:t>0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dosis administrada, corresponde al producto entre la velocidad de infusión, ko, por el tiempo de duración, ko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5:03:42Z</dcterms:created>
  <dc:creator>Edda Costa</dc:creator>
  <dc:description/>
  <dc:language>en-US</dc:language>
  <cp:lastModifiedBy>Edda Costa</cp:lastModifiedBy>
  <cp:lastPrinted>2001-10-08T01:34:10Z</cp:lastPrinted>
  <dcterms:modified xsi:type="dcterms:W3CDTF">2010-09-07T02:43:58Z</dcterms:modified>
  <cp:revision>192</cp:revision>
  <dc:subject/>
  <dc:title>Cremas de Limpieza</dc:title>
</cp:coreProperties>
</file>