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513E-6A80-4153-BE83-F44B9694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03A1-DF8F-4351-B44D-F217895D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449-8B14-4BA9-A37B-8B35147F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0336-4A04-4B53-923D-691947AD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4BB7-2E07-49C9-BD60-99B68B0A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3AA3-485F-477A-8216-CDBAB47E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1F54-545C-4213-B7AC-77BF1EC4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65E8-924D-4C67-BF1F-AE76F263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5ACF-1387-4590-9D84-03204DA6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7E7F-834A-4C91-81F7-FCE4E970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1C7A-D7A9-48B0-80B9-13CADAA4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55F-4382-468E-B155-C4AC1EA9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6C07-474B-481A-B64C-9AFAF21D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13A6-6D6B-4CB3-BF09-EB8AE920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4A32-29CE-4CFA-A71E-D9D8A267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2631-3DAA-4EF7-BBEA-5471283A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933B-9B34-4DCA-8258-8D1381AB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91EA-8AE7-41DC-9B85-755ADCD7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2538-8669-4785-88D7-C8D12FE2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CF60-F556-4AC6-B8CE-9BB720F1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8A9-2A65-420A-A030-D84F5F8C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4C7-703F-4295-B265-7F24CCC1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C20E-8467-4D18-BAD4-DAE71F4C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C9A-7C7B-4102-91BC-9578B7F1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26A3-1D98-4B89-80EA-4EA1C59BDE3E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BB9E-31BF-44E5-AF3E-BE1E307D2B79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57360" y="1213920"/>
            <a:ext cx="5327640" cy="37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 Narrow"/>
              </a:rPr>
              <a:t>Programa Farmacología I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ffffff"/>
                </a:solidFill>
                <a:latin typeface="Arial Narrow"/>
              </a:rPr>
              <a:t>Química y Farmacia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ffffff"/>
                </a:solidFill>
                <a:latin typeface="Arial Narrow"/>
              </a:rPr>
              <a:t>Semestre Primavera 2010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ffffff"/>
                </a:solidFill>
                <a:latin typeface="Arial Narrow"/>
              </a:rPr>
              <a:t>María Eugenia Letelier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571480" y="1198440"/>
            <a:ext cx="5715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Cabe señalar que la evaluación asignada a la revisión bibliográfica y a las preguntas de selección múltiple, será la misma para cada uno de los alumnos del grupo.</a:t>
            </a: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La fecha de entrega de los trabajo será el día del control correspondiente al tema elegido y figura en el Calendario de Actividades. </a:t>
            </a: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El atraso en la entrega hará perder a los alumnos 1 punto del promedio del trabajo por cada día de atras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71840" y="333000"/>
            <a:ext cx="5572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a452a"/>
                </a:solidFill>
                <a:latin typeface="Arial Narrow"/>
              </a:rPr>
              <a:t>EVALUACI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Prueba A1 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35 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Prueba A2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35 %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Controles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15 %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Trabajo bibliográfico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 u="sng">
                <a:solidFill>
                  <a:srgbClr val="4a452a"/>
                </a:solidFill>
                <a:uFillTx/>
                <a:latin typeface="Arial Narrow"/>
              </a:rPr>
              <a:t>15 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 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           </a:t>
            </a:r>
            <a:r>
              <a:rPr b="0" lang="es-ES_tradnl" sz="2200" spc="-1" strike="noStrike">
                <a:solidFill>
                  <a:srgbClr val="4a452a"/>
                </a:solidFill>
                <a:latin typeface="Symbol"/>
                <a:ea typeface="Symbol"/>
              </a:rPr>
              <a:t>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100%  Nota Presentación</a:t>
            </a: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Examen</a:t>
            </a: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40 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Nota de Presentación </a:t>
            </a: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MX" sz="2200" spc="-1" strike="noStrike" u="sng">
                <a:solidFill>
                  <a:srgbClr val="4a452a"/>
                </a:solidFill>
                <a:uFillTx/>
                <a:latin typeface="Arial Narrow"/>
              </a:rPr>
              <a:t>6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Symbol"/>
                <a:ea typeface="Symbol"/>
              </a:rPr>
              <a:t>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100%  Nota Present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500200" y="714240"/>
            <a:ext cx="5857920" cy="55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4a452a"/>
                </a:solidFill>
                <a:latin typeface="Arial Narrow"/>
              </a:rPr>
              <a:t>REGLAMENTO DE EVALUACION DE LA FACULT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Cambio respecto del año 2006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Si la nota de la prueba PRE es 4,0 o superior y el promedio resultante después de la sustitución es igual o superior a la nota 4,0, el o la estudiante quedará aprobado) en la asignatura con la evaluación correspondiente al promedio, a menos que solicite rendir exame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Si la condición anterior no se cumple, el o la estudiante deberá dar examen, aún cuando su promedio sea superior a 4,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428560" y="476280"/>
            <a:ext cx="5786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Inasistenc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La inasistencia a una prueba A no requiere ser justificada. A cambio, deberá rendir la prueba PRE. Quien haya estado ausente en la prueba PRE sólo tendrá derecho al exam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Sin embargo, si las inasistencias de un estudiante, justificadas o no, a actividades obligatorias (laboratorios o seminarios) superan un 50% o si ha faltado a dos pruebas A, pueden ser causal de reprobación de la asignatura, porque se considera que estuvo ajeno al desarrollo del curs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500200" y="763560"/>
            <a:ext cx="6072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En cada asignatura se darán a conocer las condiciones de asistencia. </a:t>
            </a: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Sin exclusión la asistencia a laboratorios, prácticos y seminarios es obligatoria</a:t>
            </a: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. La obligatoriedad  de asistencia a clases y tolerancia de inasistencias las dará a conocer el profesor encargado de acuerdo con las exigencias de la asignatur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Eximició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La nota de eximición será promedio 5. Este beneficio será entregado sólo a los alumnos que no tengan inasistencias a pruebas globales y/o parciales</a:t>
            </a:r>
            <a:r>
              <a:rPr b="1" lang="es-ES" sz="2600" spc="-1" strike="noStrike">
                <a:solidFill>
                  <a:srgbClr val="4a452a"/>
                </a:solidFill>
                <a:latin typeface="Arial Narrow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214360" y="1428840"/>
            <a:ext cx="6715080" cy="33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a452a"/>
                </a:solidFill>
                <a:latin typeface="Arial Narrow"/>
              </a:rPr>
              <a:t>HOR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a452a"/>
                </a:solidFill>
                <a:latin typeface="Arial Narrow"/>
              </a:rPr>
              <a:t>CLASES: Jueves 15:50 – 18:30 hrs. Sala 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672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a452a"/>
                </a:solidFill>
                <a:latin typeface="Arial"/>
                <a:ea typeface="Arial"/>
              </a:rPr>
              <a:t>Calendario de Activ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14600" y="1125360"/>
          <a:ext cx="6272280" cy="5429520"/>
        </p:xfrm>
        <a:graphic>
          <a:graphicData uri="http://schemas.openxmlformats.org/drawingml/2006/table">
            <a:tbl>
              <a:tblPr/>
              <a:tblGrid>
                <a:gridCol w="1130400"/>
                <a:gridCol w="3159000"/>
                <a:gridCol w="1982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a452a"/>
                          </a:solidFill>
                          <a:latin typeface="Arial Narrow"/>
                          <a:ea typeface="Times New Roman"/>
                        </a:rPr>
                        <a:t>SEM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a452a"/>
                          </a:solidFill>
                          <a:latin typeface="Arial Narrow"/>
                          <a:ea typeface="Times New Roman"/>
                        </a:rPr>
                        <a:t>CLASES TEÓR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a452a"/>
                          </a:solidFill>
                          <a:latin typeface="Arial Narrow"/>
                          <a:ea typeface="Times New Roman"/>
                        </a:rPr>
                        <a:t>FECHAS CONTR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a452a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Asistencia OBLIGAT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Seminario Informativ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Inscripción de temas por Gru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Introducción a la Farmacodina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Ju. 05/08. Sala O1 - 15:50 – 18:30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(3 horas) M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65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65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65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65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65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a452a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65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1000080" y="3213000"/>
            <a:ext cx="735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a452a"/>
                </a:solidFill>
                <a:latin typeface="Arial Narrow"/>
              </a:rPr>
              <a:t>“</a:t>
            </a:r>
            <a:r>
              <a:rPr b="1" i="1" lang="es-ES" sz="3200" spc="-1" strike="noStrike">
                <a:solidFill>
                  <a:srgbClr val="4a452a"/>
                </a:solidFill>
                <a:latin typeface="Arial Narrow"/>
              </a:rPr>
              <a:t>FORMEN LOS GRUP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8"/>
          <p:cNvSpPr txBox="1"/>
          <p:nvPr/>
        </p:nvSpPr>
        <p:spPr>
          <a:xfrm>
            <a:off x="4572000" y="2000160"/>
            <a:ext cx="17859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48a54"/>
                  </a:solidFill>
                  <a:miter/>
                </a:ln>
                <a:solidFill>
                  <a:srgbClr val="4a452a"/>
                </a:solidFill>
                <a:latin typeface="Arial Narrow"/>
              </a:rPr>
              <a:t>EXITO</a:t>
            </a:r>
            <a:endParaRPr b="0" lang="en-US" sz="3200" spc="1" strike="noStrike">
              <a:ln w="9360">
                <a:solidFill>
                  <a:srgbClr val="948a54"/>
                </a:solidFill>
                <a:miter/>
              </a:ln>
              <a:solidFill>
                <a:srgbClr val="4a452a"/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643120" y="740880"/>
            <a:ext cx="5313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4a452a"/>
                </a:solidFill>
                <a:latin typeface="Arial Narrow"/>
              </a:rPr>
              <a:t>Coordinadora y Docent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María Eugenia Letelier Muño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Sede Olivos 5º Piso Of. 505 y/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Laboratorio de Farmacología y Toxicología 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mel@ciq.uchile.cl – Teléfono: 978288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4a452a"/>
                </a:solidFill>
                <a:latin typeface="Arial Narrow"/>
              </a:rPr>
              <a:t>Profesores</a:t>
            </a: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Ernesto González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Amalia Sapa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Igor Lem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Soledad Boll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María Eugenia Letel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4a452a"/>
                </a:solidFill>
                <a:latin typeface="Arial Narrow"/>
              </a:rPr>
              <a:t>Ayuda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Daniel Roj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500200" y="642960"/>
            <a:ext cx="61437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a452a"/>
                </a:solidFill>
                <a:latin typeface="Arial Narrow"/>
              </a:rPr>
              <a:t>Objetivos Gener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a452a"/>
                </a:solidFill>
                <a:latin typeface="Arial Narrow"/>
              </a:rPr>
              <a:t>Introducir al alumno en los conceptos Farmacodinámicos que nos permiten explicar los efectos farmacológicos de lo Fármac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a452a"/>
                </a:solidFill>
                <a:latin typeface="Arial Narrow"/>
              </a:rPr>
              <a:t>Ellos nos permiten explicar la acción terapéutica  de distintas patologías que afectan los distintos órganos y sistem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a452a"/>
                </a:solidFill>
                <a:latin typeface="Arial Narrow"/>
              </a:rPr>
              <a:t>Estos conceptos son precedidos por una breve presentación de la etiopatología de las mismas</a:t>
            </a: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500200" y="404280"/>
            <a:ext cx="61437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5760" indent="-6480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a452a"/>
                </a:solidFill>
                <a:latin typeface="Arial Narrow"/>
              </a:rPr>
              <a:t>Objetivos específ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a452a"/>
                </a:solidFill>
                <a:latin typeface="Arial Narrow"/>
              </a:rPr>
              <a:t>1.</a:t>
            </a:r>
            <a:r>
              <a:rPr b="1" lang="es-ES_tradnl" sz="24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4a452a"/>
                </a:solidFill>
                <a:latin typeface="Arial Narrow"/>
              </a:rPr>
              <a:t>Objetivos específicos de conocimient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 algn="just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Sistema Nervioso Autónomo Colinérg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 algn="just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 </a:t>
            </a: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Sistema Nervioso Autónomo Adrenérg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 algn="just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Sistema Nervioso Centr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 algn="just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Analges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 algn="just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793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Mediadores celulares de la respuesta farmacológ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 algn="just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1" lang="es-ES" sz="2400" spc="-1" strike="noStrike">
                <a:solidFill>
                  <a:srgbClr val="4a452a"/>
                </a:solidFill>
                <a:latin typeface="Arial Narrow"/>
              </a:rPr>
              <a:t>Evaluación:</a:t>
            </a: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 El cumplimiento de estos objetivos se evaluará mediante pruebas globales de selección múltiple tipo A y pruebas parciales de desarrollo de cada uno de los temas desarrollad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71840" y="188640"/>
            <a:ext cx="58579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0000"/>
              </a:lnSpc>
              <a:spcBef>
                <a:spcPts val="649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4a452a"/>
                </a:solidFill>
                <a:latin typeface="Arial Narrow"/>
              </a:rPr>
              <a:t>2. </a:t>
            </a:r>
            <a:r>
              <a:rPr b="1" lang="es-ES_tradnl" sz="2600" spc="-1" strike="noStrike">
                <a:solidFill>
                  <a:srgbClr val="4a452a"/>
                </a:solidFill>
                <a:latin typeface="Arial Narrow"/>
              </a:rPr>
              <a:t>Objetivos específicos de habilidad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a452a"/>
                </a:solidFill>
                <a:latin typeface="Arial Narrow"/>
              </a:rPr>
              <a:t>El alumno deberá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Hacer juicios críticos acerca de la dinámica general de los fármacos en el organismo y del mecanismo de acción de ellos, en relación a su aplicación terapéutic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a452a"/>
                </a:solidFill>
                <a:latin typeface="Arial Narrow"/>
              </a:rPr>
              <a:t>Ser capaces de revisar literatura científica internacional atingente a los contenidos del curso, entenderla, exponerla y en la medida de las posibilidades criticarl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buClr>
                <a:srgbClr val="15038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Evaluación: </a:t>
            </a: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Este tipo de objetivos se evaluará mediante un trabajo bibliográfico que realizarán los alumn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571840" y="260280"/>
            <a:ext cx="58579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a452a"/>
                </a:solidFill>
                <a:latin typeface="Arial Narrow"/>
              </a:rPr>
              <a:t>3. </a:t>
            </a:r>
            <a:r>
              <a:rPr b="1" lang="es-ES_tradnl" sz="2400" spc="-1" strike="noStrike">
                <a:solidFill>
                  <a:srgbClr val="4a452a"/>
                </a:solidFill>
                <a:latin typeface="Arial Narrow"/>
              </a:rPr>
              <a:t>Objetivos específicos de actitu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a452a"/>
                </a:solidFill>
                <a:latin typeface="Arial Narrow"/>
              </a:rPr>
              <a:t>El alumno de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10000"/>
              </a:lnSpc>
              <a:spcAft>
                <a:spcPts val="150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Asumir responsablemente todas las actividades a desarrollar en la asignatu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10000"/>
              </a:lnSpc>
              <a:spcAft>
                <a:spcPts val="150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Comprender y valorar la importancia de la aplicación de los objetivos del curso en la formación y el desempeño profesi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10000"/>
              </a:lnSpc>
              <a:spcAft>
                <a:spcPts val="150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Desarrollar una posición positiva respecto a su rol en la sociedad como profesional de la salu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1" lang="es-ES" sz="2400" spc="-1" strike="noStrike">
                <a:solidFill>
                  <a:srgbClr val="4a452a"/>
                </a:solidFill>
                <a:latin typeface="Arial Narrow"/>
              </a:rPr>
              <a:t>Evaluación: </a:t>
            </a: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El logro de los objetivos dependerá de la actitud con que los alumnos enfrenten la Asignatura y está apoyado por el logro de los objetivos específicos 1 y 2 anteri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00200" y="404280"/>
            <a:ext cx="61437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a452a"/>
                </a:solidFill>
                <a:latin typeface="Arial Narrow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a452a"/>
                </a:solidFill>
                <a:latin typeface="Arial Narrow"/>
              </a:rPr>
              <a:t>Clases Teóricas:</a:t>
            </a:r>
            <a:r>
              <a:rPr b="0" lang="es-MX" sz="2400" spc="-1" strike="noStrike">
                <a:solidFill>
                  <a:srgbClr val="4a452a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a452a"/>
                </a:solidFill>
                <a:latin typeface="Arial Narrow"/>
              </a:rPr>
              <a:t>Exposición esquemática y resumida de los aspectos          fundamentales del tem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4a452a"/>
                </a:solidFill>
                <a:latin typeface="Arial Narrow"/>
              </a:rPr>
              <a:t>En ningún caso, las clases constituyen una exposición exhaustiva de la mate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a452a"/>
                </a:solidFill>
                <a:latin typeface="Arial Narrow"/>
              </a:rPr>
              <a:t>Se entregará bibliografía complementaria que los alumnos deberán revisar para un completo manejo de los contenidos del curs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a452a"/>
                </a:solidFill>
                <a:latin typeface="Arial Narrow"/>
              </a:rPr>
              <a:t>Al final de cada capitulo se realizará un control escrito de la mate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499840" y="259920"/>
            <a:ext cx="59295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4a452a"/>
                </a:solidFill>
                <a:latin typeface="Arial Narrow"/>
              </a:rPr>
              <a:t>Trabajo bibliográfico:</a:t>
            </a: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Grupos de 4 alumnos cada uno, sortearán un tema general relacionado con los contenidos del curs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Los alumnos harán una revisión bibliográfica del tema específico seleccionado, que deberá estar basado en la revisión de al menos 5 y no más de 10 publicaciones científicas (papers, reviews, etc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Esta revisión será presentada </a:t>
            </a:r>
            <a:r>
              <a:rPr b="0" i="1" lang="es-ES" sz="2200" spc="-1" strike="noStrike">
                <a:solidFill>
                  <a:srgbClr val="4a452a"/>
                </a:solidFill>
                <a:latin typeface="Arial Narrow"/>
              </a:rPr>
              <a:t>in extenso</a:t>
            </a: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 en un documento escrito que no deberá sobrepasar las 15 páginas tamaño carta, formato Word 98 o superior, letra arial, tamaño 11, interlineado 1,5. La bibliografía utilizada debe estar citada a final del texto de acuerdo a un formato uniform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0200" y="1446120"/>
            <a:ext cx="578664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El grupo deberá acompañar al documento anterior además, 20 preguntas de selección múltiple del tema elegido igualmente impresas. </a:t>
            </a: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Estas preguntas deben tener 5 alternativas y se debe indicar la alternativa correct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El manuscrito en papel y las preguntas deben ser entregadas además,</a:t>
            </a: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 </a:t>
            </a: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en un  C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La revisión bibliográfica y las preguntas de selección múltiple serán evaluadas separadamente y ambos trabajos tendrán igual ponderació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08:14Z</dcterms:created>
  <dc:creator>María Eugenia Letelier Muñoz</dc:creator>
  <dc:description/>
  <dc:language>en-US</dc:language>
  <cp:lastModifiedBy>Paula</cp:lastModifiedBy>
  <dcterms:modified xsi:type="dcterms:W3CDTF">2010-07-30T19:34:40Z</dcterms:modified>
  <cp:revision>31</cp:revision>
  <dc:subject/>
  <dc:title>  Presentación Programa Farmacología I Carrera Química y Farmacia Semestre Otoño 2007</dc:title>
</cp:coreProperties>
</file>