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F48-22DD-4631-8BAA-EE404C10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B74-C7CB-4D68-B249-438B4CF0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E34-2DDE-43F0-A871-12FAE684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D87-0B35-40C7-8214-1A4A50E6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6482-4B72-41F3-9E13-95DD8A94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4A16-62E7-4F68-910B-F4C764A0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B8AC-F196-4BF8-8637-6ABED9F7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A919-D051-4303-8C26-F1DD8BCE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9E95-2634-403B-AC8C-5C92BE6E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40CE-2787-4B6B-9FCC-43339277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4E24-B3E3-450C-9A96-0AB1276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FD6-8097-4B2B-8F52-F9387D5E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C64A-09ED-43A0-8845-31DA5BED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1B93-AB7B-4495-8E7C-CD04B020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35DE-8A3F-4063-AE16-BAE22564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E808-5E15-493F-9272-049754B4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5C6C-D5E3-435F-AA8C-2D34D4B5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76BB-948C-4054-B0A9-D145B08C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2CE-7CB3-4FAD-B20E-2B639C95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BE7-F164-4052-9ECA-D0EE23F4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35A2-5200-4FC3-9FAA-61D79E96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84D-A6B5-4574-8303-FE9CE8A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E7C-587E-4B7A-851B-97A8F78D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B32-30F0-45BD-AA87-492EBF42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782B-7603-4F30-9D68-3C298E918FE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1A6-5371-478A-AA75-FE0AC3B02868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360" y="1213920"/>
            <a:ext cx="5327640" cy="37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Programa Farmacología I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Química y Farmacia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Semestre Primavera 2010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María Eugenia Letelier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71480" y="1198440"/>
            <a:ext cx="5715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Cabe señalar que la evaluación asignada a la revisión bibliográfica y a las preguntas de selección múltiple, será la misma para cada uno de los alumnos del grupo.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fecha de entrega de los trabajo será el día del control correspondiente al tema elegido y figura en el Calendario de Actividades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l atraso en la entrega hará perder a los alumnos 1 punto del promedio del trabajo por cada día de atra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71840" y="333000"/>
            <a:ext cx="5572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a452a"/>
                </a:solidFill>
                <a:latin typeface="Arial Narrow"/>
              </a:rPr>
              <a:t>EVALU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Prueba A1 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35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Prueba A2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35 %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Controles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5 %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Trabajo bibliográfico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 u="sng">
                <a:solidFill>
                  <a:srgbClr val="4a452a"/>
                </a:solidFill>
                <a:uFillTx/>
                <a:latin typeface="Arial Narrow"/>
              </a:rPr>
              <a:t>15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           </a:t>
            </a:r>
            <a:r>
              <a:rPr b="0" lang="es-ES_tradnl" sz="2200" spc="-1" strike="noStrike">
                <a:solidFill>
                  <a:srgbClr val="4a452a"/>
                </a:solidFill>
                <a:latin typeface="Symbol"/>
                <a:ea typeface="Symbol"/>
              </a:rPr>
              <a:t>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00%  Nota Presentación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Examen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40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Nota de Presentación 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 u="sng">
                <a:solidFill>
                  <a:srgbClr val="4a452a"/>
                </a:solidFill>
                <a:uFillTx/>
                <a:latin typeface="Arial Narrow"/>
              </a:rPr>
              <a:t>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Symbol"/>
                <a:ea typeface="Symbol"/>
              </a:rPr>
              <a:t>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00%  Nota Presen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0200" y="714240"/>
            <a:ext cx="585792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4a452a"/>
                </a:solidFill>
                <a:latin typeface="Arial Narrow"/>
              </a:rPr>
              <a:t>REGLAMENTO DE EVALUACION DE LA FACULT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Cambio respecto del año 200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 la nota de la prueba PRE es 4,0 o superior y el promedio resultante después de la sustitución es igual o superior a la nota 4,0, el o la estudiante quedará aprobado) en la asignatura con la evaluación correspondiente al promedio, a menos que solicite rendir exam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 la condición anterior no se cumple, el o la estudiante deberá dar examen, aún cuando su promedio sea superior a 4,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428560" y="476280"/>
            <a:ext cx="5786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Inasist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inasistencia a una prueba A no requiere ser justificada. A cambio, deberá rendir la prueba PRE. Quien haya estado ausente en la prueba PRE sólo tendrá derecho al exam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n embargo, si las inasistencias de un estudiante, justificadas o no, a actividades obligatorias (laboratorios o seminarios) superan un 50% o si ha faltado a dos pruebas A, pueden ser causal de reprobación de la asignatura, porque se considera que estuvo ajeno al desarrollo del cur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0200" y="763560"/>
            <a:ext cx="6072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n cada asignatura se darán a conocer las condiciones de asistencia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Sin exclusión la asistencia a laboratorios, prácticos y seminarios es obligatoria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. La obligatoriedad  de asistencia a clases y tolerancia de inasistencias las dará a conocer el profesor encargado de acuerdo con las exigencias de la asignatu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ximició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La nota de eximición será promedio 5. Este beneficio será entregado sólo a los alumnos que no tengan inasistencias a pruebas globales y/o parciales</a:t>
            </a:r>
            <a:r>
              <a:rPr b="1" lang="es-ES" sz="2600" spc="-1" strike="noStrike">
                <a:solidFill>
                  <a:srgbClr val="4a452a"/>
                </a:solidFill>
                <a:latin typeface="Arial Narrow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214360" y="1428840"/>
            <a:ext cx="671508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a452a"/>
                </a:solidFill>
                <a:latin typeface="Arial Narrow"/>
              </a:rPr>
              <a:t>HOR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a452a"/>
                </a:solidFill>
                <a:latin typeface="Arial Narrow"/>
              </a:rPr>
              <a:t>CLASES: Jueves 15:50 – 18:30 hrs. Sala 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672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"/>
                <a:ea typeface="Arial"/>
              </a:rPr>
              <a:t>Calendario de Activ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14600" y="1125360"/>
          <a:ext cx="6272280" cy="5429520"/>
        </p:xfrm>
        <a:graphic>
          <a:graphicData uri="http://schemas.openxmlformats.org/drawingml/2006/table">
            <a:tbl>
              <a:tblPr/>
              <a:tblGrid>
                <a:gridCol w="1130400"/>
                <a:gridCol w="3159000"/>
                <a:gridCol w="198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CLASES TEÓR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FECHAS CONT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Asistencia OBLIGAT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Seminario Informati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Inscripción de temas por Gru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Introducción a la Farmacodina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Ju. 05/08. Sala O1 - 15:50 – 18:30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(3 horas) M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000080" y="321300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a452a"/>
                </a:solidFill>
                <a:latin typeface="Arial Narrow"/>
              </a:rPr>
              <a:t>“</a:t>
            </a:r>
            <a:r>
              <a:rPr b="1" i="1" lang="es-ES" sz="3200" spc="-1" strike="noStrike">
                <a:solidFill>
                  <a:srgbClr val="4a452a"/>
                </a:solidFill>
                <a:latin typeface="Arial Narrow"/>
              </a:rPr>
              <a:t>FORMEN LOS GRUP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572000" y="2000160"/>
            <a:ext cx="1785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48a54"/>
                  </a:solidFill>
                  <a:miter/>
                </a:ln>
                <a:solidFill>
                  <a:srgbClr val="4a452a"/>
                </a:solidFill>
                <a:latin typeface="Arial Narrow"/>
              </a:rPr>
              <a:t>EXITO</a:t>
            </a:r>
            <a:endParaRPr b="0" lang="en-US" sz="3200" spc="1" strike="noStrike">
              <a:ln w="9360">
                <a:solidFill>
                  <a:srgbClr val="948a54"/>
                </a:solidFill>
                <a:miter/>
              </a:ln>
              <a:solidFill>
                <a:srgbClr val="4a452a"/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43120" y="740880"/>
            <a:ext cx="5313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Coordinadora y Doce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aría Eugenia Letelier Muño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ede Olivos 5º Piso Of. 505 y/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boratorio de Farmacología y Toxicología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el@ciq.uchile.cl – Teléfono: 97828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Profesores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rnesto González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Amalia Sap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Igor Lem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oledad Bol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aría Eugenia Letel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Ayud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Daniel Roj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0200" y="642960"/>
            <a:ext cx="6143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Objetivos Gene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Introducir al alumno en los conceptos Farmacodinámicos que nos permiten explicar los efectos farmacológicos de lo Fárma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llos nos permiten explicar la acción terapéutica  de distintas patologías que afectan los distintos órganos y siste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stos conceptos son precedidos por una breve presentación de la etiopatología de las mismas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0200" y="404280"/>
            <a:ext cx="6143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1.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 de conocimient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Autónomo Colinér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Autónomo Adrenérg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Cent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Analges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Mediadores celulares de la respuesta farmacológ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Evaluación: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 El cumplimiento de estos objetivos se evaluará mediante pruebas globales de selección múltiple tipo A y pruebas parciales de desarrollo de cada uno de los temas desarroll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71840" y="188640"/>
            <a:ext cx="58579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a452a"/>
                </a:solidFill>
                <a:latin typeface="Arial Narrow"/>
              </a:rPr>
              <a:t>2. </a:t>
            </a:r>
            <a:r>
              <a:rPr b="1" lang="es-ES_tradnl" sz="2600" spc="-1" strike="noStrike">
                <a:solidFill>
                  <a:srgbClr val="4a452a"/>
                </a:solidFill>
                <a:latin typeface="Arial Narrow"/>
              </a:rPr>
              <a:t>Objetivos específicos de habilida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a452a"/>
                </a:solidFill>
                <a:latin typeface="Arial Narrow"/>
              </a:rPr>
              <a:t>El alumno deberá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Hacer juicios críticos acerca de la dinámica general de los fármacos en el organismo y del mecanismo de acción de ellos, en relación a su aplicación terapéutic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a452a"/>
                </a:solidFill>
                <a:latin typeface="Arial Narrow"/>
              </a:rPr>
              <a:t>Ser capaces de revisar literatura científica internacional atingente a los contenidos del curso, entenderla, exponerla y en la medida de las posibilidades criticar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buClr>
                <a:srgbClr val="15038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valuación: 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ste tipo de objetivos se evaluará mediante un trabajo bibliográfico que realizarán los alumn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71840" y="260280"/>
            <a:ext cx="58579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3. 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 de actit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l alumno de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Asumir responsablemente todas las actividades a desarrollar en la asigna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Comprender y valorar la importancia de la aplicación de los objetivos del curso en la formación y el desempeño profes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Desarrollar una posición positiva respecto a su rol en la sociedad como profesional de la salu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Evaluación: 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El logro de los objetivos dependerá de la actitud con que los alumnos enfrenten la Asignatura y está apoyado por el logro de los objetivos específicos 1 y 2 anteri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0200" y="404280"/>
            <a:ext cx="6143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a452a"/>
                </a:solidFill>
                <a:latin typeface="Arial Narrow"/>
              </a:rPr>
              <a:t>Clases Teóricas:</a:t>
            </a: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Exposición esquemática y resumida de los aspectos          fundamentales del te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4a452a"/>
                </a:solidFill>
                <a:latin typeface="Arial Narrow"/>
              </a:rPr>
              <a:t>En ningún caso, las clases constituyen una exposición exhaustiva de la mate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Se entregará bibliografía complementaria que los alumnos deberán revisar para un completo manejo de los contenidos del curs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Al final de cada capitulo se realizará un control escrito de la mate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499840" y="259920"/>
            <a:ext cx="5929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a452a"/>
                </a:solidFill>
                <a:latin typeface="Arial Narrow"/>
              </a:rPr>
              <a:t>Trabajo bibliográfico: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Grupos de 4 alumnos cada uno, sortearán un tema general relacionado con los contenidos del curs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os alumnos harán una revisión bibliográfica del tema específico seleccionado, que deberá estar basado en la revisión de al menos 5 y no más de 10 publicaciones científicas (papers, reviews, et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sta revisión será presentada </a:t>
            </a:r>
            <a:r>
              <a:rPr b="0" i="1" lang="es-ES" sz="2200" spc="-1" strike="noStrike">
                <a:solidFill>
                  <a:srgbClr val="4a452a"/>
                </a:solidFill>
                <a:latin typeface="Arial Narrow"/>
              </a:rPr>
              <a:t>in extenso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en un documento escrito que no deberá sobrepasar las 15 páginas tamaño carta, formato Word 98 o superior, letra arial, tamaño 11, interlineado 1,5. La bibliografía utilizada debe estar citada a final del texto de acuerdo a un formato uniform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0200" y="1446120"/>
            <a:ext cx="57866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l grupo deberá acompañar al documento anterior además, 20 preguntas de selección múltiple del tema elegido igualmente impresas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stas preguntas deben tener 5 alternativas y se debe indicar la alternativa correct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l manuscrito en papel y las preguntas deben ser entregadas además,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n un  C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revisión bibliográfica y las preguntas de selección múltiple serán evaluadas separadamente y ambos trabajos tendrán igual pondera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08:14Z</dcterms:created>
  <dc:creator>María Eugenia Letelier Muñoz</dc:creator>
  <dc:description/>
  <dc:language>en-US</dc:language>
  <cp:lastModifiedBy>Paula</cp:lastModifiedBy>
  <dcterms:modified xsi:type="dcterms:W3CDTF">2010-07-30T19:34:40Z</dcterms:modified>
  <cp:revision>31</cp:revision>
  <dc:subject/>
  <dc:title>  Presentación Programa Farmacología I Carrera Química y Farmacia Semestre Otoño 2007</dc:title>
</cp:coreProperties>
</file>