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45F45-C8A8-46BC-BC70-68C90042B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B0DB-AB1B-49CA-A3B0-0C4E4373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38EA-6301-435E-810D-895FF655A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02D7-2F56-4906-A677-FA628872E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E65D-164B-4544-8D9A-7B7E4548D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8F69B-D8D5-4B4D-9669-9CD3181EF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EDACE-37C1-4FEE-8E45-AF60408E5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E870D-B2D7-4A70-8815-F5257E6D9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52259-8348-453F-90CE-52A486844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363A-E935-41D7-911B-E18123C07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3C70-1EA8-4D0F-BC29-787DFDD4B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2DF6C-F7BA-4E77-BA84-9649831C8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C312-E2B9-4794-B647-D7770D9CC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D1645-26BE-4FD5-9AFF-7D5515FFD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FCB29-DBE8-4E96-88B3-022C4083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099D56-8465-4F36-946F-A4D88189B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D5B37-F5D6-4479-96B3-A34A5506E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4EDE5-B8F5-4C1A-ADA8-57A23CC31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FE61-9CE5-4D76-879E-A242844BE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9DC7-DAC5-4CDB-9DF3-508B09A51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7E69-79EB-4A1F-B4B2-C9322C8E8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90D6-82C5-461D-A18D-70B277E71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B8FC8-6CF9-4DA7-843A-4A75A46D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2B2C-1145-4578-BB6E-061D7D1AB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E0BC5-DA3D-417E-A59C-EEFDC59C0576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DCA22-7F0A-4708-9694-F429DFD6E8CF}" type="slidenum">
              <a:rPr b="0" lang="es-E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357360" y="1213920"/>
            <a:ext cx="5327640" cy="374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Programa Farmacología I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Química y Farmacia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Semestre Primavera 2010</a:t>
            </a:r>
            <a:br>
              <a:rPr sz="3200"/>
            </a:br>
            <a:br>
              <a:rPr sz="3200"/>
            </a:br>
            <a:r>
              <a:rPr b="0" i="1" lang="es-ES" sz="3200" spc="-1" strike="noStrike">
                <a:solidFill>
                  <a:srgbClr val="ffffff"/>
                </a:solidFill>
                <a:latin typeface="Arial Narrow"/>
              </a:rPr>
              <a:t>María Eugenia Letelier 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2571480" y="1198440"/>
            <a:ext cx="5715000" cy="417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Cabe señalar que la evaluación asignada a la revisión bibliográfica y a las preguntas de selección múltiple, será la misma para cada uno de los alumnos del grupo.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 fecha de entrega de los trabajo será el día del control correspondiente al tema elegido y figura en el Calendario de Actividades.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l atraso en la entrega hará perder a los alumnos 1 punto del promedio del trabajo por cada día de atras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2571840" y="333000"/>
            <a:ext cx="55720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4a452a"/>
                </a:solidFill>
                <a:latin typeface="Arial Narrow"/>
              </a:rPr>
              <a:t>EVALUACION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Prueba A1 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35 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Prueba A2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35 %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Controles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15 %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Trabajo bibliográfico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 u="sng">
                <a:solidFill>
                  <a:srgbClr val="4a452a"/>
                </a:solidFill>
                <a:uFillTx/>
                <a:latin typeface="Arial Narrow"/>
              </a:rPr>
              <a:t>15 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           </a:t>
            </a:r>
            <a:r>
              <a:rPr b="0" lang="es-ES_tradnl" sz="2200" spc="-1" strike="noStrike">
                <a:solidFill>
                  <a:srgbClr val="4a452a"/>
                </a:solidFill>
                <a:latin typeface="Symbol"/>
                <a:ea typeface="Symbol"/>
              </a:rPr>
              <a:t>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100%  Nota Presentación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Examen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40 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Nota de Presentación 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MX" sz="2200" spc="-1" strike="noStrike" u="sng">
                <a:solidFill>
                  <a:srgbClr val="4a452a"/>
                </a:solidFill>
                <a:uFillTx/>
                <a:latin typeface="Arial Narrow"/>
              </a:rPr>
              <a:t>60%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0" lang="es-ES_tradnl" sz="2200" spc="-1" strike="noStrike">
                <a:solidFill>
                  <a:srgbClr val="4a452a"/>
                </a:solidFill>
                <a:latin typeface="Symbol"/>
                <a:ea typeface="Symbol"/>
              </a:rPr>
              <a:t></a:t>
            </a: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100%  Nota Presentació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2500200" y="714240"/>
            <a:ext cx="5857920" cy="552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200" spc="-1" strike="noStrike">
                <a:solidFill>
                  <a:srgbClr val="4a452a"/>
                </a:solidFill>
                <a:latin typeface="Arial Narrow"/>
              </a:rPr>
              <a:t>REGLAMENTO DE EVALUACION DE LA FACULTA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Cambio respecto del año 2006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i la nota de la prueba PRE es 4,0 o superior y el promedio resultante después de la sustitución es igual o superior a la nota 4,0, el o la estudiante quedará aprobado) en la asignatura con la evaluación correspondiente al promedio, a menos que solicite rendir examen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i la condición anterior no se cumple, el o la estudiante deberá dar examen, aún cuando su promedio sea superior a 4,0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2428560" y="476280"/>
            <a:ext cx="57862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Inasistencia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 inasistencia a una prueba A no requiere ser justificada. A cambio, deberá rendir la prueba PRE. Quien haya estado ausente en la prueba PRE sólo tendrá derecho al exam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in embargo, si las inasistencias de un estudiante, justificadas o no, a actividades obligatorias (laboratorios o seminarios) superan un 50% o si ha faltado a dos pruebas A, pueden ser causal de reprobación de la asignatura, porque se considera que estuvo ajeno al desarrollo del curs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2500200" y="763560"/>
            <a:ext cx="607248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n cada asignatura se darán a conocer las condiciones de asistencia.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Sin exclusión la asistencia a laboratorios, prácticos y seminarios es obligatoria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. La obligatoriedad  de asistencia a clases y tolerancia de inasistencias las dará a conocer el profesor encargado de acuerdo con las exigencias de la asignatur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ximició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649"/>
              </a:spcBef>
              <a:spcAft>
                <a:spcPts val="1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La nota de eximición será promedio 5. Este beneficio será entregado sólo a los alumnos que no tengan inasistencias a pruebas globales y/o parciales</a:t>
            </a:r>
            <a:r>
              <a:rPr b="1" lang="es-ES" sz="2600" spc="-1" strike="noStrike">
                <a:solidFill>
                  <a:srgbClr val="4a452a"/>
                </a:solidFill>
                <a:latin typeface="Arial Narrow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2214360" y="1428840"/>
            <a:ext cx="6715080" cy="337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4a452a"/>
                </a:solidFill>
                <a:latin typeface="Arial Narrow"/>
              </a:rPr>
              <a:t>HORARI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4a452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4a452a"/>
                </a:solidFill>
                <a:latin typeface="Arial Narrow"/>
              </a:rPr>
              <a:t>CLASES: Jueves 15:50 – 18:30 hrs. Sala 01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66720" y="226800"/>
            <a:ext cx="7477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"/>
                <a:ea typeface="Arial"/>
              </a:rPr>
              <a:t>Calendario de Actividad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514600" y="1125360"/>
          <a:ext cx="6272280" cy="5429520"/>
        </p:xfrm>
        <a:graphic>
          <a:graphicData uri="http://schemas.openxmlformats.org/drawingml/2006/table">
            <a:tbl>
              <a:tblPr/>
              <a:tblGrid>
                <a:gridCol w="1130400"/>
                <a:gridCol w="3159000"/>
                <a:gridCol w="19828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SEM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CLASES TEÓR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FECHAS CONTRO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43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Asistencia OBLIGATOR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Seminario Informativ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Inscripción de temas por Grup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Introducción a la Farmacodinam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Ju. 05/08. Sala O1 - 15:50 – 18:30h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(3 horas) ME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4a452a"/>
                          </a:solidFill>
                          <a:latin typeface="Arial Narrow"/>
                        </a:rPr>
                        <a:t>------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82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4a452a"/>
                          </a:solidFill>
                          <a:latin typeface="Arial Narrow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356544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6"/>
          <p:cNvSpPr/>
          <p:nvPr/>
        </p:nvSpPr>
        <p:spPr>
          <a:xfrm>
            <a:off x="1000080" y="3213000"/>
            <a:ext cx="7358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3200" spc="-1" strike="noStrike">
                <a:solidFill>
                  <a:srgbClr val="4a452a"/>
                </a:solidFill>
                <a:latin typeface="Arial Narrow"/>
              </a:rPr>
              <a:t>“</a:t>
            </a:r>
            <a:r>
              <a:rPr b="1" i="1" lang="es-ES" sz="3200" spc="-1" strike="noStrike">
                <a:solidFill>
                  <a:srgbClr val="4a452a"/>
                </a:solidFill>
                <a:latin typeface="Arial Narrow"/>
              </a:rPr>
              <a:t>FORMEN LOS GRUPOS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WordArt 8"/>
          <p:cNvSpPr txBox="1"/>
          <p:nvPr/>
        </p:nvSpPr>
        <p:spPr>
          <a:xfrm>
            <a:off x="4572000" y="2000160"/>
            <a:ext cx="1785960" cy="6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948a54"/>
                  </a:solidFill>
                  <a:miter/>
                </a:ln>
                <a:solidFill>
                  <a:srgbClr val="4a452a"/>
                </a:solidFill>
                <a:latin typeface="Arial Narrow"/>
              </a:rPr>
              <a:t>EXITO</a:t>
            </a:r>
            <a:endParaRPr b="0" lang="en-US" sz="3200" spc="1" strike="noStrike">
              <a:ln w="9360">
                <a:solidFill>
                  <a:srgbClr val="948a54"/>
                </a:solidFill>
                <a:miter/>
              </a:ln>
              <a:solidFill>
                <a:srgbClr val="4a452a"/>
              </a:solidFill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2643120" y="740880"/>
            <a:ext cx="531360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1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a452a"/>
                </a:solidFill>
                <a:latin typeface="Arial Narrow"/>
              </a:rPr>
              <a:t>Coordinadora y Docente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María Eugenia Letelier Muñoz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ede Olivos 5º Piso Of. 505 y/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boratorio de Farmacología y Toxicología 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mel@ciq.uchile.cl – Teléfono: 978288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a452a"/>
                </a:solidFill>
                <a:latin typeface="Arial Narrow"/>
              </a:rPr>
              <a:t>Profesores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rnesto González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Amalia Sapa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Igor Lemu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Soledad Bollo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María Eugenia Leteli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200" spc="-1" strike="noStrike">
                <a:solidFill>
                  <a:srgbClr val="4a452a"/>
                </a:solidFill>
                <a:latin typeface="Arial Narrow"/>
              </a:rPr>
              <a:t>Ayudant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Daniel Roja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2500200" y="642960"/>
            <a:ext cx="614376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Objetivos Genera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Introducir al alumno en los conceptos Farmacodinámicos que nos permiten explicar los efectos farmacológicos de lo Fármaco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Ellos nos permiten explicar la acción terapéutica  de distintas patologías que afectan los distintos órganos y sistema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Estos conceptos son precedidos por una breve presentación de la etiopatología de las mismas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500200" y="404280"/>
            <a:ext cx="6143760" cy="597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Objetivos específico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1.</a:t>
            </a: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Objetivos específicos de conocimiento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Sistema Nervioso Autónomo Colinérgico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 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Sistema Nervioso Autónomo Adrenérgico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Sistema Nervioso Centr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80000"/>
              </a:lnSpc>
              <a:spcBef>
                <a:spcPts val="601"/>
              </a:spcBef>
              <a:spcAft>
                <a:spcPts val="15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Analgesi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Mediadores celulares de la respuesta farmacológic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85760" indent="-6480" algn="just">
              <a:lnSpc>
                <a:spcPct val="11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Evaluación: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 El cumplimiento de estos objetivos se evaluará mediante pruebas globales de selección múltiple tipo A y pruebas parciales de desarrollo de cada uno de los temas desarrollados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2571840" y="188640"/>
            <a:ext cx="585792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80000"/>
              </a:lnSpc>
              <a:spcBef>
                <a:spcPts val="649"/>
              </a:spcBef>
              <a:spcAft>
                <a:spcPts val="16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4a452a"/>
                </a:solidFill>
                <a:latin typeface="Arial Narrow"/>
              </a:rPr>
              <a:t>2. </a:t>
            </a:r>
            <a:r>
              <a:rPr b="1" lang="es-ES_tradnl" sz="2600" spc="-1" strike="noStrike">
                <a:solidFill>
                  <a:srgbClr val="4a452a"/>
                </a:solidFill>
                <a:latin typeface="Arial Narrow"/>
              </a:rPr>
              <a:t>Objetivos específicos de habilidad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200" spc="-1" strike="noStrike">
                <a:solidFill>
                  <a:srgbClr val="4a452a"/>
                </a:solidFill>
                <a:latin typeface="Arial Narrow"/>
              </a:rPr>
              <a:t>El alumno deberá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4a452a"/>
                </a:solidFill>
                <a:latin typeface="Arial Narrow"/>
              </a:rPr>
              <a:t>Hacer juicios críticos acerca de la dinámica general de los fármacos en el organismo y del mecanismo de acción de ellos, en relación a su aplicación terapéutic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4a452a"/>
                </a:solidFill>
                <a:latin typeface="Arial Narrow"/>
              </a:rPr>
              <a:t>Ser capaces de revisar literatura científica internacional atingente a los contenidos del curso, entenderla, exponerla y en la medida de las posibilidades criticarla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80000"/>
              </a:lnSpc>
              <a:spcBef>
                <a:spcPts val="550"/>
              </a:spcBef>
              <a:spcAft>
                <a:spcPts val="139"/>
              </a:spcAft>
              <a:buClr>
                <a:srgbClr val="15038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valuación: 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ste tipo de objetivos se evaluará mediante un trabajo bibliográfico que realizarán los alumno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2571840" y="260280"/>
            <a:ext cx="585792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7120" indent="-357120">
              <a:lnSpc>
                <a:spcPct val="70000"/>
              </a:lnSpc>
              <a:spcBef>
                <a:spcPts val="60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3. </a:t>
            </a: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Objetivos específicos de actitude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a452a"/>
                </a:solidFill>
                <a:latin typeface="Arial Narrow"/>
              </a:rPr>
              <a:t>El alumno debe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Asumir responsablemente todas las actividades a desarrollar en la asignatura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Comprender y valorar la importancia de la aplicación de los objetivos del curso en la formación y el desempeño profesional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Desarrollar una posición positiva respecto a su rol en la sociedad como profesional de la salud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57120" indent="-357120" algn="just">
              <a:lnSpc>
                <a:spcPct val="110000"/>
              </a:lnSpc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r>
              <a:rPr b="1" lang="es-ES" sz="2400" spc="-1" strike="noStrike">
                <a:solidFill>
                  <a:srgbClr val="4a452a"/>
                </a:solidFill>
                <a:latin typeface="Arial Narrow"/>
              </a:rPr>
              <a:t>Evaluación: </a:t>
            </a:r>
            <a:r>
              <a:rPr b="0" lang="es-ES" sz="2400" spc="-1" strike="noStrike">
                <a:solidFill>
                  <a:srgbClr val="4a452a"/>
                </a:solidFill>
                <a:latin typeface="Arial Narrow"/>
              </a:rPr>
              <a:t>El logro de los objetivos dependerá de la actitud con que los alumnos enfrenten la Asignatura y está apoyado por el logro de los objetivos específicos 1 y 2 anterio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2500200" y="404280"/>
            <a:ext cx="614376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a452a"/>
                </a:solidFill>
                <a:latin typeface="Arial Narrow"/>
              </a:rPr>
              <a:t>METODOLOGÍ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4a452a"/>
                </a:solidFill>
                <a:latin typeface="Arial Narrow"/>
              </a:rPr>
              <a:t>Clases Teóricas:</a:t>
            </a: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Exposición esquemática y resumida de los aspectos          fundamentales del tem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4a452a"/>
                </a:solidFill>
                <a:latin typeface="Arial Narrow"/>
              </a:rPr>
              <a:t>En ningún caso, las clases constituyen una exposición exhaustiva de la mate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Se entregará bibliografía complementaria que los alumnos deberán revisar para un completo manejo de los contenidos del curso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601"/>
              </a:spcBef>
              <a:spcAft>
                <a:spcPts val="1500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4a452a"/>
                </a:solidFill>
                <a:latin typeface="Arial Narrow"/>
              </a:rPr>
              <a:t>Al final de cada capitulo se realizará un control escrito de la materia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2499840" y="259920"/>
            <a:ext cx="59295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4a452a"/>
                </a:solidFill>
                <a:latin typeface="Arial Narrow"/>
              </a:rPr>
              <a:t>Trabajo bibliográfico:</a:t>
            </a:r>
            <a:r>
              <a:rPr b="0" lang="es-MX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Grupos de 4 alumnos cada uno, sortearán un tema general relacionado con los contenidos del curso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os alumnos harán una revisión bibliográfica del tema específico seleccionado, que deberá estar basado en la revisión de al menos 5 y no más de 10 publicaciones científicas (papers, reviews, etc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2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sta revisión será presentada </a:t>
            </a:r>
            <a:r>
              <a:rPr b="0" i="1" lang="es-ES" sz="2200" spc="-1" strike="noStrike">
                <a:solidFill>
                  <a:srgbClr val="4a452a"/>
                </a:solidFill>
                <a:latin typeface="Arial Narrow"/>
              </a:rPr>
              <a:t>in extenso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en un documento escrito que no deberá sobrepasar las 15 páginas tamaño carta, formato Word 98 o superior, letra arial, tamaño 11, interlineado 1,5. La bibliografía utilizada debe estar citada a final del texto de acuerdo a un formato uniforme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2500200" y="1446120"/>
            <a:ext cx="5786640" cy="462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El grupo deberá acompañar al documento anterior además, 20 preguntas de selección múltiple del tema elegido igualmente impresas.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stas preguntas deben tener 5 alternativas y se debe indicar la alternativa correcta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l manuscrito en papel y las preguntas deben ser entregadas además,</a:t>
            </a: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 </a:t>
            </a:r>
            <a:r>
              <a:rPr b="1" lang="es-ES" sz="2200" spc="-1" strike="noStrike">
                <a:solidFill>
                  <a:srgbClr val="4a452a"/>
                </a:solidFill>
                <a:latin typeface="Arial Narrow"/>
              </a:rPr>
              <a:t>en un  CD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buClr>
                <a:srgbClr val="77933c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4a452a"/>
                </a:solidFill>
                <a:latin typeface="Arial Narrow"/>
              </a:rPr>
              <a:t>La revisión bibliográfica y las preguntas de selección múltiple serán evaluadas separadamente y ambos trabajos tendrán igual ponderació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110000"/>
              </a:lnSpc>
              <a:spcBef>
                <a:spcPts val="550"/>
              </a:spcBef>
              <a:spcAft>
                <a:spcPts val="13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08:14Z</dcterms:created>
  <dc:creator>María Eugenia Letelier Muñoz</dc:creator>
  <dc:description/>
  <dc:language>en-US</dc:language>
  <cp:lastModifiedBy>Paula</cp:lastModifiedBy>
  <dcterms:modified xsi:type="dcterms:W3CDTF">2010-07-30T19:34:40Z</dcterms:modified>
  <cp:revision>31</cp:revision>
  <dc:subject/>
  <dc:title>  Presentación Programa Farmacología I Carrera Química y Farmacia Semestre Otoño 2007</dc:title>
</cp:coreProperties>
</file>