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move the slide</a:t>
            </a:r>
            <a:endParaRPr b="0" lang="en-US" sz="4400" spc="-1" strike="noStrike">
              <a:solidFill>
                <a:srgbClr val="eeece1"/>
              </a:solidFill>
              <a:latin typeface="Arial"/>
            </a:endParaRPr>
          </a:p>
        </p:txBody>
      </p:sp>
      <p:sp>
        <p:nvSpPr>
          <p:cNvPr id="5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B4D4-AA55-4C0F-B582-80D0B1AD1568}" type="slidenum">
              <a:rPr b="0" lang="es-C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392B-C655-4741-A796-3DDCB61DC7E3}" type="slidenum">
              <a:rPr b="0" lang="es-CL"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674E1-0BB1-4351-9B50-66DE950E3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EFA3F-1F87-4890-863F-8B21633ED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7A7876-33FC-480B-ADED-373F3CDCA6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572FF2-0E67-4D3F-9FC7-8A0F7728F3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C525FA-6E3F-446F-B48C-F74605AB9C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2E354B-5E05-4B6E-BEFD-5E2A13192E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16983-13F7-4BE6-8CC9-C8650EB26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AC4270-C289-4FAA-B6DB-CA7F09C585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34F194-B500-4254-8859-327D27C513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3B437A-D359-406C-B01F-76D679371E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E18D7A-ADCA-4752-91AD-C3420D2791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CCB025-165B-49DE-9067-AE07517F4E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152C0-07C8-403D-A09C-B4E71DA36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650269-0ED3-4A77-9036-9EAF5D597D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0FC6C2-E8B1-41FD-AEE5-D433BED327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A7F743-6A7E-4EB1-9CC2-74E98A4B6D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DCAD7F-6386-441D-8D37-10D20CBB1A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2A99F6-8924-4D70-8C31-7A9805EB73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A650FF-B4E8-4021-9B0D-70FE4377CC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60A367-32DE-4016-9D88-E7029EDFC5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E69A49-12CF-4D15-A179-8BE441B651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90FEAD-F182-4312-B0F1-6B6471EE9B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DA9CFE-6D3D-4987-B945-98BD5B4D4C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891D8-2721-45AF-83A9-98690AE8E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9D1C75-660E-43A2-BCF4-101696C85F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8A8225-BF6E-4492-998C-8E7C31D875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C55E46-A4CA-4543-968C-CF146EB9A5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B81A26-325D-4ED6-A51F-B5EC1B7525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B5A576-E785-405A-9808-45A00069F5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44D836-2204-49A3-8C1F-788593F75F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C4F21D-7461-46B4-A153-1DB00E3219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2D399A-639E-4E15-B1C6-1A1FEFFC23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568D5F-86D0-4C9B-9011-2FE60D8BBE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C46547-4FBC-4F72-8B89-3727313245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2F21D-6B1E-4A91-AC21-B0AAC33F8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2FF9E0-E5BF-4045-9E82-7F798A556D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1B8F6F-03D7-4783-B61D-A1423ED1F1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55862F-F183-4F30-923C-C659BAB0C14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E861F5-FCCF-4D86-805C-6FD5DCF1B6E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A16234-D080-42B4-8D8C-1BDC977BDF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C7C4D1-FA3F-409B-A57B-98DFD87E54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7DCEB5-BAEE-452E-B166-34B57415CD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DCA388-082F-4CFB-8B65-3984EDB80B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F006F9-EF6D-418D-A3CA-D9BB6F531C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217641-B98C-4B63-AD6E-008DEDCF1B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1D765-F359-4119-AFAA-02BE79B90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EAEF3B-A234-4916-8054-897ECC2776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E4A057-401D-4749-B95E-5786EFFB59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5F39A3-09C3-4F20-B978-FED93492A3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60D2A6-BC57-4F09-A9A4-2678BBC7ED7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A925B6-1826-4AF9-A5B4-CADFCD9673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8C58D-B90D-4288-AF54-4C40A4938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B60DC-5551-46C7-8713-4D3184B3C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8BC93-5EDA-41B3-A637-C1139E466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D3CD2-03CC-4912-810C-1088BD853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37B9C-11C7-4073-8620-3D232F490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D8DAA-3B57-4513-89AE-075354D2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73A2B-D89E-4765-B775-8FF0BFD0C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3759B-8F63-4B54-B268-778440F2E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9D8B5-A9F0-4B50-9D7F-614FD50FB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11CD7-5F50-4628-A6A7-25436E9CF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D9FB9-6F63-4221-B986-69D410FD3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0E18E6-BD10-48FF-8873-25BE91E19C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280527-D36E-46FB-9366-463A4EDC4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EE565-BDE4-44EC-BA9C-C8CF73A95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85A268-544F-4F3A-B836-702227FFC4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B816A-617E-47AF-AF9B-87286FDD3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44BCB-26E7-4149-B99F-23A9B5FC3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BA4DEC-62F2-4DCF-B10B-EDBD45C0A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6CBF7-C9B7-492F-88E1-ECFC152F7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7A8BF-4FAA-4B49-B38B-157AF67F8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ECFC9-FD66-4E1B-BFAD-B14873E1D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FCC1F-647D-4666-B9AB-563070FF56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1FE91B-8A1A-4CE1-9A85-718BFEE500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1F0DEF-5EC3-4180-9D02-34075C49F3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DE8BD3-0DF9-442B-AF40-B8A5641F57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787E9F-6D6E-457C-9817-E6E4D60C8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3726D-DA12-4E32-8879-5A6A78CD69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8B0CC-05D1-4F40-B74A-372C7C92F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89346E-9A89-416B-87F8-5C23108E21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BD6731-056E-45B4-BC97-1CFC9F429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F2F89-66C9-4B4E-AA31-EE86BB8F4C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EB9A3-A3CB-4770-8FC5-7AA19CC2D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45EC4-CB4F-468A-B1BA-5FE546179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90040-A7DB-49A8-A83E-1E682616C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E64C26-8B97-4130-8DED-D8182C5D71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1E2632-019F-4AF2-865E-3974E5B187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F8B1C1-3527-4AAE-AEB8-762EAD270D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171CC2-3163-448B-AE12-674D887E52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BA2A3-5266-477D-92A7-0D1043F30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51550-1F36-45F6-91A3-74352786E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816195-8011-40D5-A7D3-0A51FB9EDB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798312-1EED-46E0-9F72-0D1A9039A1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245955-0D80-481E-BAB7-2063B4C995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115738-9E11-4D08-BA8D-E6B02E601A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8D1FD-09D7-4914-853F-8D136F355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9C67E-4199-4595-B964-5620F2D44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91219-5470-458C-90D1-E3BBE5A50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50F0AE-30EE-4F41-B185-BD717EA505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D95E9D-0193-46CE-A1E9-6918272F69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6792C-A5E9-41E2-ABAF-B0B534933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59C586-9F85-4210-90B9-7028F01869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64B3B7-4BCA-4EBE-9296-AD97A0FC3B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0CF4C2-1078-44AB-A4DE-68D9524309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8093D1-A6DB-4271-A603-3FCA5D46B4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1D6EBA-3BF2-4C27-9854-3FE8FA0BE4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9B1DC-5D90-4C23-8FCB-F75BE2973A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7F9EB2-FC0A-4D4C-AF44-24088DD1D2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96E31F-7644-45D2-A79F-96D6419F9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B80446-6C30-4942-AF78-19F16472A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71FA1-D430-4A57-A0C2-7F660AD52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F8FE-672F-422E-B6B6-404FFE25F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930C61-D3F8-4741-BAA0-0920BBA81F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E25412-70C8-4372-A671-05585C2D1F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D9298E-917D-4AD4-824F-C5DC7F58D4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8AC66D-3918-4257-AA88-4B82056574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7E06A-9AFE-43A6-886F-DE65710AB3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9F1A75-1974-486A-BBCA-ABDA82E777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B07EB5-5067-4804-8DC3-5D253CCEFC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70C3EC-538E-4D58-A27B-59833101FD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6C1CFC-F812-42DF-81E1-BA29F4B371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AC1F59-5737-4239-9DEF-335343C0B5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92431-4497-4770-BE0D-C7087F6D9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66EE5-1FBE-4A9D-916E-CB31791D1A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FB4865-4088-43B7-8D65-EAA381E0D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1767EF-8D1C-4917-BD1F-3C381FF8D1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EFDCCF-3A80-454B-9B35-E56A652011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12533A-9998-401C-BFD5-11044C2DE2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11B56E-1FD6-4BC8-84CB-6D566DCE29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811CC6-8BB2-4273-9809-5A5DCF1A39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B282E5-C68E-4009-87B7-056C63EA32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EDE58E-83A4-41D8-934B-766AE1B15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B248CF-3843-45DC-8C74-28FB61FEE5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340BE-2D15-411A-B39C-4EDE13F38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7423C1-1BD4-40F9-8707-F6DC0D1FAA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F337D8-3085-4695-8C9D-2D961C42F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D00AB-4FDE-4C06-9F13-3C0B156AE7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3C1A5-4E4B-457C-B54B-2AB620A7B9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D39533-EF8A-4B79-A705-8AAD5E83AE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CFBAAB-13F9-4163-B144-909294DEE7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959343-1C6A-4F6E-A3D1-474D4C7D79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51BA7B-FE0F-4103-958D-C7256E0BFE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F03226-E7B3-4A62-8ECE-B5AC1309C5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9F4F86-D831-48CC-83B1-462885BAE7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233A-AFFA-41FA-961A-813692E16FF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1"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5940-2DA7-46D7-B6CF-D8560B1BBAF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DC30-9E40-4E7B-BA59-0D0F6090EF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PlaceHolder 4"/>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PlaceHolder 5"/>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CD6E-0896-40BB-BBE1-47411F9F56C1}"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2DD2-EE6C-4AAB-8325-FF08BCFBE7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D1E2-48A6-4540-AFA2-7FB6428BC5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5"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3382-F334-4460-B6FA-3B4C03ABC2E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C7EE-DAE9-4F04-886C-706E56FB77F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7"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546D-5DCB-485B-828E-50318D83969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8"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63D6-7994-4793-8BC7-35DCB4A5ED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9"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4806-BC8C-45DB-84C4-BB70CA57037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00"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2287-06E8-4FC1-AE89-FF0A1F4B51D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357720" y="2832120"/>
            <a:ext cx="5572080" cy="32400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VÍAS DE ADMINISTRACIÓN</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armacodinamia</a:t>
            </a:r>
            <a:br>
              <a:rPr sz="3200"/>
            </a:br>
            <a:r>
              <a:rPr b="1" lang="es-ES" sz="3200" spc="-1" strike="noStrike">
                <a:solidFill>
                  <a:srgbClr val="ffffff"/>
                </a:solidFill>
                <a:latin typeface="Arial"/>
              </a:rPr>
              <a:t>Primavera 2010</a:t>
            </a:r>
            <a:br>
              <a:rPr sz="3200"/>
            </a:b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aría Eugenia Letelier 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9" name="Picture 4" descr="~AUT0001"/>
          <p:cNvPicPr/>
          <p:nvPr/>
        </p:nvPicPr>
        <p:blipFill>
          <a:blip r:embed="rId2"/>
          <a:stretch/>
        </p:blipFill>
        <p:spPr>
          <a:xfrm>
            <a:off x="900000" y="549360"/>
            <a:ext cx="7559640" cy="55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p:nvPr>
        </p:nvSpPr>
        <p:spPr>
          <a:xfrm>
            <a:off x="468360" y="1785960"/>
            <a:ext cx="8075520" cy="4681440"/>
          </a:xfrm>
          <a:prstGeom prst="rect">
            <a:avLst/>
          </a:prstGeom>
          <a:noFill/>
          <a:ln w="0">
            <a:noFill/>
          </a:ln>
        </p:spPr>
        <p:txBody>
          <a:bodyPr anchor="t">
            <a:normAutofit/>
          </a:bodyPr>
          <a:p>
            <a:pPr marL="3556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1" lang="es-ES" sz="2400" spc="-1" strike="noStrike">
                <a:solidFill>
                  <a:srgbClr val="948a54"/>
                </a:solidFill>
                <a:latin typeface="Tahoma"/>
              </a:rPr>
              <a:t>I. VÍAS ENTERALES: </a:t>
            </a:r>
            <a:r>
              <a:rPr b="0" lang="es-ES" sz="2400" spc="-1" strike="noStrike">
                <a:solidFill>
                  <a:srgbClr val="1f497d"/>
                </a:solidFill>
                <a:latin typeface="Tahoma"/>
              </a:rPr>
              <a:t>La administración del fármaco se realiza en alguna porción del tracto digestivo.</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	</a:t>
            </a:r>
            <a:r>
              <a:rPr b="1" lang="es-ES" sz="2400" spc="-1" strike="noStrike">
                <a:solidFill>
                  <a:srgbClr val="948a54"/>
                </a:solidFill>
                <a:latin typeface="Tahoma"/>
              </a:rPr>
              <a:t>1. VÍA ORAL</a:t>
            </a:r>
            <a:r>
              <a:rPr b="1" lang="es-ES" sz="2400" spc="-1" strike="noStrike">
                <a:solidFill>
                  <a:srgbClr val="1f497d"/>
                </a:solidFill>
                <a:latin typeface="Tahoma"/>
              </a:rPr>
              <a:t>	</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Circuito vascular de la vía oral:</a:t>
            </a:r>
            <a:endParaRPr b="0" lang="en-US" sz="2400" spc="-1" strike="noStrike">
              <a:solidFill>
                <a:srgbClr val="ffffff"/>
              </a:solidFill>
              <a:latin typeface="Tahoma"/>
            </a:endParaRPr>
          </a:p>
          <a:p>
            <a:pPr marL="355680" indent="-355680" algn="just">
              <a:lnSpc>
                <a:spcPct val="120000"/>
              </a:lnSpc>
              <a:spcBef>
                <a:spcPts val="601"/>
              </a:spcBef>
              <a:spcAft>
                <a:spcPts val="1500"/>
              </a:spcAft>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Mesentérica  (superior e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Sistema Portal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p:nvPr>
        </p:nvSpPr>
        <p:spPr>
          <a:xfrm>
            <a:off x="500040" y="2285640"/>
            <a:ext cx="8229600" cy="3970440"/>
          </a:xfrm>
          <a:prstGeom prst="rect">
            <a:avLst/>
          </a:prstGeom>
          <a:noFill/>
          <a:ln w="0">
            <a:noFill/>
          </a:ln>
        </p:spPr>
        <p:txBody>
          <a:bodyPr anchor="t">
            <a:normAutofit fontScale="96000"/>
          </a:bodyPr>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dministración en este caso depende en forma importante de la formulación farmacéutica que condiciona la disgregación y la disolución del fármaco</a:t>
            </a:r>
            <a:r>
              <a:rPr b="1" lang="es-ES" sz="2400" spc="-1" strike="noStrike">
                <a:solidFill>
                  <a:srgbClr val="1f497d"/>
                </a:solidFill>
                <a:latin typeface="Tahoma"/>
              </a:rPr>
              <a:t>.</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se produce en el estómago y principalmente en el duodeno por difusión.</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n algunos casos puede haber transporte activo (metil-dopa, levodopa) o filtración a través de poros intercelulares (fluorosemida, atenol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p:nvPr>
        </p:nvSpPr>
        <p:spPr>
          <a:xfrm>
            <a:off x="500040" y="545760"/>
            <a:ext cx="7786800" cy="5907240"/>
          </a:xfrm>
          <a:prstGeom prst="rect">
            <a:avLst/>
          </a:prstGeom>
          <a:noFill/>
          <a:ln w="0">
            <a:noFill/>
          </a:ln>
        </p:spPr>
        <p:txBody>
          <a:bodyPr anchor="t">
            <a:normAutofit fontScale="91000"/>
          </a:bodyPr>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INFLUENCIAN </a:t>
            </a:r>
            <a:endParaRPr b="0" lang="en-US" sz="2400" spc="-1" strike="noStrike">
              <a:solidFill>
                <a:srgbClr val="ffffff"/>
              </a:solidFill>
              <a:latin typeface="Tahoma"/>
            </a:endParaRPr>
          </a:p>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ABSORCIÓN  POR  VÍA  ORAL </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H.</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ciamiento gástric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Motilidad intestinal.</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olubilidad de las drogas al estado sólid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ncentración de la droga en solución.</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ión de la droga al contenido   gastrointestinal.</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p:nvPr>
        </p:nvSpPr>
        <p:spPr>
          <a:xfrm>
            <a:off x="684360" y="549360"/>
            <a:ext cx="7775280" cy="5472000"/>
          </a:xfrm>
          <a:prstGeom prst="rect">
            <a:avLst/>
          </a:prstGeom>
          <a:noFill/>
          <a:ln w="0">
            <a:noFill/>
          </a:ln>
        </p:spPr>
        <p:txBody>
          <a:bodyPr anchor="t">
            <a:normAutofit fontScale="87000"/>
          </a:bodyPr>
          <a:p>
            <a:pPr marL="397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	</a:t>
            </a:r>
            <a:r>
              <a:rPr b="1" lang="es-ES" sz="2400" spc="-1" strike="noStrike">
                <a:solidFill>
                  <a:srgbClr val="948a54"/>
                </a:solidFill>
                <a:latin typeface="Tahoma"/>
              </a:rPr>
              <a:t>2.</a:t>
            </a:r>
            <a:r>
              <a:rPr b="1" lang="es-ES" sz="2400" spc="-1" strike="noStrike">
                <a:solidFill>
                  <a:srgbClr val="948a54"/>
                </a:solidFill>
                <a:latin typeface="Tahoma"/>
              </a:rPr>
              <a:t>	</a:t>
            </a:r>
            <a:r>
              <a:rPr b="1" lang="es-ES" sz="2400" spc="-1" strike="noStrike">
                <a:solidFill>
                  <a:srgbClr val="948a54"/>
                </a:solidFill>
                <a:latin typeface="Tahoma"/>
              </a:rPr>
              <a:t> VÍA SUBLINGUAL</a:t>
            </a: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ármaco colocado debajo de la lengua se absorbe por la mucosa sublingual, accediendo por la vena cava a la aurícula derecha. pH = 6.</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deal para drogas que se degradan en el tracto gastro-intestinal. Evitan la vía portal para su ingreso.</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 y velocidad de Absorción.</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reserva para algunos fármacos (vaso dilatadores coronarios, hormonas, antihistamín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p:nvPr>
        </p:nvSpPr>
        <p:spPr>
          <a:xfrm>
            <a:off x="684360" y="642600"/>
            <a:ext cx="7775280" cy="374796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948a54"/>
                </a:solidFill>
                <a:latin typeface="Tahoma"/>
              </a:rPr>
              <a:t>VÍA SUBLINGUAL (2)</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vita el paso intestinal y hepático y por tanto, se consigue un efecto más rápido e intenso.</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p:nvPr>
        </p:nvSpPr>
        <p:spPr>
          <a:xfrm>
            <a:off x="642600" y="333360"/>
            <a:ext cx="8001000" cy="6191280"/>
          </a:xfrm>
          <a:prstGeom prst="rect">
            <a:avLst/>
          </a:prstGeom>
          <a:noFill/>
          <a:ln w="0">
            <a:noFill/>
          </a:ln>
        </p:spPr>
        <p:txBody>
          <a:bodyPr anchor="t">
            <a:normAutofit fontScale="96000"/>
          </a:bodyPr>
          <a:p>
            <a:pPr marL="345600" indent="0" algn="ctr">
              <a:lnSpc>
                <a:spcPct val="90000"/>
              </a:lnSpc>
              <a:spcBef>
                <a:spcPts val="601"/>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48a54"/>
                </a:solidFill>
                <a:latin typeface="Tahoma"/>
              </a:rPr>
              <a:t>3. VÍA RECTAL</a:t>
            </a:r>
            <a:endParaRPr b="0" lang="en-US" sz="2400" spc="-1" strike="noStrike">
              <a:solidFill>
                <a:srgbClr val="ffffff"/>
              </a:solidFill>
              <a:latin typeface="Tahoma"/>
            </a:endParaRPr>
          </a:p>
          <a:p>
            <a:pPr marL="345600" indent="0" algn="just">
              <a:lnSpc>
                <a:spcPct val="90000"/>
              </a:lnSpc>
              <a:spcBef>
                <a:spcPts val="249"/>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5600" indent="0" algn="just">
              <a:lnSpc>
                <a:spcPct val="120000"/>
              </a:lnSpc>
              <a:spcBef>
                <a:spcPts val="601"/>
              </a:spcBef>
              <a:spcAft>
                <a:spcPts val="1500"/>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Circuito vascular de la vía rectal</a:t>
            </a:r>
            <a:endParaRPr b="0" lang="en-US" sz="2400" spc="-1" strike="noStrike">
              <a:solidFill>
                <a:srgbClr val="ffffff"/>
              </a:solidFill>
              <a:latin typeface="Tahoma"/>
            </a:endParaRPr>
          </a:p>
          <a:p>
            <a:pPr marL="345600" indent="0" algn="just">
              <a:lnSpc>
                <a:spcPct val="120000"/>
              </a:lnSpc>
              <a:spcBef>
                <a:spcPts val="451"/>
              </a:spcBef>
              <a:spcAft>
                <a:spcPts val="1125"/>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s hemorroidales (inferior y superior)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La absorción puede ser errática, lenta e incompleta. </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Se utiliza sólo cuando los fármacos producen irritación gastro-intestinal, son destruidos por el pH ácido del estómago o son destruidos por las enzimas digestivas, tienen olor o sabor desagradables y en algunos casos especiales en los cuales se requiere evitar el metabolismo de primer paso  hepát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428400" y="285840"/>
            <a:ext cx="8064360" cy="6192720"/>
          </a:xfrm>
          <a:prstGeom prst="rect">
            <a:avLst/>
          </a:prstGeom>
          <a:noFill/>
          <a:ln w="0">
            <a:noFill/>
          </a:ln>
        </p:spPr>
        <p:txBody>
          <a:bodyPr anchor="t">
            <a:normAutofit/>
          </a:bodyPr>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II. VÍAS PARENTERALES. </a:t>
            </a:r>
            <a:r>
              <a:rPr b="0" lang="es-ES" sz="2400" spc="-1" strike="noStrike">
                <a:solidFill>
                  <a:srgbClr val="ffffff"/>
                </a:solidFill>
                <a:latin typeface="Tahoma"/>
              </a:rPr>
              <a:t>La administración del fármaco se realiza en alguna porción diferente del tracto digestivo.</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1. VÍA INTRAVENOSA</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Ventaja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Obtención de niveles plasmáticos rápido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rapidez de la acción, hace que sea útil esta vía en trastornos agudos (epilepsia, arritmias cardíacas, episodios agudos de asma).</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uración óptima de la inyección: 1 a 2 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p:nvPr>
        </p:nvSpPr>
        <p:spPr>
          <a:xfrm>
            <a:off x="213840" y="2117520"/>
            <a:ext cx="8643960" cy="4740120"/>
          </a:xfrm>
          <a:prstGeom prst="rect">
            <a:avLst/>
          </a:prstGeom>
          <a:noFill/>
          <a:ln w="0">
            <a:noFill/>
          </a:ln>
        </p:spPr>
        <p:txBody>
          <a:bodyPr anchor="t">
            <a:normAutofit fontScale="97000"/>
          </a:bodyPr>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cisión de las concentraciones plasmáticas que se alcanzan, al no depender de los procesos de absorción, ni de los factores que pueden alterarlos. Por lo tanto, se obtienen niveles plasmáticos predecibles. </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excepción la constituyen las pro-drogas que se elaboran para mejorar las propiedades de solubilidad. Ejemplo: Dexametasona fosfato.</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o-droga tiene escasa o nula actividad farmacológica. La respuesta clínica depende de la velocidad de conversión en el fármaco activ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979280"/>
            <a:ext cx="8229600" cy="4164120"/>
          </a:xfrm>
          <a:prstGeom prst="rect">
            <a:avLst/>
          </a:prstGeom>
          <a:noFill/>
          <a:ln w="0">
            <a:noFill/>
          </a:ln>
        </p:spPr>
        <p:txBody>
          <a:bodyPr anchor="t">
            <a:normAutofit fontScale="97000"/>
          </a:bodyPr>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No hay problemas de biodisponibilidad por esta ví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Permite reducir los efectos irritantes y administrar grandes volúmenes.</a:t>
            </a:r>
            <a:r>
              <a:rPr b="0" lang="es-ES" sz="2400" spc="-1" strike="noStrike">
                <a:solidFill>
                  <a:srgbClr val="1f497d"/>
                </a:solidFill>
                <a:latin typeface="Tahoma"/>
              </a:rPr>
              <a:t>	</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	</a:t>
            </a:r>
            <a:r>
              <a:rPr b="1" lang="es-ES" sz="2400" spc="-1" strike="noStrike">
                <a:solidFill>
                  <a:srgbClr val="1f497d"/>
                </a:solidFill>
                <a:latin typeface="Tahoma"/>
              </a:rPr>
              <a:t>Desventajas (Vía intravenos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La dependencia de personal especializado para su aplicació</a:t>
            </a:r>
            <a:r>
              <a:rPr b="0" lang="es-ES" sz="2400" spc="-1" strike="noStrike">
                <a:solidFill>
                  <a:srgbClr val="1f497d"/>
                </a:solidFill>
                <a:latin typeface="Arial Narrow"/>
              </a:rPr>
              <a:t>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42600" y="928440"/>
            <a:ext cx="7775640" cy="5429160"/>
          </a:xfrm>
          <a:prstGeom prst="rect">
            <a:avLst/>
          </a:prstGeom>
          <a:noFill/>
          <a:ln w="0">
            <a:noFill/>
          </a:ln>
        </p:spPr>
        <p:txBody>
          <a:bodyPr anchor="t">
            <a:normAutofit/>
          </a:bodyPr>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4bd97"/>
                </a:solidFill>
                <a:latin typeface="Tahoma"/>
              </a:rPr>
              <a:t> </a:t>
            </a:r>
            <a:r>
              <a:rPr b="1" lang="es-ES" sz="2400" spc="-1" strike="noStrike">
                <a:solidFill>
                  <a:srgbClr val="c4bd97"/>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 </a:t>
            </a:r>
            <a:r>
              <a:rPr b="1" lang="es-ES" sz="2400" spc="-1" strike="noStrike">
                <a:solidFill>
                  <a:srgbClr val="c4bd97"/>
                </a:solidFill>
                <a:latin typeface="Tahoma"/>
              </a:rPr>
              <a:t>¿Cuál es su velocidad de eliminación?</a:t>
            </a:r>
            <a:endParaRPr b="0" lang="en-US" sz="2400" spc="-1" strike="noStrike">
              <a:solidFill>
                <a:srgbClr val="ffffff"/>
              </a:solidFill>
              <a:latin typeface="Tahoma"/>
            </a:endParaRPr>
          </a:p>
        </p:txBody>
      </p:sp>
      <p:sp>
        <p:nvSpPr>
          <p:cNvPr id="571" name="Rectangle 2"/>
          <p:cNvSpPr/>
          <p:nvPr/>
        </p:nvSpPr>
        <p:spPr>
          <a:xfrm>
            <a:off x="9358200" y="857160"/>
            <a:ext cx="7775640" cy="5668920"/>
          </a:xfrm>
          <a:prstGeom prst="rect">
            <a:avLst/>
          </a:prstGeom>
          <a:noFill/>
          <a:ln w="0">
            <a:noFill/>
          </a:ln>
        </p:spPr>
        <p:style>
          <a:lnRef idx="0"/>
          <a:fillRef idx="0"/>
          <a:effectRef idx="0"/>
          <a:fontRef idx="minor"/>
        </p:style>
        <p:txBody>
          <a:bodyPr lIns="90000" rIns="90000" tIns="46800" bIns="46800" anchor="t">
            <a:noAutofit/>
          </a:bodyPr>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182520" algn="just">
              <a:lnSpc>
                <a:spcPct val="120000"/>
              </a:lnSpc>
              <a:spcBef>
                <a:spcPts val="601"/>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1" lang="es-ES" sz="2400" spc="-1" strike="noStrike">
                <a:solidFill>
                  <a:srgbClr val="ffff00"/>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ES" sz="2400" spc="-1" strike="noStrike">
                <a:solidFill>
                  <a:srgbClr val="ffff00"/>
                </a:solidFill>
                <a:latin typeface="Tahoma"/>
              </a:rPr>
              <a:t>¿Cuál es su velocidad de elimin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p:nvPr>
        </p:nvSpPr>
        <p:spPr>
          <a:xfrm>
            <a:off x="610920" y="1980720"/>
            <a:ext cx="7777080" cy="4591080"/>
          </a:xfrm>
          <a:prstGeom prst="rect">
            <a:avLst/>
          </a:prstGeom>
          <a:noFill/>
          <a:ln w="0">
            <a:noFill/>
          </a:ln>
        </p:spPr>
        <p:txBody>
          <a:bodyPr anchor="t">
            <a:normAutofit/>
          </a:bodyPr>
          <a:p>
            <a:pPr lvl="1" marL="441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osible precipitación del fármaco lo cual puede conducir a trombo-flevitis; ejemplo: fenitoína, diazepam se disuelven en etanol 10% y 40% de propilenglicol.</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osibilidad de reacciones graves, sobre todo cuando su aplicación es muy rápida y se alcanzan altas concentraciones.</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eligro de embolias e infeccion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p:nvPr>
        </p:nvSpPr>
        <p:spPr>
          <a:xfrm>
            <a:off x="445680" y="404640"/>
            <a:ext cx="8412120" cy="6120000"/>
          </a:xfrm>
          <a:prstGeom prst="rect">
            <a:avLst/>
          </a:prstGeom>
          <a:noFill/>
          <a:ln w="0">
            <a:noFill/>
          </a:ln>
        </p:spPr>
        <p:txBody>
          <a:bodyPr anchor="t">
            <a:normAutofit fontScale="93000"/>
          </a:bodyPr>
          <a:p>
            <a:pPr marL="33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INTRA-ARTERIAL</a:t>
            </a: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realizar arteriografías o para alcanzar altas concentraciones locales, como por ejemplo administración de estreptoquinasa que es un fibrinolítico. La infusión intra-arterial aumenta la entrega del fármaco en la zona irrigada por la arteria utilizada y disminuye la entrega a la circulación sistémica. </a:t>
            </a:r>
            <a:endParaRPr b="0" lang="en-US" sz="2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mplea principalmente para tratamientos terapéuticos del cáncer. Así, la concentración del anti-neoplásico se maximiza en el lugar del tumor y se minimiza en el resto del organismo, lo cual es importante para disminuir los efectos secundarios de este tipo de fárma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360" y="1714680"/>
            <a:ext cx="6769080" cy="2232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NTERRUPCIÓ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DESCAN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285480" y="379080"/>
            <a:ext cx="8372520" cy="6335640"/>
          </a:xfrm>
          <a:prstGeom prst="rect">
            <a:avLst/>
          </a:prstGeom>
          <a:noFill/>
          <a:ln w="0">
            <a:noFill/>
          </a:ln>
        </p:spPr>
        <p:txBody>
          <a:bodyPr anchor="t">
            <a:normAutofit fontScale="97000"/>
          </a:bodyPr>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48a54"/>
                </a:solidFill>
                <a:latin typeface="Tahoma"/>
              </a:rPr>
              <a:t>III.</a:t>
            </a:r>
            <a:r>
              <a:rPr b="1" lang="es-CL" sz="2400" spc="-1" strike="noStrike">
                <a:solidFill>
                  <a:srgbClr val="948a54"/>
                </a:solidFill>
                <a:latin typeface="Tahoma"/>
              </a:rPr>
              <a:t>	</a:t>
            </a:r>
            <a:r>
              <a:rPr b="1" lang="es-CL" sz="2400" spc="-1" strike="noStrike">
                <a:solidFill>
                  <a:srgbClr val="948a54"/>
                </a:solidFill>
                <a:latin typeface="Tahoma"/>
              </a:rPr>
              <a:t>  OTRAS CLASIFICACIONES DE LAS VÍAS DE </a:t>
            </a:r>
            <a:r>
              <a:rPr b="1" lang="es-CL" sz="2400" spc="-1" strike="noStrike">
                <a:solidFill>
                  <a:srgbClr val="948a54"/>
                </a:solidFill>
                <a:latin typeface="Tahoma"/>
              </a:rPr>
              <a:t>	</a:t>
            </a:r>
            <a:r>
              <a:rPr b="1" lang="es-CL" sz="2400" spc="-1" strike="noStrike">
                <a:solidFill>
                  <a:srgbClr val="948a54"/>
                </a:solidFill>
                <a:latin typeface="Tahoma"/>
              </a:rPr>
              <a:t>ADMINISTRACIÓN</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15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694440" indent="-694440" algn="just">
              <a:spcBef>
                <a:spcPts val="601"/>
              </a:spcBef>
              <a:buClr>
                <a:srgbClr val="948a54"/>
              </a:buClr>
              <a:buSzPct val="65000"/>
              <a:buFont typeface="Tahoma"/>
              <a:buAutoNum type="arabicPeriod"/>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VÍA INTRAMUSCULAR. </a:t>
            </a:r>
            <a:r>
              <a:rPr b="0" lang="es-ES" sz="2400" spc="-1" strike="noStrike">
                <a:solidFill>
                  <a:srgbClr val="1f497d"/>
                </a:solidFill>
                <a:latin typeface="Tahoma"/>
              </a:rPr>
              <a:t>Esta vía se utiliza en los casos siguientes:</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uando los fármacos se absorben mal o se degradan por vía oral o tienen metabolismo de primer paso importante.</a:t>
            </a: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asegurar el cumplimiento de un tratamiento terapéutico o como opción a otras vías de administración. Es una opción en pacientes quirúrgicos o con vómi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p:nvPr>
        </p:nvSpPr>
        <p:spPr>
          <a:xfrm>
            <a:off x="285480" y="2428920"/>
            <a:ext cx="8372520" cy="4000320"/>
          </a:xfrm>
          <a:prstGeom prst="rect">
            <a:avLst/>
          </a:prstGeom>
          <a:noFill/>
          <a:ln w="0">
            <a:noFill/>
          </a:ln>
        </p:spPr>
        <p:txBody>
          <a:bodyPr anchor="t">
            <a:normAutofit/>
          </a:bodyPr>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conseguir un efecto más rápido, ya que la rica vascularización muscular permite una rápida absorción que fluctúa entre 10 y 30 min.</a:t>
            </a:r>
            <a:endParaRPr b="0" lang="en-US" sz="2400" spc="-1" strike="noStrike">
              <a:solidFill>
                <a:srgbClr val="ffffff"/>
              </a:solidFill>
              <a:latin typeface="Tahoma"/>
            </a:endParaRPr>
          </a:p>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pH. </a:t>
            </a:r>
            <a:r>
              <a:rPr b="0" lang="es-ES" sz="2400" spc="-1" strike="noStrike">
                <a:solidFill>
                  <a:srgbClr val="1f497d"/>
                </a:solidFill>
                <a:latin typeface="Tahoma"/>
              </a:rPr>
              <a:t>Existen formulaciones farmacéuticas que tienen un pH muy distinto del que tiene el sitio de inyección muscular (aproximadamente 7,0). Ejemplo: la fenitoína inyectable está formulada a pH 12.</a:t>
            </a:r>
            <a:endParaRPr b="0" lang="en-US" sz="2400" spc="-1" strike="noStrike">
              <a:solidFill>
                <a:srgbClr val="ffffff"/>
              </a:solidFill>
              <a:latin typeface="Tahoma"/>
            </a:endParaRPr>
          </a:p>
          <a:p>
            <a:pPr lvl="1" marL="636480" indent="0" algn="just">
              <a:lnSpc>
                <a:spcPct val="120000"/>
              </a:lnSpc>
              <a:spcBef>
                <a:spcPts val="601"/>
              </a:spcBef>
              <a:spcAft>
                <a:spcPts val="1500"/>
              </a:spcAft>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285480" y="356760"/>
            <a:ext cx="8064360" cy="5715000"/>
          </a:xfrm>
          <a:prstGeom prst="rect">
            <a:avLst/>
          </a:prstGeom>
          <a:noFill/>
          <a:ln w="0">
            <a:noFill/>
          </a:ln>
        </p:spPr>
        <p:txBody>
          <a:bodyPr anchor="t">
            <a:normAutofit/>
          </a:bodyPr>
          <a:p>
            <a:pPr lvl="1" marL="625320" indent="-446040" algn="just">
              <a:lnSpc>
                <a:spcPct val="120000"/>
              </a:lnSpc>
              <a:spcBef>
                <a:spcPts val="601"/>
              </a:spcBef>
              <a:spcAft>
                <a:spcPts val="1500"/>
              </a:spcAft>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ega cantidades exactas pero a velocidades variables. Los factores que llevan a esta diferencia son: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ascularización del sitio de inyección</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Grado de ionización del fármaco</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Coeficiente de partición del fármaco</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olumen de la inyección</a:t>
            </a:r>
            <a:r>
              <a:rPr b="0" lang="es-ES" sz="2400" spc="-1" strike="noStrike">
                <a:solidFill>
                  <a:srgbClr val="1f497d"/>
                </a:solidFill>
                <a:latin typeface="Tahoma"/>
              </a:rPr>
              <a:t>.</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Osmolaridad de la solución</a:t>
            </a:r>
            <a:r>
              <a:rPr b="0" lang="es-ES" sz="2400" spc="-1" strike="noStrike">
                <a:solidFill>
                  <a:srgbClr val="1f497d"/>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p:nvPr>
        </p:nvSpPr>
        <p:spPr>
          <a:xfrm>
            <a:off x="71280" y="2025360"/>
            <a:ext cx="8715600" cy="4832280"/>
          </a:xfrm>
          <a:prstGeom prst="rect">
            <a:avLst/>
          </a:prstGeom>
          <a:noFill/>
          <a:ln w="0">
            <a:noFill/>
          </a:ln>
        </p:spPr>
        <p:txBody>
          <a:bodyPr anchor="t">
            <a:normAutofit fontScale="94000"/>
          </a:bodyPr>
          <a:p>
            <a:pPr lvl="1" marL="414720" indent="-246240" algn="just">
              <a:lnSpc>
                <a:spcPct val="114000"/>
              </a:lnSpc>
              <a:spcAft>
                <a:spcPts val="1001"/>
              </a:spcAft>
              <a:buClr>
                <a:srgbClr val="1f497d"/>
              </a:buClr>
              <a:buSzPct val="120000"/>
              <a:buFont typeface="Tahoma"/>
              <a:buChar cha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Sexo. </a:t>
            </a:r>
            <a:r>
              <a:rPr b="0" lang="es-ES" sz="2400" spc="-1" strike="noStrike">
                <a:solidFill>
                  <a:srgbClr val="1f497d"/>
                </a:solidFill>
                <a:latin typeface="Tahoma"/>
              </a:rPr>
              <a:t>En general las mujeres presentan menores velocidades de absorción y por tanto menores niveles plasmáticos cuando se comparan sitios de inyección equivalentes; esto podría deberse a una cantidad mayor de tejido adiposo en la mujer que en el hombre.</a:t>
            </a:r>
            <a:endParaRPr b="0" lang="en-US" sz="2400" spc="-1" strike="noStrike">
              <a:solidFill>
                <a:srgbClr val="ffffff"/>
              </a:solidFill>
              <a:latin typeface="Tahoma"/>
            </a:endParaRPr>
          </a:p>
          <a:p>
            <a:pPr lvl="1" marL="414720" indent="0" algn="just">
              <a:lnSpc>
                <a:spcPct val="114000"/>
              </a:lnSpc>
              <a:spcAft>
                <a:spcPts val="1001"/>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Sitios de inyección:  </a:t>
            </a:r>
            <a:r>
              <a:rPr b="0" lang="es-ES" sz="2400" spc="-1" strike="noStrike">
                <a:solidFill>
                  <a:srgbClr val="1f497d"/>
                </a:solidFill>
                <a:latin typeface="Tahoma"/>
              </a:rPr>
              <a:t>brazo: músculo deltoide,  muslo: músculo vastus lateralis, gluteo: músculo gluteus maximus. La diferencia se deben a que la irrigación de estos músculos difiere en estado de reposo y en ejercicio. Así, el deltoide presenta una mayor vascularización en reposo y por tanto, en estas condiciones la absorción es may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p:nvPr>
        </p:nvSpPr>
        <p:spPr>
          <a:xfrm>
            <a:off x="324000" y="2928600"/>
            <a:ext cx="8229600" cy="2714760"/>
          </a:xfrm>
          <a:prstGeom prst="rect">
            <a:avLst/>
          </a:prstGeom>
          <a:noFill/>
          <a:ln w="0">
            <a:noFill/>
          </a:ln>
        </p:spPr>
        <p:txBody>
          <a:bodyPr anchor="t">
            <a:normAutofit fontScale="79000"/>
          </a:bodyPr>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0" lang="es-ES" sz="2400" spc="-1" strike="noStrike">
                <a:solidFill>
                  <a:srgbClr val="1f497d"/>
                </a:solidFill>
                <a:latin typeface="Tahoma"/>
              </a:rPr>
              <a:t>El orden de absorción es:</a:t>
            </a:r>
            <a:endParaRPr b="0" lang="en-US" sz="2400" spc="-1" strike="noStrike">
              <a:solidFill>
                <a:srgbClr val="ffffff"/>
              </a:solidFill>
              <a:latin typeface="Tahoma"/>
            </a:endParaRPr>
          </a:p>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348480"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Hombres: </a:t>
            </a:r>
            <a:r>
              <a:rPr b="0" lang="es-ES" sz="2400" spc="-1" strike="noStrike">
                <a:solidFill>
                  <a:srgbClr val="1f497d"/>
                </a:solidFill>
                <a:latin typeface="Tahoma"/>
              </a:rPr>
              <a:t>Glúteos-deltoides &gt; vastus laterali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Mujeres: </a:t>
            </a:r>
            <a:r>
              <a:rPr b="0" lang="es-ES" sz="2400" spc="-1" strike="noStrike">
                <a:solidFill>
                  <a:srgbClr val="1f497d"/>
                </a:solidFill>
                <a:latin typeface="Tahoma"/>
              </a:rPr>
              <a:t>Deltoides &gt; vastus lateralis &gt; glúteo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Arial Narrow"/>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p:nvPr>
        </p:nvSpPr>
        <p:spPr>
          <a:xfrm>
            <a:off x="468360" y="0"/>
            <a:ext cx="8229600" cy="685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SUBCUTÁNEA</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114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de fármacos a nivel subcutáneo es influenciada por los mismos factores que la vía intramuscular. </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una vía con menor vascularización que la vía intramuscular, por lo tanto la absorción es más lenta.</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uede ser aumentada por el calor o la administración de hialuronidasa y puede disminuirse por la administración conjunta de epinefrina; este procedimiento se utiliza para prolongar el efecto  terapéutico, en especial de anestésicos loc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539640" y="260280"/>
            <a:ext cx="8229600" cy="6275520"/>
          </a:xfrm>
          <a:prstGeom prst="rect">
            <a:avLst/>
          </a:prstGeom>
          <a:noFill/>
          <a:ln w="0">
            <a:noFill/>
          </a:ln>
        </p:spPr>
        <p:txBody>
          <a:bodyPr anchor="t">
            <a:normAutofit fontScale="96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fármacos más comúnmente administrados por esta vía son las insulinas. La duración de su acción depende de su formulación.  Así,</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complejos de zinc e insulina amorfa son de corta acción y pobremente insolubles. El tamaño de las partículas es pequeño.</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insulina cristalina y Zinc son de acción prolongada. El tamaño de las partículas es grande.</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una mezcla de 7 partes de insulina cristalina y 3 partes de la amorfa en complejo con zinc tienen tiempo de acción intermed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7560"/>
            <a:ext cx="825804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VENTOS  ENTRE  LA  ADMINISTRACCIÓN </a:t>
            </a:r>
            <a:br>
              <a:rPr sz="2400"/>
            </a:br>
            <a:r>
              <a:rPr b="1" lang="es-ES" sz="2400" spc="-1" strike="noStrike">
                <a:solidFill>
                  <a:srgbClr val="ffffff"/>
                </a:solidFill>
                <a:latin typeface="Tahoma"/>
              </a:rPr>
              <a:t>Y   ACCIÓN  DE  FÁRMACOS</a:t>
            </a:r>
            <a:endParaRPr b="0" lang="en-US" sz="2400" spc="-1" strike="noStrike">
              <a:solidFill>
                <a:srgbClr val="eeece1"/>
              </a:solidFill>
              <a:latin typeface="Arial"/>
            </a:endParaRPr>
          </a:p>
        </p:txBody>
      </p:sp>
      <p:sp>
        <p:nvSpPr>
          <p:cNvPr id="573" name="PlaceHolder 2"/>
          <p:cNvSpPr>
            <a:spLocks noGrp="1"/>
          </p:cNvSpPr>
          <p:nvPr>
            <p:ph/>
          </p:nvPr>
        </p:nvSpPr>
        <p:spPr>
          <a:xfrm>
            <a:off x="628560" y="1999800"/>
            <a:ext cx="8229600" cy="4899240"/>
          </a:xfrm>
          <a:prstGeom prst="rect">
            <a:avLst/>
          </a:prstGeom>
          <a:noFill/>
          <a:ln w="0">
            <a:noFill/>
          </a:ln>
        </p:spPr>
        <p:txBody>
          <a:bodyPr anchor="t">
            <a:normAutofit fontScale="97000"/>
          </a:bodyPr>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dministración</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Parenteral</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Droga</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Sitios de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lmacenamiento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1                                                k3</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Tracto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Circula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Sitios de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Gastrintestinal</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1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3 </a:t>
            </a:r>
            <a:r>
              <a:rPr b="1" lang="es-ES" sz="1400" spc="-1" strike="noStrike">
                <a:solidFill>
                  <a:srgbClr val="1f497d"/>
                </a:solidFill>
                <a:latin typeface="Tahoma"/>
              </a:rPr>
              <a:t>	</a:t>
            </a:r>
            <a:r>
              <a:rPr b="1" lang="es-ES" sz="1400" spc="-1" strike="noStrike">
                <a:solidFill>
                  <a:srgbClr val="1f497d"/>
                </a:solidFill>
                <a:latin typeface="Tahoma"/>
              </a:rPr>
              <a:t>Acción</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6        k7</a:t>
            </a:r>
            <a:r>
              <a:rPr b="1" lang="es-ES" sz="1400" spc="-1" strike="noStrike">
                <a:solidFill>
                  <a:srgbClr val="1f497d"/>
                </a:solidFill>
                <a:latin typeface="Tahoma"/>
              </a:rPr>
              <a:t>	</a:t>
            </a:r>
            <a:r>
              <a:rPr b="1" lang="es-ES" sz="1400" spc="-1" strike="noStrike">
                <a:solidFill>
                  <a:srgbClr val="1f497d"/>
                </a:solidFill>
                <a:latin typeface="Tahoma"/>
              </a:rPr>
              <a:t>           k4       k5</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8</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Metabolismo</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Excre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9</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p:txBody>
      </p:sp>
      <p:sp>
        <p:nvSpPr>
          <p:cNvPr id="574" name="Line 6"/>
          <p:cNvSpPr/>
          <p:nvPr/>
        </p:nvSpPr>
        <p:spPr>
          <a:xfrm>
            <a:off x="1647720" y="3224160"/>
            <a:ext cx="0" cy="936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5" name="Line 7"/>
          <p:cNvSpPr/>
          <p:nvPr/>
        </p:nvSpPr>
        <p:spPr>
          <a:xfrm>
            <a:off x="3591000" y="2863800"/>
            <a:ext cx="0" cy="720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6" name="Line 8"/>
          <p:cNvSpPr/>
          <p:nvPr/>
        </p:nvSpPr>
        <p:spPr>
          <a:xfrm>
            <a:off x="3087720" y="4303800"/>
            <a:ext cx="1079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7" name="Line 9"/>
          <p:cNvSpPr/>
          <p:nvPr/>
        </p:nvSpPr>
        <p:spPr>
          <a:xfrm flipH="1">
            <a:off x="3014640" y="4448160"/>
            <a:ext cx="115272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8" name="Line 10"/>
          <p:cNvSpPr/>
          <p:nvPr/>
        </p:nvSpPr>
        <p:spPr>
          <a:xfrm>
            <a:off x="6111720" y="4303800"/>
            <a:ext cx="863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9" name="Line 12"/>
          <p:cNvSpPr/>
          <p:nvPr/>
        </p:nvSpPr>
        <p:spPr>
          <a:xfrm flipH="1">
            <a:off x="6111360" y="4448160"/>
            <a:ext cx="79236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0" name="Line 13"/>
          <p:cNvSpPr/>
          <p:nvPr/>
        </p:nvSpPr>
        <p:spPr>
          <a:xfrm>
            <a:off x="4959360" y="358452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1" name="Line 14"/>
          <p:cNvSpPr/>
          <p:nvPr/>
        </p:nvSpPr>
        <p:spPr>
          <a:xfrm flipV="1">
            <a:off x="5175360" y="351108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2" name="Line 17"/>
          <p:cNvSpPr/>
          <p:nvPr/>
        </p:nvSpPr>
        <p:spPr>
          <a:xfrm>
            <a:off x="4959360" y="4737240"/>
            <a:ext cx="504720" cy="7189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3" name="Line 18"/>
          <p:cNvSpPr/>
          <p:nvPr/>
        </p:nvSpPr>
        <p:spPr>
          <a:xfrm flipH="1" flipV="1">
            <a:off x="5103720" y="4592160"/>
            <a:ext cx="503280" cy="792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4" name="Line 19"/>
          <p:cNvSpPr/>
          <p:nvPr/>
        </p:nvSpPr>
        <p:spPr>
          <a:xfrm flipH="1">
            <a:off x="6903720" y="4737240"/>
            <a:ext cx="576360" cy="7905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Line 20"/>
          <p:cNvSpPr/>
          <p:nvPr/>
        </p:nvSpPr>
        <p:spPr>
          <a:xfrm flipV="1">
            <a:off x="7120080" y="4808520"/>
            <a:ext cx="502920" cy="71928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6" name="Line 22"/>
          <p:cNvSpPr/>
          <p:nvPr/>
        </p:nvSpPr>
        <p:spPr>
          <a:xfrm flipH="1">
            <a:off x="4455720" y="5816520"/>
            <a:ext cx="1655640" cy="432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7" name="Line 23"/>
          <p:cNvSpPr/>
          <p:nvPr/>
        </p:nvSpPr>
        <p:spPr>
          <a:xfrm flipH="1">
            <a:off x="3951000" y="4592520"/>
            <a:ext cx="647640" cy="1440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p:nvPr>
        </p:nvSpPr>
        <p:spPr>
          <a:xfrm>
            <a:off x="684360" y="428760"/>
            <a:ext cx="7704000" cy="4898880"/>
          </a:xfrm>
          <a:prstGeom prst="rect">
            <a:avLst/>
          </a:prstGeom>
          <a:noFill/>
          <a:ln w="0">
            <a:noFill/>
          </a:ln>
        </p:spPr>
        <p:txBody>
          <a:bodyPr anchor="t">
            <a:normAutofit fontScale="85000"/>
          </a:bodyPr>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3. VÍA CUTÁNEA O DÉRMICA</a:t>
            </a:r>
            <a:endParaRPr b="0" lang="en-US" sz="2400" spc="-1" strike="noStrike">
              <a:solidFill>
                <a:srgbClr val="ffffff"/>
              </a:solidFill>
              <a:latin typeface="Tahoma"/>
            </a:endParaRPr>
          </a:p>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9960" indent="0" algn="ctr">
              <a:lnSpc>
                <a:spcPct val="120000"/>
              </a:lnSpc>
              <a:spcBef>
                <a:spcPts val="51"/>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lujo sanguíneo es menor que en la vía intramuscular, por lo que la absorción es más lenta.</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importante considerar el estado de la pie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sistemas terapéuticos transdérmicos (s.t.t.).</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administra: nicotina, anticonceptivos, vasodilatadores coronar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p:nvPr>
        </p:nvSpPr>
        <p:spPr>
          <a:xfrm>
            <a:off x="684360" y="2115720"/>
            <a:ext cx="7959600" cy="4884840"/>
          </a:xfrm>
          <a:prstGeom prst="rect">
            <a:avLst/>
          </a:prstGeom>
          <a:noFill/>
          <a:ln w="0">
            <a:noFill/>
          </a:ln>
        </p:spPr>
        <p:txBody>
          <a:bodyPr anchor="t">
            <a:normAutofit/>
          </a:bodyPr>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de ingreso de tóxicos por exposición accidental.</a:t>
            </a:r>
            <a:endParaRPr b="0" lang="en-US" sz="2400" spc="-1" strike="noStrike">
              <a:solidFill>
                <a:srgbClr val="ffffff"/>
              </a:solidFill>
              <a:latin typeface="Tahoma"/>
            </a:endParaRPr>
          </a:p>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ngreso por iontoforesis.</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sminuye la absorción cuando hay hipotensión, vasoconstricción por frío o por administración de vasoconstrictores. Al contrario, aumenta cuando hay vasodilatación por calor o los fármacos se administran junto con hialuronidasa.</a:t>
            </a:r>
            <a:endParaRPr b="0" lang="en-US" sz="2400" spc="-1" strike="noStrike">
              <a:solidFill>
                <a:srgbClr val="ffffff"/>
              </a:solidFill>
              <a:latin typeface="Tahoma"/>
            </a:endParaRPr>
          </a:p>
          <a:p>
            <a:pPr marL="343080" indent="0" algn="ctr">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497d"/>
                </a:solidFill>
                <a:latin typeface="Tahoma"/>
              </a:rPr>
              <a:t>Averigüe qué efecto produce la hialuronidasa</a:t>
            </a:r>
            <a:endParaRPr b="0" lang="en-US" sz="2800" spc="-1" strike="noStrike">
              <a:solidFill>
                <a:srgbClr val="ffffff"/>
              </a:solidFill>
              <a:latin typeface="Tahoma"/>
            </a:endParaRPr>
          </a:p>
          <a:p>
            <a:pPr marL="343080" indent="0">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p:nvPr>
        </p:nvSpPr>
        <p:spPr>
          <a:xfrm>
            <a:off x="610920" y="406440"/>
            <a:ext cx="7848360" cy="5975280"/>
          </a:xfrm>
          <a:prstGeom prst="rect">
            <a:avLst/>
          </a:prstGeom>
          <a:noFill/>
          <a:ln w="0">
            <a:noFill/>
          </a:ln>
        </p:spPr>
        <p:txBody>
          <a:bodyPr anchor="t">
            <a:normAutofit fontScale="93000"/>
          </a:bodyPr>
          <a:p>
            <a:pPr marL="3189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4. VÍA RESPIRATORIA</a:t>
            </a:r>
            <a:endParaRPr b="0" lang="en-US" sz="2400" spc="-1" strike="noStrike">
              <a:solidFill>
                <a:srgbClr val="ffffff"/>
              </a:solidFill>
              <a:latin typeface="Tahoma"/>
            </a:endParaRPr>
          </a:p>
          <a:p>
            <a:pPr marL="31896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    </a:t>
            </a:r>
            <a:r>
              <a:rPr b="1" lang="es-ES" sz="2400" spc="-1" strike="noStrike">
                <a:solidFill>
                  <a:srgbClr val="ffffff"/>
                </a:solidFill>
                <a:latin typeface="Tahoma"/>
              </a:rPr>
              <a:t>AEROSOLES</a:t>
            </a:r>
            <a:endParaRPr b="0" lang="en-US" sz="24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alto grado de vascularizacióm de los pulmones sugiere que el fármaco que se coloca a nivel de este sitio puede ser rápidamente absorbido.</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estudios se refieren a la absorción de gases por esta vía. Existen pocos estudios cuantitativos relacionados con formas farmacéuticas líquidas o sólidas.</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or esta vía se produce aparentemente por difusión pasiva a través de la matriz lipíd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56760" y="333000"/>
            <a:ext cx="8318520" cy="6335640"/>
          </a:xfrm>
          <a:prstGeom prst="rect">
            <a:avLst/>
          </a:prstGeom>
          <a:noFill/>
          <a:ln w="0">
            <a:noFill/>
          </a:ln>
        </p:spPr>
        <p:txBody>
          <a:bodyPr anchor="t">
            <a:normAutofit fontScale="99000"/>
          </a:bodyPr>
          <a:p>
            <a:pPr marL="348840" indent="-3488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aerosoles son de acción local (broncodilatadores, corticoides, antihistamínicos), aunque esta vía podría ser empleada para lograr acción sistémica.  El factor crítico es el tamaño de las partículas. Así,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20 micrones impactan en la parte superior: boca, garganta y árbol respiratorio superior;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0,6 micrones penetran más eficientemente hacia la periferia del árbol respiratorio;</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más  pequeñas aún, impactan en la parte más inferior del árbol respiratorio, siendo más rápida la velocidad de disolución y absor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3" name="Picture 6" descr="~AUT0021"/>
          <p:cNvPicPr/>
          <p:nvPr/>
        </p:nvPicPr>
        <p:blipFill>
          <a:blip r:embed="rId2"/>
          <a:stretch/>
        </p:blipFill>
        <p:spPr>
          <a:xfrm>
            <a:off x="1187280" y="763560"/>
            <a:ext cx="6913800" cy="51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4" name="Picture 4" descr="~AUT0041"/>
          <p:cNvPicPr/>
          <p:nvPr/>
        </p:nvPicPr>
        <p:blipFill>
          <a:blip r:embed="rId2"/>
          <a:stretch/>
        </p:blipFill>
        <p:spPr>
          <a:xfrm>
            <a:off x="1042920" y="692280"/>
            <a:ext cx="7058160" cy="511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p:nvPr>
        </p:nvSpPr>
        <p:spPr>
          <a:xfrm>
            <a:off x="539640" y="764640"/>
            <a:ext cx="8229600" cy="525636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5. VÍA VAGINAL</a:t>
            </a: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Hemorroidal Media </a:t>
            </a:r>
            <a:r>
              <a:rPr b="0" lang="es-ES" sz="2400" spc="-1" strike="noStrike">
                <a:solidFill>
                  <a:srgbClr val="1f497d"/>
                </a:solidFill>
                <a:latin typeface="Wingdings"/>
                <a:ea typeface="Wingdings"/>
              </a:rPr>
              <a:t></a:t>
            </a:r>
            <a:r>
              <a:rPr b="0" lang="es-ES" sz="2400" spc="-1" strike="noStrike">
                <a:solidFill>
                  <a:srgbClr val="1f497d"/>
                </a:solidFill>
                <a:latin typeface="Tahoma"/>
              </a:rPr>
              <a:t> Plexo Vaginal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 Evita el sistema port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bsorción irregular y poco predecible.</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Formas farmacéuticas importantes para determinar efectos sisté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p:nvPr>
        </p:nvSpPr>
        <p:spPr>
          <a:xfrm>
            <a:off x="785520" y="642960"/>
            <a:ext cx="7775640" cy="3889440"/>
          </a:xfrm>
          <a:prstGeom prst="rect">
            <a:avLst/>
          </a:prstGeom>
          <a:noFill/>
          <a:ln w="0">
            <a:noFill/>
          </a:ln>
        </p:spPr>
        <p:txBody>
          <a:bodyPr anchor="t">
            <a:normAutofit fontScale="82000"/>
          </a:bodyPr>
          <a:p>
            <a:pPr marL="2811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6. VÍA OCULAR</a:t>
            </a: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conseguir efectos locales (miosis, midriasis, infecciones bacterianas, anestesia).</a:t>
            </a: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uede obtenerse efecto sistémico después de dosis repetidas a través del ducto lacrimal hacia la cavidad nasal que luego va al tracto gastrointestinal, absorbiéndose a este niv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p:nvPr>
        </p:nvSpPr>
        <p:spPr>
          <a:xfrm>
            <a:off x="468000" y="499680"/>
            <a:ext cx="8218440" cy="4824360"/>
          </a:xfrm>
          <a:prstGeom prst="rect">
            <a:avLst/>
          </a:prstGeom>
          <a:noFill/>
          <a:ln w="0">
            <a:noFill/>
          </a:ln>
        </p:spPr>
        <p:txBody>
          <a:bodyPr anchor="t">
            <a:normAutofit fontScale="80000"/>
          </a:bodyPr>
          <a:p>
            <a:pPr marL="219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7. VÍAS TÓPICAS</a:t>
            </a: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mplica la aplicación de la droga en el lugar directo donde va a actuar.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s dosis en este último caso son suficientes para producir altas concentraciones locales, pero no tan grandes como para que ellas alcancen altas concentraciones al difundir a la circulación sanguínea.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os ejemplos incluyen el uso de ungüentos, cremas, lociones, polvos o aeroso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1961640"/>
            <a:ext cx="8229600" cy="468180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sencia de inflamación ocular cambia un tanto las características de permeabilidad del sistema, por lo tanto, este hecho debe ser considerado.</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a vez instiladas las gotas oculares se produce una pérdida inmediata por drenaje. Se ha establecido que el ojo soporta alrededor de  10 microlitros de fluido, el resto se pier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a:t>
            </a:r>
            <a:br>
              <a:rPr sz="2400"/>
            </a:br>
            <a:endParaRPr b="0" lang="en-US" sz="2400" spc="-1" strike="noStrike">
              <a:solidFill>
                <a:srgbClr val="eeece1"/>
              </a:solidFill>
              <a:latin typeface="Arial"/>
            </a:endParaRPr>
          </a:p>
        </p:txBody>
      </p:sp>
      <p:sp>
        <p:nvSpPr>
          <p:cNvPr id="589" name="PlaceHolder 2"/>
          <p:cNvSpPr>
            <a:spLocks noGrp="1"/>
          </p:cNvSpPr>
          <p:nvPr>
            <p:ph/>
          </p:nvPr>
        </p:nvSpPr>
        <p:spPr>
          <a:xfrm>
            <a:off x="755640" y="2214720"/>
            <a:ext cx="7704000" cy="4464000"/>
          </a:xfrm>
          <a:prstGeom prst="rect">
            <a:avLst/>
          </a:prstGeom>
          <a:noFill/>
          <a:ln w="0">
            <a:noFill/>
          </a:ln>
        </p:spPr>
        <p:txBody>
          <a:bodyPr anchor="t">
            <a:normAutofit fontScale="99000"/>
          </a:bodyPr>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eficiente de partición lípido/agu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diente de pH entre la vía de administración y el plasm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Tipo de acción requerida: local </a:t>
            </a:r>
            <a:r>
              <a:rPr b="0" i="1" lang="es-ES" sz="2400" spc="-1" strike="noStrike">
                <a:solidFill>
                  <a:srgbClr val="1f497d"/>
                </a:solidFill>
                <a:latin typeface="Tahoma"/>
              </a:rPr>
              <a:t>vs</a:t>
            </a:r>
            <a:r>
              <a:rPr b="0" lang="es-ES" sz="2400" spc="-1" strike="noStrike">
                <a:solidFill>
                  <a:srgbClr val="1f497d"/>
                </a:solidFill>
                <a:latin typeface="Tahoma"/>
              </a:rPr>
              <a:t> sistémic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scularización de la vía. densidad irrigación.</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redicción entre la dosis y el efecto clínico.</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vedad del cuadro patológ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99680" y="401760"/>
            <a:ext cx="8001000" cy="6099120"/>
          </a:xfrm>
          <a:prstGeom prst="rect">
            <a:avLst/>
          </a:prstGeom>
          <a:noFill/>
          <a:ln w="0">
            <a:noFill/>
          </a:ln>
        </p:spPr>
        <p:txBody>
          <a:bodyPr anchor="t">
            <a:normAutofit/>
          </a:bodyPr>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epidural (anestésicos).</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tecal: se usa para fármacos que no atraviesan la barrera hematoencefálica.</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ventricular: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conjuntiv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esic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agin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uretr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peritoneal: administración de grandes volúmenes cuando la vía intravenosa no se puede us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0" name="Picture 4" descr=""/>
          <p:cNvPicPr/>
          <p:nvPr/>
        </p:nvPicPr>
        <p:blipFill>
          <a:blip r:embed="rId2"/>
          <a:stretch/>
        </p:blipFill>
        <p:spPr>
          <a:xfrm>
            <a:off x="1093680" y="620640"/>
            <a:ext cx="7048440" cy="5472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285480" y="571320"/>
            <a:ext cx="6072120" cy="2950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a:t>
            </a:r>
            <a:r>
              <a:rPr b="1" i="1" lang="es-CL" sz="2800" spc="-1" strike="noStrike">
                <a:solidFill>
                  <a:srgbClr val="948a54"/>
                </a:solidFill>
                <a:latin typeface="Tahoma"/>
              </a:rPr>
              <a:t>Nunca enseño a mis alumn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lo único que hago es darles l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medios para que aprendan”</a:t>
            </a:r>
            <a:endParaRPr b="0" lang="en-US" sz="28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Albert Einstein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1879 – 195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 (2)</a:t>
            </a:r>
            <a:endParaRPr b="0" lang="en-US" sz="2400" spc="-1" strike="noStrike">
              <a:solidFill>
                <a:srgbClr val="eeece1"/>
              </a:solidFill>
              <a:latin typeface="Arial"/>
            </a:endParaRPr>
          </a:p>
        </p:txBody>
      </p:sp>
      <p:sp>
        <p:nvSpPr>
          <p:cNvPr id="591" name="PlaceHolder 2"/>
          <p:cNvSpPr>
            <a:spLocks noGrp="1"/>
          </p:cNvSpPr>
          <p:nvPr>
            <p:ph/>
          </p:nvPr>
        </p:nvSpPr>
        <p:spPr>
          <a:xfrm>
            <a:off x="1042920" y="2142720"/>
            <a:ext cx="7315200" cy="4786200"/>
          </a:xfrm>
          <a:prstGeom prst="rect">
            <a:avLst/>
          </a:prstGeom>
          <a:noFill/>
          <a:ln w="0">
            <a:noFill/>
          </a:ln>
        </p:spPr>
        <p:txBody>
          <a:bodyPr anchor="t">
            <a:normAutofit fontScale="96000"/>
          </a:bodyPr>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ficultad con la deglución.</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Naturaleza del fármaco. estabilidad del fármaco.</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itmos circadianos.</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Quiralidad de los fármacos.</a:t>
            </a:r>
            <a:endParaRPr b="0" lang="en-US" sz="2400" spc="-1" strike="noStrike">
              <a:solidFill>
                <a:srgbClr val="ffffff"/>
              </a:solidFill>
              <a:latin typeface="Tahoma"/>
            </a:endParaRPr>
          </a:p>
          <a:p>
            <a:pPr marL="3290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e estos antecedentes se deriva que la concentración que se alcanza en el lugar de acción de un fármaco es la consecuencia de los procesos siguien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785520" y="999720"/>
            <a:ext cx="7705800" cy="4643640"/>
          </a:xfrm>
          <a:prstGeom prst="rect">
            <a:avLst/>
          </a:prstGeom>
          <a:noFill/>
          <a:ln w="0">
            <a:noFill/>
          </a:ln>
        </p:spPr>
        <p:txBody>
          <a:bodyPr anchor="t">
            <a:normAutofit fontScale="92000"/>
          </a:bodyPr>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L</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Liberación del fármaco de su forma farmacéutica.</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A</a:t>
            </a:r>
            <a:r>
              <a:rPr b="1" lang="es-ES" sz="2400" spc="-1" strike="noStrike">
                <a:solidFill>
                  <a:srgbClr val="ffffff"/>
                </a:solidFill>
                <a:latin typeface="Tahoma"/>
              </a:rPr>
              <a:t>	</a:t>
            </a:r>
            <a:r>
              <a:rPr b="0" lang="es-ES" sz="2400" spc="-1" strike="noStrike">
                <a:solidFill>
                  <a:srgbClr val="ffffff"/>
                </a:solidFill>
                <a:latin typeface="Tahoma"/>
              </a:rPr>
              <a:t>Absorción: entrada del fármaco al organismo hasta la circulación sistémica. </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D</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Distribución del fármaco para que llegue desde la circulación sistémica hasta los tejidos blancos.</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M</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Metabolismo: transformación del fármaco para ser eliminado del organismo.</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E </a:t>
            </a:r>
            <a:r>
              <a:rPr b="1" lang="es-ES" sz="2400" spc="-1" strike="noStrike">
                <a:solidFill>
                  <a:srgbClr val="ffffff"/>
                </a:solidFill>
                <a:latin typeface="Tahoma"/>
              </a:rPr>
              <a:t>	</a:t>
            </a:r>
            <a:r>
              <a:rPr b="0" lang="es-ES" sz="2400" spc="-1" strike="noStrike">
                <a:solidFill>
                  <a:srgbClr val="ffffff"/>
                </a:solidFill>
                <a:latin typeface="Tahoma"/>
              </a:rPr>
              <a:t>Eliminación del fármaco ya sea metabolizado o por excreción en su estado inalter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599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OMPONENTES  DE  LA  CURVA  CONCENTRACIÓN </a:t>
            </a:r>
            <a:r>
              <a:rPr b="1" i="1" lang="es-ES_tradnl" sz="2400" spc="-1" strike="noStrike">
                <a:solidFill>
                  <a:srgbClr val="ffffff"/>
                </a:solidFill>
                <a:latin typeface="Tahoma"/>
              </a:rPr>
              <a:t>vs </a:t>
            </a:r>
            <a:r>
              <a:rPr b="1" lang="es-ES_tradnl" sz="2400" spc="-1" strike="noStrike">
                <a:solidFill>
                  <a:srgbClr val="ffffff"/>
                </a:solidFill>
                <a:latin typeface="Tahoma"/>
              </a:rPr>
              <a:t>TIEMPO DESPUÉS  DE  LA  ADMINISTRACIÓN  ORAL  DE  UNA  DROGA</a:t>
            </a:r>
            <a:endParaRPr b="0" lang="en-US" sz="2400" spc="-1" strike="noStrike">
              <a:solidFill>
                <a:srgbClr val="eeece1"/>
              </a:solidFill>
              <a:latin typeface="Arial"/>
            </a:endParaRPr>
          </a:p>
        </p:txBody>
      </p:sp>
      <p:pic>
        <p:nvPicPr>
          <p:cNvPr id="594" name="Picture 4" descr=""/>
          <p:cNvPicPr/>
          <p:nvPr/>
        </p:nvPicPr>
        <p:blipFill>
          <a:blip r:embed="rId1"/>
          <a:stretch/>
        </p:blipFill>
        <p:spPr>
          <a:xfrm>
            <a:off x="1214280" y="2222640"/>
            <a:ext cx="6643800" cy="39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404280"/>
            <a:ext cx="8229600" cy="74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VÍAS  DE  ADMINISTRACIÓN  DE  FÁRMACOS</a:t>
            </a:r>
            <a:endParaRPr b="0" lang="en-US" sz="2400" spc="-1" strike="noStrike">
              <a:solidFill>
                <a:srgbClr val="eeece1"/>
              </a:solidFill>
              <a:latin typeface="Arial"/>
            </a:endParaRPr>
          </a:p>
        </p:txBody>
      </p:sp>
      <p:sp>
        <p:nvSpPr>
          <p:cNvPr id="596" name="PlaceHolder 2"/>
          <p:cNvSpPr>
            <a:spLocks noGrp="1"/>
          </p:cNvSpPr>
          <p:nvPr>
            <p:ph/>
          </p:nvPr>
        </p:nvSpPr>
        <p:spPr>
          <a:xfrm>
            <a:off x="5000400" y="2687760"/>
            <a:ext cx="3786120" cy="3456000"/>
          </a:xfrm>
          <a:prstGeom prst="rect">
            <a:avLst/>
          </a:prstGeom>
          <a:noFill/>
          <a:ln w="0">
            <a:noFill/>
          </a:ln>
        </p:spPr>
        <p:txBody>
          <a:bodyPr anchor="t">
            <a:normAutofit/>
          </a:bodyPr>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URETRAL</a:t>
            </a:r>
            <a:endParaRPr b="0" lang="en-US" sz="2200" spc="-1" strike="noStrike">
              <a:solidFill>
                <a:srgbClr val="ffffff"/>
              </a:solidFill>
              <a:latin typeface="Tahoma"/>
            </a:endParaRPr>
          </a:p>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VENOS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MUSCULAR</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CUTÁNE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ARTERIAL</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PERITONEAL </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RAQUÍDEA</a:t>
            </a:r>
            <a:endParaRPr b="0" lang="en-US" sz="2200" spc="-1" strike="noStrike">
              <a:solidFill>
                <a:srgbClr val="ffffff"/>
              </a:solidFill>
              <a:latin typeface="Tahoma"/>
            </a:endParaRPr>
          </a:p>
        </p:txBody>
      </p:sp>
      <p:sp>
        <p:nvSpPr>
          <p:cNvPr id="597" name="Text Box 4"/>
          <p:cNvSpPr/>
          <p:nvPr/>
        </p:nvSpPr>
        <p:spPr>
          <a:xfrm>
            <a:off x="714240" y="2184480"/>
            <a:ext cx="4572000" cy="3699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R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LINGU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RECT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VAGIN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TRACTO RESPIRATORIO</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CULAR</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PIE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GASTRO-INTESTINAL</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8" name="Picture 4" descr="~AUT0000"/>
          <p:cNvPicPr/>
          <p:nvPr/>
        </p:nvPicPr>
        <p:blipFill>
          <a:blip r:embed="rId2"/>
          <a:stretch/>
        </p:blipFill>
        <p:spPr>
          <a:xfrm>
            <a:off x="1042920" y="965160"/>
            <a:ext cx="727416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Paula</cp:lastModifiedBy>
  <dcterms:modified xsi:type="dcterms:W3CDTF">2010-07-27T23:20:27Z</dcterms:modified>
  <cp:revision>81</cp:revision>
  <dc:subject/>
  <dc:title>VÍAS DE ADMINISTRACIÓN Y ABSORCIÓN DE FÁRMACOS</dc:title>
</cp:coreProperties>
</file>