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CC29A-238C-4C78-A30A-D305387F0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23825-D005-46B8-92CD-7CF6B4BFB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94E195-B9FF-4DAE-9D73-D5D6BAEDB3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AF5E98-BB9F-43A0-973D-9BA2355CB9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E0015-2931-4B6A-B5DF-D381198FFA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63661D-6CFE-4149-B4C4-6D68C9ED1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CE6AA-2C42-439F-ACBB-7AD7B570C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2D3180-2249-494E-8872-AE8BBCD46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D936C-9167-4666-A455-33F41566A2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1E074C-FC8E-4DA0-A7BD-0D90B7F96E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E14FF2-7032-44BE-8565-D02494CE0A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9C45F5-3AFC-4772-83B7-B6629B607FF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DDCE9-FA6C-484C-B5B2-5A3C57516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D7FACA-889A-4781-B3A6-E2765A7029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6ABB37-731D-4399-9FC3-441D24F26B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61CE46-BCFE-4EBC-8019-799C3AFBF4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33BDD0-FA4B-4A87-B829-4D6DB3937D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36EB12-D2A5-4230-A6B5-89C6CDC5AC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0F0409-A9E1-465A-B47A-D5B516E79A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7984E5-A710-45A2-B016-A6057092DB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F67A3C-5967-4FFB-9496-76FCFCDE9E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C00A68-70E9-400C-879B-6319474DD4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9722DA-7133-4F3E-BEB0-10387DD7BE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7FC9C-1227-4236-80F8-5C241C5FE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5F8A6B-9A11-426F-A27F-3268C5AE8D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4E04D6-D970-45FC-A96F-5E4FA1A1FB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43D079-C902-4373-825A-57865BEF34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9194DE-6D1A-4D78-B155-77EAB17B0E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47D3AD-51F9-4803-8851-7E705264F5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07D4E0-18DE-4910-9353-EB88016776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B16E57-3993-4DFB-969A-519D96BE07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717B8B-45A3-4623-B6FC-2BBBCB25AD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73CBB7-AD24-431B-8923-7C45BC038F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4620D1-10BE-46B6-812D-D1241F3019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BFE30-CDE0-46F1-99DA-86FB0DF65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44AAF3-9AD9-413B-ADA3-EE421D8BF0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9C2282-593A-4518-AEDC-FB24F10FF9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9EEEF0-1D46-4723-A8FA-5EB32621C7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751A4BF-6A2B-43F7-A0EB-5DB2891889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6C674E-19D8-4383-A7FF-115B140625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1742D5-CC41-4702-A137-D5D10CE219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8D887A-B2E0-478C-9A63-B9B5F740B4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E64E7C-6CB9-42DD-83BE-FCF59F0FA9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ABB018-9721-4E0E-87D9-26B87C66D3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80CF14-089C-4BB8-BAE7-67EC9B33E0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3B88C-B89B-447F-B820-63A2500D7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B8D65F-8309-44C5-8AD2-8B1140B916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6CE591-1B39-4FB1-A75E-2D6E907539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1EE05C-A008-4CAE-8254-5A26F339CC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783535-C606-40C6-B944-A34EEE1AA4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5F58B3-5F6D-4915-A82A-9DFC1DD324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A5E08B-7CF2-45DE-BCAC-C99EFE3D921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7F4C8C-8B02-4FCB-B1EF-0B85BC6A01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4E7665-EFC2-43D8-A4DC-98157CBE91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7DD8AD-3935-4116-B736-D9DD41BA07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B50058-DF35-42DF-82B8-ABA7048E0A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E0A2B-4A6A-43B8-85BE-9D7A81BB9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56F038-8844-481E-99BE-F4291724D3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B01948-0079-48D2-9DB9-8CA242D420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7E8577-AEF1-467A-91ED-0B304B0652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F7C2B8-7797-4DFE-9761-1855D3187C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384CFB-7FD3-4699-84CD-71DA67C064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47C0A9-2AEB-4F9F-B5A9-2193D9F3F5B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BAB430-A214-42F2-B6D3-95DC8198F18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806D1-DA76-423F-90CB-E2A575840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536BB-4D1A-4116-BBBC-4CC450B4B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0162E-961C-4C3A-8B33-293A3B416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4681C-6236-4CE2-93DA-ED46E6931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EC507-3F94-4280-BC2A-4F8CB937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135C0-D1CA-4ED8-8DA2-C8BA4CFF3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EC0AC-272B-4187-8642-233C604F6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CADE7-63CD-4475-AD83-6EC8B0EC0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A4A1A-3103-4C1F-9769-8F24B68ED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C75CA-2378-4E1D-842A-64721067C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FEAB81-66AB-44A5-97C8-8FBBD22711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D21C1-EF9F-4417-8B0C-DC82CB1FA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47B91-E2A4-43F4-B462-677F2F4EA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9A2A7-502B-4908-BCD8-14702BEF6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B67B8-37A5-42F6-8796-58B160A80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93A88-0797-4004-9C9B-DE3AD8C30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C2CD7-BFEA-4420-ABF6-FDE36CAF4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DA1D2-4A7D-4A93-8FA9-A46518D90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DC887-95EC-44F5-BB72-C6B62F3AF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23BF7-7CDC-457A-B382-06E3E4DE0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B7F33-9F12-444A-BF25-F604BC2F0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31F1BF-1CD5-4CFD-B31D-85F547A28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D0F5EE-9C0E-4697-8ED0-78CBEE626D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71C60F-3DEE-4A37-89AD-DA947CEA12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10B8B-0BBE-43ED-A1AB-8F672365F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F5911-DC16-4834-9512-1235ED7E1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16E67-C381-452C-B4E2-BAD0F436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DD4BF-6FBC-4096-B6A6-79C0E5B79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2D3B60-E236-4A22-940D-3F8E82BC4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B08012-D16C-4AF8-B97D-E19191965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22F4F-68F4-4CC0-84C8-6024CCF23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28512-7096-446F-AEA2-10A6FFC4B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38556-594B-478B-B95D-B7E6A0D31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F3538-7059-412E-83EC-1EFD715DF4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F6829A-5D49-447F-B3EC-7F2E90DCED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535543-D5B2-4FED-8463-103948B905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93106C-1A97-43AD-892F-A9AF735FD5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DCB4-42CB-4082-91F6-20C2C5A36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106D1B-5D7F-4705-9951-D7467C171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8DA5F-3DC9-480F-BD7F-806804A8E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357F4C-67B7-4367-BA01-2851F04643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CE0721-3056-485E-9D52-82896695E3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B8EA0-DE89-4281-8A2C-0565FD0FA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56EB85-352F-454D-B0E8-1DAB7A1CF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445AA-2567-4743-96A3-34E310A60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0AF8B-2969-4592-88FC-231EE23F2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0FD87-6DD0-41E6-A5A7-7341E422E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A8A649-1601-437B-88E5-54E78B55C5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55C6-C985-46E2-959C-9D66191E8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2EF135-CC39-4D24-B885-AA33BA12D2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DB1104-5D6E-4F19-96D4-A08385BD42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CAACB0-BD8D-4896-A82A-E59D42C743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E8DB3-C387-4112-8101-A99C64B99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192C1-69E9-4B67-A460-CFA0DBCB44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16BF70-FAA0-4E57-A527-6D097383BB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DEE87D-01F0-49EE-9B19-87F5FF47E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2793B1-6307-4B91-900C-CEBDD2F47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4199B-A374-4B5D-824A-AE84819E8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C51F9-F34F-4661-8F3D-50C24A817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B0FF3-1411-434D-B23B-67B07FCC9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FECBC3-0879-49ED-A8A3-8D26F37D3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1C40B4-F823-474E-823B-0A7B1E15A0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D40138-D4F6-4749-9A93-978A07AF58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31C65F-FD46-4D60-8F9B-F34CA6E666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1809E-E63C-4696-933F-62E48A6D62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BBB878-B793-435E-97E5-789065C442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B889C-9637-4859-8413-8B0BB03C8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2C5BE4-78CD-440C-9E1C-197AA33D2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81EC4-948F-48E2-81F2-DDB54E98A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E8013-D303-403E-85E5-7D6017BA3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1548-FF4E-41D2-AA22-A91A21EAB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5F6DE8-E54C-40CF-865B-19EE4DF37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62397-DCAE-4557-914B-50279289F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48C1EF-739A-498B-8425-4A09053970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B84B56-1836-41C7-8EC8-73D90233A5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E96E0A-832A-41E9-B9BD-F547A7C399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0B420B-7D53-4B43-81A3-B865402947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7480A2-F3EC-442A-90C7-A0B358C2CD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7A863-926B-4DB5-A1B1-2400BAE780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D62EDB-2CA8-4FA1-82BC-76B3E3ED1A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108115-D88F-41F3-A840-B9A159C64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43D1-C621-46E9-BDEB-E1EAAF41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C301B6-183C-45F3-95AC-CD0C13C432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4B86E-4177-427F-A5B2-A00AC4701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04D5B-A25B-46B3-86C3-5E85A56AA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86C926-52CE-49E6-90FF-81B3B2F0B8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F08CA-2440-47B3-8EEF-FCFB28B0D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3D1430-AF17-4281-8846-3435E2ED3C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230F7B-02B1-4143-94C3-008B1C8EB0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3FCAF3-D4B2-4726-A6F9-83E899F190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4D2CFD-75B5-4F49-89CE-B305403905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3F874D-EDDB-46D7-B7E4-908044F680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3525-F09C-40C9-A45B-B9952397D0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0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B414-CD65-41F3-BBEF-1126F1E083B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4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9523-91F3-44D5-88E1-B22391AE89C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85"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7"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D8D8-71FB-4F2A-AC29-0DFA24134A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26"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8"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0055-85E0-472D-8109-EBEF8D072689}"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9F30-D506-4C46-912C-7620E59598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75A8-6E7D-40E2-9CF4-F9C6F33882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5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32CC-D4AF-4E18-971A-28D4FD51DE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BD5E-07A8-4226-B3C5-16616C0390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3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E248-6E06-423F-B353-428328E582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0"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2"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48CE-F496-4E16-A530-02619037D96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2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B660-ACFB-4ED8-99CC-7F80E7C9D2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6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E55B-DA58-4F48-BA8F-AE01DA857F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42920" y="1270080"/>
            <a:ext cx="7415280" cy="352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4f4f4"/>
                </a:solidFill>
                <a:latin typeface="Arial"/>
              </a:rPr>
              <a:t>INTRODUCCIÓN A LA FARMACOLOGÍA GENERAL</a:t>
            </a:r>
            <a:br>
              <a:rPr sz="3400"/>
            </a:br>
            <a:br>
              <a:rPr sz="3400"/>
            </a:br>
            <a:r>
              <a:rPr b="0" lang="es-ES_tradnl" sz="3400" spc="-1" strike="noStrike">
                <a:solidFill>
                  <a:srgbClr val="f4f4f4"/>
                </a:solidFill>
                <a:latin typeface="Arial"/>
              </a:rPr>
              <a:t>Farmacodinamia</a:t>
            </a:r>
            <a:br>
              <a:rPr sz="3400"/>
            </a:br>
            <a:r>
              <a:rPr b="0" lang="es-ES_tradnl" sz="3400" spc="-1" strike="noStrike">
                <a:solidFill>
                  <a:srgbClr val="f4f4f4"/>
                </a:solidFill>
                <a:latin typeface="Arial"/>
              </a:rPr>
              <a:t>Primavera 2010</a:t>
            </a:r>
            <a:br>
              <a:rPr sz="3400"/>
            </a:br>
            <a:br>
              <a:rPr sz="3400"/>
            </a:br>
            <a:r>
              <a:rPr b="0" lang="es-ES_tradnl" sz="3400" spc="-1" strike="noStrike">
                <a:solidFill>
                  <a:srgbClr val="f4f4f4"/>
                </a:solidFill>
                <a:latin typeface="Arial"/>
              </a:rPr>
              <a:t>María Eugenia Letelier M.</a:t>
            </a:r>
            <a:endParaRPr b="0" lang="en-US" sz="3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2571840" y="213840"/>
            <a:ext cx="6286320" cy="5581800"/>
          </a:xfrm>
          <a:prstGeom prst="rect">
            <a:avLst/>
          </a:prstGeom>
          <a:noFill/>
          <a:ln w="0">
            <a:noFill/>
          </a:ln>
        </p:spPr>
        <p:txBody>
          <a:bodyPr anchor="t">
            <a:normAutofit fontScale="90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A la vista del número creciente de fármacos activos, de los datos cada vez más numerosos sobre sus propiedades farmacocinéticas y farmacodinámicas y de sus peligros tóxicos, resulta cada vez más difícil reunir, valorar y retener toda la información, para establecer una decisión terapéutica correcta.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 lo tanto, al igual que ocurre en el proceso de diagnóstico en que se utiliza abundantemente la colaboración de expertos en determinadas técnicas, se debe ya pensar que también en el acto terapéutico deben colaborar los expertos en fármacos, siempre que sean conscientes de su propia área de especialización y de sus limitacion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p:nvPr>
        </p:nvSpPr>
        <p:spPr>
          <a:xfrm>
            <a:off x="2028960" y="549360"/>
            <a:ext cx="6757920" cy="55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CONCEPTOS IMPORTANTES </a:t>
            </a: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A REPASA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2499840" y="142560"/>
            <a:ext cx="6032520" cy="5659560"/>
          </a:xfrm>
          <a:prstGeom prst="rect">
            <a:avLst/>
          </a:prstGeom>
          <a:noFill/>
          <a:ln w="0">
            <a:noFill/>
          </a:ln>
        </p:spPr>
        <p:txBody>
          <a:bodyPr anchor="t">
            <a:normAutofit fontScale="94000"/>
          </a:bodyPr>
          <a:p>
            <a:pPr marL="668520" indent="0" algn="ctr">
              <a:lnSpc>
                <a:spcPct val="120000"/>
              </a:lnSpc>
              <a:spcBef>
                <a:spcPts val="700"/>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Narrow"/>
              </a:rPr>
              <a:t>SOLUBILIDAD</a:t>
            </a:r>
            <a:endParaRPr b="0" lang="en-US" sz="2800" spc="-1" strike="noStrike">
              <a:solidFill>
                <a:srgbClr val="eaeaea"/>
              </a:solidFill>
              <a:latin typeface="Verdana"/>
            </a:endParaRPr>
          </a:p>
          <a:p>
            <a:pPr marL="668520" indent="0">
              <a:lnSpc>
                <a:spcPct val="12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68520" indent="0" algn="just">
              <a:lnSpc>
                <a:spcPct val="100000"/>
              </a:lnSpc>
              <a:spcBef>
                <a:spcPts val="601"/>
              </a:spcBef>
              <a:spcAft>
                <a:spcPts val="1500"/>
              </a:spcAft>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000"/>
                </a:solidFill>
                <a:latin typeface="Arial Narrow"/>
              </a:rPr>
              <a:t>1.</a:t>
            </a:r>
            <a:r>
              <a:rPr b="0" lang="es-ES_tradnl" sz="2400" spc="-1" strike="noStrike">
                <a:solidFill>
                  <a:srgbClr val="ffc000"/>
                </a:solidFill>
                <a:latin typeface="Arial Narrow"/>
              </a:rPr>
              <a:t>	</a:t>
            </a:r>
            <a:r>
              <a:rPr b="0" lang="es-ES_tradnl" sz="2400" spc="-1" strike="noStrike">
                <a:solidFill>
                  <a:srgbClr val="3f5a3e"/>
                </a:solidFill>
                <a:latin typeface="Arial Narrow"/>
              </a:rPr>
              <a:t>¿Cuál o cuáles fenómenos físico-químicos ocurren cuando:</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a sal se disuelve en agu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aceite se mezcla homogéneamente con la bencin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fármaco tiene mayor afinidad por receptores </a:t>
            </a:r>
            <a:r>
              <a:rPr b="0" lang="es-ES_tradnl" sz="2400" spc="-1" strike="noStrike">
                <a:solidFill>
                  <a:srgbClr val="3f5a3e"/>
                </a:solidFill>
                <a:latin typeface="Arial Narrow"/>
              </a:rPr>
              <a:t>	</a:t>
            </a:r>
            <a:r>
              <a:rPr b="0" lang="es-ES_tradnl" sz="2400" spc="-1" strike="noStrike">
                <a:solidFill>
                  <a:srgbClr val="3f5a3e"/>
                </a:solidFill>
                <a:latin typeface="Arial Narrow"/>
              </a:rPr>
              <a:t>ubicados en el cerebro?</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qué algunas sales no se disuelven en agua?</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ómo cree usted que podría aumentarse la solubilidad en agua o en aceite de un fárma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0" y="549000"/>
            <a:ext cx="6400800" cy="115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EQUILIBRIO QUÍMICO Y TERMODINÁMICA</a:t>
            </a:r>
            <a:endParaRPr b="0" lang="en-US" sz="2800" spc="-1" strike="noStrike">
              <a:solidFill>
                <a:srgbClr val="ffffcc"/>
              </a:solidFill>
              <a:latin typeface="Arial"/>
            </a:endParaRPr>
          </a:p>
        </p:txBody>
      </p:sp>
      <p:sp>
        <p:nvSpPr>
          <p:cNvPr id="579" name="PlaceHolder 2"/>
          <p:cNvSpPr>
            <a:spLocks noGrp="1"/>
          </p:cNvSpPr>
          <p:nvPr>
            <p:ph/>
          </p:nvPr>
        </p:nvSpPr>
        <p:spPr>
          <a:xfrm>
            <a:off x="2499840" y="1972800"/>
            <a:ext cx="6126120" cy="4170600"/>
          </a:xfrm>
          <a:prstGeom prst="rect">
            <a:avLst/>
          </a:prstGeom>
          <a:noFill/>
          <a:ln w="0">
            <a:noFill/>
          </a:ln>
        </p:spPr>
        <p:txBody>
          <a:bodyPr anchor="t">
            <a:normAutofit/>
          </a:bodyPr>
          <a:p>
            <a:pPr marL="60948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reacciones orgánicas que ocurren en la célula están en equilibrio?</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na reacción química tiene un </a:t>
            </a:r>
            <a:r>
              <a:rPr b="0" lang="el-GR" sz="2400" spc="-1" strike="noStrike">
                <a:solidFill>
                  <a:srgbClr val="3f5a3e"/>
                </a:solidFill>
                <a:latin typeface="Arial Narrow"/>
              </a:rPr>
              <a:t>Δ</a:t>
            </a:r>
            <a:r>
              <a:rPr b="0" lang="es-ES_tradnl" sz="2400" spc="-1" strike="noStrike">
                <a:solidFill>
                  <a:srgbClr val="3f5a3e"/>
                </a:solidFill>
                <a:latin typeface="Arial Narrow"/>
              </a:rPr>
              <a:t>G +, puede ocurrir en una célula? </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a enzima puede desplazar una reacción química hacia la formación de producto?</a:t>
            </a:r>
            <a:endParaRPr b="0" lang="en-US" sz="2400" spc="-1" strike="noStrike">
              <a:solidFill>
                <a:srgbClr val="eaeaea"/>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57280" y="115560"/>
            <a:ext cx="63295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INÉTICA QUÍMICA Y ENZIMOLOGÍA</a:t>
            </a:r>
            <a:endParaRPr b="0" lang="en-US" sz="2800" spc="-1" strike="noStrike">
              <a:solidFill>
                <a:srgbClr val="ffffcc"/>
              </a:solidFill>
              <a:latin typeface="Arial"/>
            </a:endParaRPr>
          </a:p>
        </p:txBody>
      </p:sp>
      <p:sp>
        <p:nvSpPr>
          <p:cNvPr id="581" name="PlaceHolder 2"/>
          <p:cNvSpPr>
            <a:spLocks noGrp="1"/>
          </p:cNvSpPr>
          <p:nvPr>
            <p:ph/>
          </p:nvPr>
        </p:nvSpPr>
        <p:spPr>
          <a:xfrm>
            <a:off x="2500200" y="955800"/>
            <a:ext cx="6104160" cy="5688000"/>
          </a:xfrm>
          <a:prstGeom prst="rect">
            <a:avLst/>
          </a:prstGeom>
          <a:noFill/>
          <a:ln w="0">
            <a:noFill/>
          </a:ln>
        </p:spPr>
        <p:txBody>
          <a:bodyPr anchor="t">
            <a:normAutofit fontScale="99000"/>
          </a:bodyPr>
          <a:p>
            <a:pPr marL="6033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enzimas pueden modificar el </a:t>
            </a:r>
            <a:r>
              <a:rPr b="0" lang="el-GR" sz="2400" spc="-1" strike="noStrike">
                <a:solidFill>
                  <a:srgbClr val="3f5a3e"/>
                </a:solidFill>
                <a:latin typeface="Arial Narrow"/>
              </a:rPr>
              <a:t>Δ</a:t>
            </a:r>
            <a:r>
              <a:rPr b="0" lang="es-ES_tradnl" sz="2400" spc="-1" strike="noStrike">
                <a:solidFill>
                  <a:srgbClr val="3f5a3e"/>
                </a:solidFill>
                <a:latin typeface="Arial Narrow"/>
              </a:rPr>
              <a:t>G y/o la constante de equilibrio de una reacción química?</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sted aumenta en 10 ºC la temperatura a la cual se realiza una reacción química ¿aumenta o disminuye la energía de activación de esa reacción?</a:t>
            </a:r>
            <a:endParaRPr b="0" lang="en-US" sz="2400" spc="-1" strike="noStrike">
              <a:solidFill>
                <a:srgbClr val="eaeaea"/>
              </a:solidFill>
              <a:latin typeface="Verdana"/>
            </a:endParaRPr>
          </a:p>
          <a:p>
            <a:pPr marL="603360" indent="-603360" algn="just">
              <a:lnSpc>
                <a:spcPct val="100000"/>
              </a:lnSpc>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Qué forma cree usted que tendrían los gráficos:</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Producto vs tiempo de una reacción orgánica.</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fecto de un fármaco vs tiempo.</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liminación de un fármaco vs tiemp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0" y="277920"/>
            <a:ext cx="6400800" cy="11397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OMPUESTOS ORGÁNICOS Y SU RELACIÓN ESTRUCTURA - REACTIVIDAD</a:t>
            </a:r>
            <a:r>
              <a:rPr b="0" lang="es-ES_tradnl" sz="2800" spc="-1" strike="noStrike">
                <a:solidFill>
                  <a:srgbClr val="ffc000"/>
                </a:solidFill>
                <a:latin typeface="Arial"/>
              </a:rPr>
              <a:t> </a:t>
            </a:r>
            <a:endParaRPr b="0" lang="en-US" sz="2800" spc="-1" strike="noStrike">
              <a:solidFill>
                <a:srgbClr val="ffffcc"/>
              </a:solidFill>
              <a:latin typeface="Arial"/>
            </a:endParaRPr>
          </a:p>
        </p:txBody>
      </p:sp>
      <p:sp>
        <p:nvSpPr>
          <p:cNvPr id="583" name="PlaceHolder 2"/>
          <p:cNvSpPr>
            <a:spLocks noGrp="1"/>
          </p:cNvSpPr>
          <p:nvPr>
            <p:ph/>
          </p:nvPr>
        </p:nvSpPr>
        <p:spPr>
          <a:xfrm>
            <a:off x="2357280" y="1755720"/>
            <a:ext cx="6429600" cy="4530960"/>
          </a:xfrm>
          <a:prstGeom prst="rect">
            <a:avLst/>
          </a:prstGeom>
          <a:noFill/>
          <a:ln w="0">
            <a:noFill/>
          </a:ln>
        </p:spPr>
        <p:txBody>
          <a:bodyPr anchor="t">
            <a:normAutofit fontScale="94000"/>
          </a:bodyPr>
          <a:p>
            <a:pPr marL="5727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 fármaco X se une a su receptor a través de un grupo amino primario presente en la molécula. Señale un sustituyente que podría favorecer dicha unión.</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benzodiazepinas están representadas por una familia de fármacos, cuyos receptores están ubicados en el cerebro. ¿Qué sustituyentes cree usted que favorecerían la mayor rapidez en la acción farmacológica de ell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p:nvPr>
        </p:nvSpPr>
        <p:spPr>
          <a:xfrm>
            <a:off x="2500200" y="620640"/>
            <a:ext cx="6143760" cy="551016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ármaco-Economía:</a:t>
            </a:r>
            <a:r>
              <a:rPr b="0" lang="es-ES_tradnl" sz="2400" spc="-1" strike="noStrike">
                <a:solidFill>
                  <a:srgbClr val="ffc000"/>
                </a:solidFill>
                <a:latin typeface="Arial Narrow"/>
              </a:rPr>
              <a:t> </a:t>
            </a:r>
            <a:r>
              <a:rPr b="0" lang="es-ES_tradnl" sz="2400" spc="-1" strike="noStrike">
                <a:solidFill>
                  <a:srgbClr val="3f5a3e"/>
                </a:solidFill>
                <a:latin typeface="Arial Narrow"/>
              </a:rPr>
              <a:t>estudia el costo del medicamento no sólo considerado en si mismo, sino también en relación con el costo que representa la enfermedad (hospitalización, atención al paciente y baja laboral) y con el costo que ha supuesto desarrollar, elaborar y promocionar el fármac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p:nvPr>
        </p:nvSpPr>
        <p:spPr>
          <a:xfrm>
            <a:off x="2571840" y="428400"/>
            <a:ext cx="6286320" cy="5079960"/>
          </a:xfrm>
          <a:prstGeom prst="rect">
            <a:avLst/>
          </a:prstGeom>
          <a:noFill/>
          <a:ln w="0">
            <a:noFill/>
          </a:ln>
        </p:spPr>
        <p:txBody>
          <a:bodyPr anchor="t">
            <a:normAutofit fontScale="91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a aldea mundial donde lo económico monstruosamente protagoniza el acontecer diario de sus pueblos, estos análisis no podían quedar al margen.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lano cabe pedir que el sentido humano de la terapéutica, no quede asfixiado por el rigor de los números.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fármacos jamás sustituirán la cálida relación humana; más aún, creo con seguridad que ella a menudo ayuda a la acción benéfica y terapéutica de los fármacos (Existe comprobación científica de est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539280" y="404640"/>
            <a:ext cx="3961080" cy="6121440"/>
          </a:xfrm>
          <a:prstGeom prst="rect">
            <a:avLst/>
          </a:prstGeom>
          <a:noFill/>
          <a:ln w="0">
            <a:noFill/>
          </a:ln>
        </p:spPr>
        <p:txBody>
          <a:bodyPr anchor="t">
            <a:normAutofit/>
          </a:bodyPr>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l dinero no compra la clase.</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sas pequeñas cosas que pasan diariamente, son las que</a:t>
            </a:r>
            <a:r>
              <a:rPr b="1" lang="es-MX" sz="1800" spc="-1" strike="noStrike">
                <a:solidFill>
                  <a:srgbClr val="eaeaea"/>
                </a:solidFill>
                <a:latin typeface="Arial"/>
              </a:rPr>
              <a:t> </a:t>
            </a:r>
            <a:r>
              <a:rPr b="1" lang="es-ES" sz="1800" spc="-1" strike="noStrike">
                <a:solidFill>
                  <a:srgbClr val="eaeaea"/>
                </a:solidFill>
                <a:latin typeface="Arial"/>
              </a:rPr>
              <a:t>hacen la vida espectacular.</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ebajo de el duro escudo de las personas, hay alguien</a:t>
            </a:r>
            <a:r>
              <a:rPr b="1" lang="es-MX" sz="1800" spc="-1" strike="noStrike">
                <a:solidFill>
                  <a:srgbClr val="eaeaea"/>
                </a:solidFill>
                <a:latin typeface="Arial"/>
              </a:rPr>
              <a:t> </a:t>
            </a:r>
            <a:r>
              <a:rPr b="1" lang="es-ES" sz="1800" spc="-1" strike="noStrike">
                <a:solidFill>
                  <a:srgbClr val="eaeaea"/>
                </a:solidFill>
                <a:latin typeface="Arial"/>
              </a:rPr>
              <a:t>que quiere ser apreciado y amado.</a:t>
            </a:r>
            <a:endParaRPr b="0" lang="en-US" sz="1800" spc="-1" strike="noStrike">
              <a:solidFill>
                <a:srgbClr val="eaeaea"/>
              </a:solidFill>
              <a:latin typeface="Verdan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ios no hizo todo en un solo día... ¿Qué me hace pensar</a:t>
            </a:r>
            <a:r>
              <a:rPr b="1" lang="es-MX" sz="1800" spc="-1" strike="noStrike">
                <a:solidFill>
                  <a:srgbClr val="eaeaea"/>
                </a:solidFill>
                <a:latin typeface="Arial"/>
              </a:rPr>
              <a:t> </a:t>
            </a:r>
            <a:r>
              <a:rPr b="1" lang="es-ES" sz="1800" spc="-1" strike="noStrike">
                <a:solidFill>
                  <a:srgbClr val="eaeaea"/>
                </a:solidFill>
                <a:latin typeface="Arial"/>
              </a:rPr>
              <a:t>que yo puedo?</a:t>
            </a:r>
            <a:endParaRPr b="0" lang="en-US" sz="1800" spc="-1" strike="noStrike">
              <a:solidFill>
                <a:srgbClr val="eaeaea"/>
              </a:solidFill>
              <a:latin typeface="Verdana"/>
            </a:endParaRPr>
          </a:p>
        </p:txBody>
      </p:sp>
      <p:pic>
        <p:nvPicPr>
          <p:cNvPr id="587" name="Picture 5" descr="atardecer"/>
          <p:cNvPicPr/>
          <p:nvPr/>
        </p:nvPicPr>
        <p:blipFill>
          <a:blip r:embed="rId2"/>
          <a:stretch/>
        </p:blipFill>
        <p:spPr>
          <a:xfrm>
            <a:off x="5003640" y="404640"/>
            <a:ext cx="3745080" cy="597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set>
                                      <p:cBhvr>
                                        <p:cTn id="6" dur="1" fill="hold">
                                          <p:stCondLst>
                                            <p:cond delay="0"/>
                                          </p:stCondLst>
                                        </p:cTn>
                                        <p:tgtEl>
                                          <p:spTgt spid="586"/>
                                        </p:tgtEl>
                                        <p:attrNameLst>
                                          <p:attrName>style.visibility</p:attrName>
                                        </p:attrNameLst>
                                      </p:cBhvr>
                                      <p:to>
                                        <p:strVal val="visible"/>
                                      </p:to>
                                    </p:set>
                                    <p:animEffect filter="blinds(horizontal)" transition="in">
                                      <p:cBhvr additive="repl">
                                        <p:cTn id="7" dur="3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p:nvPr>
        </p:nvSpPr>
        <p:spPr>
          <a:xfrm>
            <a:off x="2499840" y="404640"/>
            <a:ext cx="6357960" cy="5726160"/>
          </a:xfrm>
          <a:prstGeom prst="rect">
            <a:avLst/>
          </a:prstGeom>
          <a:noFill/>
          <a:ln w="0">
            <a:noFill/>
          </a:ln>
        </p:spPr>
        <p:txBody>
          <a:bodyPr anchor="t">
            <a:normAutofit fontScale="94000"/>
          </a:bodyPr>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armacología</a:t>
            </a:r>
            <a:r>
              <a:rPr b="0" lang="es-ES_tradnl" sz="2400" spc="-1" strike="noStrike">
                <a:solidFill>
                  <a:srgbClr val="ffc000"/>
                </a:solidFill>
                <a:latin typeface="Arial Narrow"/>
              </a:rPr>
              <a:t>: </a:t>
            </a:r>
            <a:r>
              <a:rPr b="0" lang="es-ES_tradnl" sz="2400" spc="-1" strike="noStrike">
                <a:solidFill>
                  <a:srgbClr val="3f5a3e"/>
                </a:solidFill>
                <a:latin typeface="Arial Narrow"/>
              </a:rPr>
              <a:t>palabra griega que significa estudio de una droga o veneno.</a:t>
            </a: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Qué es una droga?</a:t>
            </a:r>
            <a:r>
              <a:rPr b="0" lang="es-ES_tradnl" sz="2400" spc="-1" strike="noStrike">
                <a:solidFill>
                  <a:srgbClr val="ffc000"/>
                </a:solidFill>
                <a:latin typeface="Arial Narrow"/>
              </a:rPr>
              <a:t>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ustancia capaz de interactuar con un organismo vivo.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sustancia química utilizada en el tratamiento, la curación, la prevención o el diagnóstico de una enfermedad, o para evitar la aparición de un proceso fisiológico no deseado.</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materia, cualquiera que sea su origen a la que se le atribuye una actividad apropiada para constituir un medicament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2357280" y="980640"/>
            <a:ext cx="6429600" cy="5162760"/>
          </a:xfrm>
          <a:prstGeom prst="rect">
            <a:avLst/>
          </a:prstGeom>
          <a:noFill/>
          <a:ln w="0">
            <a:noFill/>
          </a:ln>
        </p:spPr>
        <p:txBody>
          <a:bodyPr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Medicamento</a:t>
            </a:r>
            <a:r>
              <a:rPr b="0" lang="es-ES_tradnl" sz="2400" spc="-1" strike="noStrike">
                <a:solidFill>
                  <a:srgbClr val="3f5a3e"/>
                </a:solidFill>
                <a:latin typeface="Arial Narrow"/>
              </a:rPr>
              <a:t> es la sustancia medicinal y sus asociaciones o combinaciones destinadas a ser utilizadas en personas o animales, la cual tiene las propiedades para prevenir, diagnosticar, tratar, aliviar o curar enfermedades, o para modificar funciones fisiológicas. </a:t>
            </a:r>
            <a:endParaRPr b="0" lang="en-US" sz="2400" spc="-1" strike="noStrike">
              <a:solidFill>
                <a:srgbClr val="eaeaea"/>
              </a:solidFill>
              <a:latin typeface="Verdana"/>
            </a:endParaRPr>
          </a:p>
          <a:p>
            <a:pPr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 decir, el medicamento es el principio activo elaborado por la técnica farmacéutica para su uso medicinal y corresponde al preparado concreto que se adquiere en la farmaci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2428560" y="928800"/>
            <a:ext cx="6103800" cy="4084560"/>
          </a:xfrm>
          <a:prstGeom prst="rect">
            <a:avLst/>
          </a:prstGeom>
          <a:noFill/>
          <a:ln w="0">
            <a:noFill/>
          </a:ln>
        </p:spPr>
        <p:txBody>
          <a:bodyPr anchor="t">
            <a:normAutofit fontScale="88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farmacología abarca todos los aspectos relacionados con la acción del fármaco: </a:t>
            </a:r>
            <a:r>
              <a:rPr b="0" lang="es-ES_tradnl" sz="2400" spc="-1" strike="noStrike">
                <a:solidFill>
                  <a:srgbClr val="ffc000"/>
                </a:solidFill>
                <a:latin typeface="Arial Narrow"/>
              </a:rPr>
              <a:t>el origen, la síntesis, la preparación, las propiedades, las acciones desde el nivel molecular hasta el organismo completo, su manera de situarse y moverse en el organismo, las formas de administración, las indicaciones terapéuticas y las acciones tóxicas.</a:t>
            </a:r>
            <a:endParaRPr b="0" lang="en-US" sz="2400" spc="-1" strike="noStrike">
              <a:solidFill>
                <a:srgbClr val="eaeaea"/>
              </a:solidFill>
              <a:latin typeface="Verdan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De esto se deduce que la farmacología es una ciencia básica y además, aplicada, cuyo campo es multidiciplinari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p:nvPr>
        </p:nvSpPr>
        <p:spPr>
          <a:xfrm>
            <a:off x="2571840" y="560520"/>
            <a:ext cx="6215040" cy="5726160"/>
          </a:xfrm>
          <a:prstGeom prst="rect">
            <a:avLst/>
          </a:prstGeom>
          <a:noFill/>
          <a:ln w="0">
            <a:noFill/>
          </a:ln>
        </p:spPr>
        <p:txBody>
          <a:bodyPr anchor="t">
            <a:normAutofit fontScale="96000"/>
          </a:bodyPr>
          <a:p>
            <a:pPr marL="267840" indent="-267840"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omo ciencia básica, se preocupa de las características y las acciones de las drogas a varios niveles: molécula, célula, órgano, animal entero y diferentes especies de animales.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to implica que el estudio de la Farmacología se traslapa con la Bioquímica, la Fisiología, la Biofísica, la Biología Molecular, la  Bioestadística y otras divisiones de la ciencia biológica.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unto cabe destacar que la comprensión de los fenómenos biológicos implica un dominio previo de Ciencias derivadas de la Química, tales como la Química Inorgánica, la Química Orgánica y la Físico-Química.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p:nvPr>
        </p:nvSpPr>
        <p:spPr>
          <a:xfrm>
            <a:off x="2571480" y="285840"/>
            <a:ext cx="6103800" cy="5904000"/>
          </a:xfrm>
          <a:prstGeom prst="rect">
            <a:avLst/>
          </a:prstGeom>
          <a:noFill/>
          <a:ln w="0">
            <a:noFill/>
          </a:ln>
        </p:spPr>
        <p:txBody>
          <a:bodyPr anchor="t">
            <a:normAutofit fontScale="96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La farmacología se ha subdividido en distintas áreas, sin embargo, algunas de ellas se traslapan. </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1" lang="es-ES_tradnl" sz="2400" spc="-1" strike="noStrike">
                <a:solidFill>
                  <a:srgbClr val="ffc000"/>
                </a:solidFill>
                <a:latin typeface="Arial Narrow"/>
              </a:rPr>
              <a:t>Tecnología farmacéutica </a:t>
            </a:r>
            <a:r>
              <a:rPr b="0" lang="es-ES_tradnl" sz="2400" spc="-1" strike="noStrike">
                <a:solidFill>
                  <a:srgbClr val="3f5a3e"/>
                </a:solidFill>
                <a:latin typeface="Arial Narrow"/>
              </a:rPr>
              <a:t>se preocupa de la preparación de la forma farmacéutica y el ajuste de sus propiedades físicas de modo que la droga se pueda disolver a la velocidad deseada en el organismo.</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a:t>
            </a:r>
            <a:r>
              <a:rPr b="1" lang="es-ES_tradnl" sz="2400" spc="-1" strike="noStrike">
                <a:solidFill>
                  <a:srgbClr val="ffc000"/>
                </a:solidFill>
                <a:latin typeface="Arial Narrow"/>
              </a:rPr>
              <a:t>Biodisponibilidad</a:t>
            </a:r>
            <a:r>
              <a:rPr b="0" lang="es-ES_tradnl" sz="2400" spc="-1" strike="noStrike">
                <a:solidFill>
                  <a:srgbClr val="ffc000"/>
                </a:solidFill>
                <a:latin typeface="Arial Narrow"/>
              </a:rPr>
              <a:t> </a:t>
            </a:r>
            <a:r>
              <a:rPr b="0" lang="es-ES_tradnl" sz="2400" spc="-1" strike="noStrike">
                <a:solidFill>
                  <a:srgbClr val="3f5a3e"/>
                </a:solidFill>
                <a:latin typeface="Arial Narrow"/>
              </a:rPr>
              <a:t>de la droga, que es la proporción de la dosis administrada que eventualmente alcanza el sistema circulatorio en su forma química no alterada, depende tanto de la </a:t>
            </a:r>
            <a:r>
              <a:rPr b="1" lang="es-ES_tradnl" sz="2400" spc="-1" strike="noStrike">
                <a:solidFill>
                  <a:srgbClr val="3f5a3e"/>
                </a:solidFill>
                <a:latin typeface="Arial Narrow"/>
              </a:rPr>
              <a:t>Tecnología farmacéutica </a:t>
            </a:r>
            <a:r>
              <a:rPr b="0" lang="es-ES_tradnl" sz="2400" spc="-1" strike="noStrike">
                <a:solidFill>
                  <a:srgbClr val="3f5a3e"/>
                </a:solidFill>
                <a:latin typeface="Arial Narrow"/>
              </a:rPr>
              <a:t>como de la </a:t>
            </a:r>
            <a:r>
              <a:rPr b="1" lang="es-ES_tradnl" sz="2400" spc="-1" strike="noStrike">
                <a:solidFill>
                  <a:srgbClr val="3f5a3e"/>
                </a:solidFill>
                <a:latin typeface="Arial Narrow"/>
              </a:rPr>
              <a:t>Farmacología</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2571840" y="356760"/>
            <a:ext cx="6114960" cy="5256360"/>
          </a:xfrm>
          <a:prstGeom prst="rect">
            <a:avLst/>
          </a:prstGeom>
          <a:noFill/>
          <a:ln w="0">
            <a:noFill/>
          </a:ln>
        </p:spPr>
        <p:txBody>
          <a:bodyPr anchor="t">
            <a:normAutofit fontScale="86000"/>
          </a:bodyPr>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diferentes procesos fisico-químicos que la droga sufre en un organismo vivo, son temas de la </a:t>
            </a:r>
            <a:r>
              <a:rPr b="0" lang="es-ES_tradnl" sz="2400" spc="-1" strike="noStrike">
                <a:solidFill>
                  <a:srgbClr val="ffc000"/>
                </a:solidFill>
                <a:latin typeface="Arial Narrow"/>
              </a:rPr>
              <a:t>Farmacocinética</a:t>
            </a:r>
            <a:r>
              <a:rPr b="0" lang="es-ES_tradnl" sz="2400" spc="-1" strike="noStrike">
                <a:solidFill>
                  <a:srgbClr val="ffff00"/>
                </a:solidFill>
                <a:latin typeface="Arial Narrow"/>
              </a:rPr>
              <a:t>.</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características farmacocinéticas de una droga determinan la dosis establecida que es usada clínicamente y por consiguiente influencia la  </a:t>
            </a:r>
            <a:r>
              <a:rPr b="0" lang="es-ES_tradnl" sz="2400" spc="-1" strike="noStrike">
                <a:solidFill>
                  <a:srgbClr val="ffc000"/>
                </a:solidFill>
                <a:latin typeface="Arial Narrow"/>
              </a:rPr>
              <a:t>Terapia</a:t>
            </a:r>
            <a:r>
              <a:rPr b="0" lang="es-ES_tradnl" sz="2400" spc="-1" strike="noStrike">
                <a:solidFill>
                  <a:srgbClr val="eaeaea"/>
                </a:solidFill>
                <a:latin typeface="Arial Narrow"/>
              </a:rPr>
              <a:t> </a:t>
            </a:r>
            <a:r>
              <a:rPr b="0" lang="es-ES_tradnl" sz="2400" spc="-1" strike="noStrike">
                <a:solidFill>
                  <a:srgbClr val="3f5a3e"/>
                </a:solidFill>
                <a:latin typeface="Arial Narrow"/>
              </a:rPr>
              <a:t>a utilizar.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studio de los mecanismos de acción de drogas se conoce como </a:t>
            </a:r>
            <a:r>
              <a:rPr b="0" lang="es-ES_tradnl" sz="2400" spc="-1" strike="noStrike">
                <a:solidFill>
                  <a:srgbClr val="ffc000"/>
                </a:solidFill>
                <a:latin typeface="Arial Narrow"/>
              </a:rPr>
              <a:t>Farmacodinamia.</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0" lang="es-ES_tradnl" sz="2400" spc="-1" strike="noStrike">
                <a:solidFill>
                  <a:srgbClr val="ffc000"/>
                </a:solidFill>
                <a:latin typeface="Arial Narrow"/>
              </a:rPr>
              <a:t>Farmacometría</a:t>
            </a:r>
            <a:r>
              <a:rPr b="0" lang="es-ES_tradnl" sz="2400" spc="-1" strike="noStrike">
                <a:solidFill>
                  <a:srgbClr val="eaeaea"/>
                </a:solidFill>
                <a:latin typeface="Arial Narrow"/>
              </a:rPr>
              <a:t> </a:t>
            </a:r>
            <a:r>
              <a:rPr b="0" lang="es-ES_tradnl" sz="2400" spc="-1" strike="noStrike">
                <a:solidFill>
                  <a:srgbClr val="3f5a3e"/>
                </a:solidFill>
                <a:latin typeface="Arial Narrow"/>
              </a:rPr>
              <a:t>se preocupa del estudio cuantitativo de la relación entre dosis de la droga, concentración y la magnitud de sus efectos</a:t>
            </a:r>
            <a:r>
              <a:rPr b="1" lang="es-ES_tradnl" sz="2400" spc="-1" strike="noStrike">
                <a:solidFill>
                  <a:srgbClr val="3f5a3e"/>
                </a:solidFill>
                <a:latin typeface="Arial Narrow"/>
              </a:rPr>
              <a:t>.</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2571840" y="188640"/>
            <a:ext cx="6248160" cy="6335640"/>
          </a:xfrm>
          <a:prstGeom prst="rect">
            <a:avLst/>
          </a:prstGeom>
          <a:noFill/>
          <a:ln w="0">
            <a:noFill/>
          </a:ln>
        </p:spPr>
        <p:txBody>
          <a:bodyPr anchor="t">
            <a:normAutofit/>
          </a:bodyPr>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capacidad de una droga de unirse a su receptor dependen de su estructura molecular y por lo tanto, la </a:t>
            </a:r>
            <a:r>
              <a:rPr b="1" lang="es-ES_tradnl" sz="2400" spc="-1" strike="noStrike">
                <a:solidFill>
                  <a:srgbClr val="3f5a3e"/>
                </a:solidFill>
                <a:latin typeface="Arial Narrow"/>
              </a:rPr>
              <a:t>Farmacodinamia</a:t>
            </a:r>
            <a:r>
              <a:rPr b="0" lang="es-ES_tradnl" sz="2400" spc="-1" strike="noStrike">
                <a:solidFill>
                  <a:srgbClr val="3f5a3e"/>
                </a:solidFill>
                <a:latin typeface="Arial Narrow"/>
              </a:rPr>
              <a:t> se traslapa con el campo de  la </a:t>
            </a:r>
            <a:r>
              <a:rPr b="0" lang="es-ES_tradnl" sz="2400" spc="-1" strike="noStrike">
                <a:solidFill>
                  <a:srgbClr val="ffc000"/>
                </a:solidFill>
                <a:latin typeface="Arial Narrow"/>
              </a:rPr>
              <a:t>Fármaco-Química </a:t>
            </a:r>
            <a:r>
              <a:rPr b="0" lang="es-ES_tradnl" sz="2400" spc="-1" strike="noStrike">
                <a:solidFill>
                  <a:srgbClr val="3f5a3e"/>
                </a:solidFill>
                <a:latin typeface="Arial Narrow"/>
              </a:rPr>
              <a:t>que estudia la síntesis de drogas y sus relaciones estructura-actividad.</a:t>
            </a:r>
            <a:endParaRPr b="0" lang="en-US" sz="2400" spc="-1" strike="noStrike">
              <a:solidFill>
                <a:srgbClr val="eaeaea"/>
              </a:solidFill>
              <a:latin typeface="Verdana"/>
            </a:endParaRPr>
          </a:p>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xisten otras subdivisiones basados en diferentes criterios. Por ejemplo:</a:t>
            </a:r>
            <a:endParaRPr b="0" lang="en-US" sz="24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a) de acuerdo al órgano de interés principal: </a:t>
            </a:r>
            <a:r>
              <a:rPr b="0" lang="es-ES_tradnl" sz="2000" spc="-1" strike="noStrike">
                <a:solidFill>
                  <a:srgbClr val="ffc000"/>
                </a:solidFill>
                <a:latin typeface="Arial Narrow"/>
              </a:rPr>
              <a:t>Neurofarmacología, Farmacología Cardiovascular, Farmacología renal, </a:t>
            </a:r>
            <a:r>
              <a:rPr b="0" lang="es-ES_tradnl" sz="2000" spc="-1" strike="noStrike">
                <a:solidFill>
                  <a:srgbClr val="3f5a3e"/>
                </a:solidFill>
                <a:latin typeface="Arial Narrow"/>
              </a:rPr>
              <a:t>etc.</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b)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s técnicas utilizadas: </a:t>
            </a:r>
            <a:r>
              <a:rPr b="0" lang="es-ES_tradnl" sz="2000" spc="-1" strike="noStrike">
                <a:solidFill>
                  <a:srgbClr val="ffc000"/>
                </a:solidFill>
                <a:latin typeface="Arial Narrow"/>
              </a:rPr>
              <a:t>Bioquímica Farmacológica, Farmacología Molecular, Inmunofarmacología, </a:t>
            </a:r>
            <a:r>
              <a:rPr b="0" lang="es-ES_tradnl" sz="2000" spc="-1" strike="noStrike">
                <a:solidFill>
                  <a:srgbClr val="3f5a3e"/>
                </a:solidFill>
                <a:latin typeface="Arial Narrow"/>
              </a:rPr>
              <a:t>etc.</a:t>
            </a:r>
            <a:r>
              <a:rPr b="0" lang="es-ES_tradnl" sz="2000" spc="-1" strike="noStrike">
                <a:solidFill>
                  <a:srgbClr val="eaeaea"/>
                </a:solidFill>
                <a:latin typeface="Arial Narrow"/>
              </a:rPr>
              <a:t> </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c)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 aplicación que se le da al conocimiento farmacológico</a:t>
            </a:r>
            <a:r>
              <a:rPr b="0" lang="es-ES_tradnl" sz="2000" spc="-1" strike="noStrike">
                <a:solidFill>
                  <a:srgbClr val="eaeaea"/>
                </a:solidFill>
                <a:latin typeface="Arial Narrow"/>
              </a:rPr>
              <a:t>: </a:t>
            </a:r>
            <a:r>
              <a:rPr b="0" lang="es-ES_tradnl" sz="2000" spc="-1" strike="noStrike">
                <a:solidFill>
                  <a:srgbClr val="ffc000"/>
                </a:solidFill>
                <a:latin typeface="Arial Narrow"/>
              </a:rPr>
              <a:t>Farmacología Clínica, Farmacogenética, Farmacología Agrícola,</a:t>
            </a:r>
            <a:r>
              <a:rPr b="0" lang="es-ES_tradnl" sz="2000" spc="-1" strike="noStrike">
                <a:solidFill>
                  <a:srgbClr val="eaeaea"/>
                </a:solidFill>
                <a:latin typeface="Arial Narrow"/>
              </a:rPr>
              <a:t> </a:t>
            </a:r>
            <a:r>
              <a:rPr b="0" lang="es-ES_tradnl" sz="2000" spc="-1" strike="noStrike">
                <a:solidFill>
                  <a:srgbClr val="3f5a3e"/>
                </a:solidFill>
                <a:latin typeface="Arial Narrow"/>
              </a:rPr>
              <a:t>etc.</a:t>
            </a:r>
            <a:r>
              <a:rPr b="0" lang="es-CL" sz="2000" spc="-1" strike="noStrike">
                <a:solidFill>
                  <a:srgbClr val="3f5a3e"/>
                </a:solidFill>
                <a:latin typeface="Arial Narrow"/>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57280" y="277920"/>
            <a:ext cx="632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PREGUNTAS FARMACOLÓGICAS</a:t>
            </a:r>
            <a:endParaRPr b="0" lang="en-US" sz="2800" spc="-1" strike="noStrike">
              <a:solidFill>
                <a:srgbClr val="ffffcc"/>
              </a:solidFill>
              <a:latin typeface="Arial"/>
            </a:endParaRPr>
          </a:p>
        </p:txBody>
      </p:sp>
      <p:sp>
        <p:nvSpPr>
          <p:cNvPr id="574" name="PlaceHolder 2"/>
          <p:cNvSpPr>
            <a:spLocks noGrp="1"/>
          </p:cNvSpPr>
          <p:nvPr>
            <p:ph/>
          </p:nvPr>
        </p:nvSpPr>
        <p:spPr>
          <a:xfrm>
            <a:off x="2571480" y="1599840"/>
            <a:ext cx="6000840" cy="4530600"/>
          </a:xfrm>
          <a:prstGeom prst="rect">
            <a:avLst/>
          </a:prstGeom>
          <a:noFill/>
          <a:ln w="0">
            <a:noFill/>
          </a:ln>
        </p:spPr>
        <p:txBody>
          <a:bodyPr anchor="t">
            <a:normAutofit/>
          </a:bodyPr>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enetra bien el fármaco en el paciente?</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lega bien el fármaco a su sitio de acción?</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oduce el fármaco el efecto farmacológico previsto?</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fecto farmacológico ¿se traduce en un efecto terapéutico o en un efecto tóxi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23:00:38Z</dcterms:created>
  <dc:creator>Maria Eugenia Letelier</dc:creator>
  <dc:description/>
  <dc:language>en-US</dc:language>
  <cp:lastModifiedBy>Paula</cp:lastModifiedBy>
  <dcterms:modified xsi:type="dcterms:W3CDTF">2010-08-04T21:47:12Z</dcterms:modified>
  <cp:revision>12</cp:revision>
  <dc:subject/>
  <dc:title>INTRODUCCIÓN A LA FARMACOLOGÍA GENERAL</dc:title>
</cp:coreProperties>
</file>