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617-DD13-43D4-B3C3-306FF01B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66E-FBE3-4C4D-B760-262875D9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4180-AA1B-4D8A-BE87-33F4D45F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4A5-85A9-4345-8784-01C77C8A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D9A-EA2D-4782-BFE7-32CDECB8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8E4-3338-41AE-A335-7985039C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E44-3293-4804-A5DA-F227C3F3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D39-6E23-4803-AE8A-515D657F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355-0890-4A25-8708-DCDBAD64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6F9-05D9-457E-8E99-6569E8EE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AAB-B7B9-434B-A2D8-49BBCB66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3B3-F2D1-4C0B-B862-8355CD13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4AB7-9498-491C-81B1-914A9ABF8750}" type="slidenum">
              <a:rPr b="0" lang="es-E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19280" y="0"/>
            <a:ext cx="770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63634"/>
                </a:solidFill>
                <a:latin typeface="Impact"/>
              </a:rPr>
              <a:t>Contaminación y Tratamiento de Aguas </a:t>
            </a:r>
            <a:r>
              <a:rPr b="0" lang="es-ES_tradnl" sz="4800" spc="-1" strike="noStrike">
                <a:solidFill>
                  <a:srgbClr val="463634"/>
                </a:solidFill>
                <a:latin typeface="Impact"/>
              </a:rPr>
              <a:t>Residuales </a:t>
            </a:r>
            <a:r>
              <a:rPr b="0" lang="es-ES" sz="4800" spc="-1" strike="noStrike">
                <a:solidFill>
                  <a:srgbClr val="463634"/>
                </a:solidFill>
                <a:latin typeface="Impact"/>
              </a:rPr>
              <a:t>Industrial</a:t>
            </a:r>
            <a:r>
              <a:rPr b="0" lang="es-ES_tradnl" sz="4800" spc="-1" strike="noStrike">
                <a:solidFill>
                  <a:srgbClr val="463634"/>
                </a:solidFill>
                <a:latin typeface="Impact"/>
              </a:rPr>
              <a:t>es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71640" y="2781360"/>
            <a:ext cx="7416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spcBef>
                <a:spcPts val="1749"/>
              </a:spcBef>
              <a:buClr>
                <a:srgbClr val="463634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바탕"/>
              </a:rPr>
              <a:t>Entregar Capacitación en Area de Preocupación Profesiona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536400" indent="-536400">
              <a:lnSpc>
                <a:spcPct val="100000"/>
              </a:lnSpc>
              <a:spcBef>
                <a:spcPts val="1749"/>
              </a:spcBef>
              <a:buClr>
                <a:srgbClr val="463634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바탕"/>
              </a:rPr>
              <a:t> </a:t>
            </a:r>
            <a:r>
              <a:rPr b="0" lang="es-ES" sz="2800" spc="-1" strike="noStrike">
                <a:solidFill>
                  <a:srgbClr val="463634"/>
                </a:solidFill>
                <a:latin typeface="바탕"/>
              </a:rPr>
              <a:t>Manejo responsable de aguas de uso u origen industria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536400" indent="-536400">
              <a:lnSpc>
                <a:spcPct val="100000"/>
              </a:lnSpc>
              <a:spcBef>
                <a:spcPts val="1749"/>
              </a:spcBef>
              <a:buClr>
                <a:srgbClr val="463634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바탕"/>
              </a:rPr>
              <a:t> </a:t>
            </a:r>
            <a:r>
              <a:rPr b="1" lang="es-ES" sz="2800" spc="-1" strike="noStrike">
                <a:solidFill>
                  <a:srgbClr val="463634"/>
                </a:solidFill>
                <a:latin typeface="바탕"/>
              </a:rPr>
              <a:t>Identificar Polutantes de Aguas y sus Tratamiento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590400" y="193680"/>
            <a:ext cx="7867800" cy="2288520"/>
          </a:xfrm>
          <a:prstGeom prst="rect">
            <a:avLst/>
          </a:prstGeom>
          <a:gradFill rotWithShape="0">
            <a:gsLst>
              <a:gs pos="0">
                <a:srgbClr val="f9dbd3"/>
              </a:gs>
              <a:gs pos="100000">
                <a:srgbClr val="fdf4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 mayor limitación del recurso agua, más extensivos debe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ser los tratamiento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Sin embargo, no existen aguas puramente industriales o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meramente provenientes de uso doméstico, se mezcla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dado que son propia de una actividad humana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3886200"/>
            <a:ext cx="8651880" cy="2288520"/>
          </a:xfrm>
          <a:prstGeom prst="rect">
            <a:avLst/>
          </a:prstGeom>
          <a:gradFill rotWithShape="0">
            <a:gsLst>
              <a:gs pos="0">
                <a:srgbClr val="aa947e"/>
              </a:gs>
              <a:gs pos="100000">
                <a:srgbClr val="f9dbd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99"/>
                </a:solidFill>
                <a:latin typeface="Times New Roman"/>
              </a:rPr>
              <a:t>Los tratamientos son bastante similares y existen dos forma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99"/>
                </a:solidFill>
                <a:latin typeface="Times New Roman"/>
              </a:rPr>
              <a:t>de clasificarlos: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cc33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99"/>
                </a:solidFill>
                <a:latin typeface="Times New Roman"/>
              </a:rPr>
              <a:t>Físicos, Químicos y Biológic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cc33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cc33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99"/>
                </a:solidFill>
                <a:latin typeface="Times New Roman"/>
              </a:rPr>
              <a:t>Primarios, Secundarios y Terciari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0492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esechos indeseados más comunes en aguas residuales industrial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16600" y="803160"/>
            <a:ext cx="6823800" cy="4483080"/>
          </a:xfrm>
          <a:prstGeom prst="rect">
            <a:avLst/>
          </a:prstGeom>
          <a:gradFill rotWithShape="0">
            <a:gsLst>
              <a:gs pos="0">
                <a:srgbClr val="f9dbd3"/>
              </a:gs>
              <a:gs pos="100000">
                <a:srgbClr val="aa947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Sustancias orgánicas solubl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Sólidos suspendid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Trazas de compuestos orgánicos  (fenoles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Metales pesad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niones complejos y/o tóxicos, CN</a:t>
            </a:r>
            <a:r>
              <a:rPr b="1" lang="es-ES" sz="24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, Cl</a:t>
            </a:r>
            <a:r>
              <a:rPr b="1" lang="es-ES" sz="2400" spc="-1" strike="noStrike" baseline="30000">
                <a:solidFill>
                  <a:srgbClr val="ff0000"/>
                </a:solidFill>
                <a:latin typeface="Times New Roman"/>
              </a:rPr>
              <a:t>-,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Color y turbidez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Nitrógeno y fósforo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Sustancias refractarias a biodegradación (ABS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ceites y grasa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Sustancias volátil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5680" y="4853160"/>
            <a:ext cx="6066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Volumen Aguas Residuales: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Todos los proceso industriales son distintos entre sí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rente a c/caso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0000ff"/>
                </a:solidFill>
                <a:latin typeface="Times New Roman"/>
              </a:rPr>
              <a:t>Ensayo desechos industriale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61356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4343400" y="4724280"/>
                <a:ext cx="2158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al</m:t>
                        </m:r>
                        <m:r>
                          <m:rPr>
                            <m:lit/>
                            <m:nor/>
                          </m:rPr>
                          <m:t xml:space="preserve">To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al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o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O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" name="Line 9"/>
          <p:cNvSpPr/>
          <p:nvPr/>
        </p:nvSpPr>
        <p:spPr>
          <a:xfrm>
            <a:off x="3886200" y="6095880"/>
            <a:ext cx="685800" cy="15264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55640" y="836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463634"/>
                </a:solidFill>
                <a:uFillTx/>
                <a:latin typeface="Times New Roman"/>
              </a:rPr>
              <a:t>Ensayo Manejo Desechos Industrial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176560" y="301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26920" y="1989000"/>
            <a:ext cx="7705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1.-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Levantar mapa de aguas de procesos, incluyendo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puntos de muestreo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2.-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Establecer Programa de Muestreo y Análisi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3.-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Desarrollar dia</a:t>
            </a: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ramas con balances de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flujos/materia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4.-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Establecer variaciones estadísticas en descargas 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significativas de desech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 u="sng">
                <a:solidFill>
                  <a:srgbClr val="795241"/>
                </a:solidFill>
                <a:uFillTx/>
                <a:latin typeface="Times New Roman"/>
              </a:rPr>
              <a:t>Materia Orgánica</a:t>
            </a:r>
            <a:br>
              <a:rPr sz="3600"/>
            </a:b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Estimada por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572760" indent="-572760">
              <a:spcBef>
                <a:spcPts val="799"/>
              </a:spcBef>
              <a:buClr>
                <a:srgbClr val="795241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BOD 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560000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(mide C</a:t>
            </a:r>
            <a:r>
              <a:rPr b="0" lang="es-ES" sz="3200" spc="-1" strike="noStrike" baseline="-25000">
                <a:solidFill>
                  <a:srgbClr val="560000"/>
                </a:solidFill>
                <a:latin typeface="Times New Roman"/>
              </a:rPr>
              <a:t>org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 biodegradable + N</a:t>
            </a:r>
            <a:r>
              <a:rPr b="0" lang="es-ES" sz="3200" spc="-1" strike="noStrike" baseline="-25000">
                <a:solidFill>
                  <a:srgbClr val="560000"/>
                </a:solidFill>
                <a:latin typeface="Times New Roman"/>
              </a:rPr>
              <a:t>oxidable)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572760" indent="-572760">
              <a:spcBef>
                <a:spcPts val="799"/>
              </a:spcBef>
              <a:buClr>
                <a:srgbClr val="795241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COD 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560000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(mide C</a:t>
            </a:r>
            <a:r>
              <a:rPr b="0" lang="es-ES" sz="3200" spc="-1" strike="noStrike" baseline="-25000">
                <a:solidFill>
                  <a:srgbClr val="560000"/>
                </a:solidFill>
                <a:latin typeface="Times New Roman"/>
              </a:rPr>
              <a:t>org 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 total + S</a:t>
            </a:r>
            <a:r>
              <a:rPr b="0" lang="es-ES" sz="3200" spc="-1" strike="noStrike" baseline="30000">
                <a:solidFill>
                  <a:srgbClr val="560000"/>
                </a:solidFill>
                <a:latin typeface="Times New Roman"/>
              </a:rPr>
              <a:t>º</a:t>
            </a:r>
            <a:r>
              <a:rPr b="0" lang="es-ES" sz="3200" spc="-1" strike="noStrike">
                <a:solidFill>
                  <a:srgbClr val="560000"/>
                </a:solidFill>
                <a:latin typeface="Times New Roman"/>
              </a:rPr>
              <a:t> + S</a:t>
            </a:r>
            <a:r>
              <a:rPr b="0" lang="en-US" sz="3200" spc="-1" strike="noStrike" baseline="30000">
                <a:solidFill>
                  <a:srgbClr val="560000"/>
                </a:solidFill>
                <a:latin typeface="Times New Roman"/>
                <a:ea typeface="Times New Roman"/>
              </a:rPr>
              <a:t>= 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+ Fe</a:t>
            </a:r>
            <a:r>
              <a:rPr b="0" lang="en-US" sz="3200" spc="-1" strike="noStrike" baseline="30000">
                <a:solidFill>
                  <a:srgbClr val="560000"/>
                </a:solidFill>
                <a:latin typeface="Times New Roman"/>
                <a:ea typeface="Times New Roman"/>
              </a:rPr>
              <a:t>2+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572760" indent="-572760">
              <a:spcBef>
                <a:spcPts val="799"/>
              </a:spcBef>
              <a:buClr>
                <a:srgbClr val="795241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TOC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(mide C</a:t>
            </a:r>
            <a:r>
              <a:rPr b="0" lang="en-US" sz="3200" spc="-1" strike="noStrike" baseline="-25000">
                <a:solidFill>
                  <a:srgbClr val="560000"/>
                </a:solidFill>
                <a:latin typeface="Times New Roman"/>
                <a:ea typeface="Times New Roman"/>
              </a:rPr>
              <a:t>org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 total como CO</a:t>
            </a:r>
            <a:r>
              <a:rPr b="0" lang="en-US" sz="3200" spc="-1" strike="noStrike" baseline="-25000">
                <a:solidFill>
                  <a:srgbClr val="56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572760" indent="-572760">
              <a:spcBef>
                <a:spcPts val="799"/>
              </a:spcBef>
              <a:buClr>
                <a:srgbClr val="795241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TOD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(mide C</a:t>
            </a:r>
            <a:r>
              <a:rPr b="0" lang="en-US" sz="3200" spc="-1" strike="noStrike" baseline="-25000">
                <a:solidFill>
                  <a:srgbClr val="560000"/>
                </a:solidFill>
                <a:latin typeface="Times New Roman"/>
                <a:ea typeface="Times New Roman"/>
              </a:rPr>
              <a:t>org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 + (N</a:t>
            </a:r>
            <a:r>
              <a:rPr b="0" lang="en-US" sz="3200" spc="-1" strike="noStrike" baseline="-25000">
                <a:solidFill>
                  <a:srgbClr val="56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560000"/>
                </a:solidFill>
                <a:latin typeface="Times New Roman"/>
                <a:ea typeface="Times New Roman"/>
              </a:rPr>
              <a:t>/S)no oxidable)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560000"/>
                </a:solidFill>
                <a:latin typeface="Times New Roman"/>
                <a:ea typeface="Times New Roman"/>
              </a:rPr>
              <a:t>TOD: theoretical oxygen demand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LA1"/>
          <p:cNvPicPr/>
          <p:nvPr/>
        </p:nvPicPr>
        <p:blipFill>
          <a:blip r:embed="rId1"/>
          <a:stretch/>
        </p:blipFill>
        <p:spPr>
          <a:xfrm>
            <a:off x="1941480" y="0"/>
            <a:ext cx="5261040" cy="99028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623600" y="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Verdana"/>
              </a:rPr>
              <a:t>Decreto Supremo 9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4 Conector recto"/>
          <p:cNvSpPr/>
          <p:nvPr/>
        </p:nvSpPr>
        <p:spPr>
          <a:xfrm>
            <a:off x="3786120" y="4929120"/>
            <a:ext cx="285768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6 Conector recto"/>
          <p:cNvSpPr/>
          <p:nvPr/>
        </p:nvSpPr>
        <p:spPr>
          <a:xfrm>
            <a:off x="3857760" y="5357880"/>
            <a:ext cx="1785960" cy="1440"/>
          </a:xfrm>
          <a:prstGeom prst="line">
            <a:avLst/>
          </a:prstGeom>
          <a:ln w="255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498760" y="0"/>
            <a:ext cx="41464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3086280" y="1219320"/>
            <a:ext cx="2971800" cy="1295280"/>
          </a:xfrm>
          <a:prstGeom prst="flowChartProcess">
            <a:avLst/>
          </a:prstGeom>
          <a:solidFill>
            <a:srgbClr val="aa947e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2133720" y="3429000"/>
            <a:ext cx="2057400" cy="1523880"/>
          </a:xfrm>
          <a:prstGeom prst="flowChartProcess">
            <a:avLst/>
          </a:prstGeom>
          <a:solidFill>
            <a:srgbClr val="aa947e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5562720" y="3429000"/>
            <a:ext cx="2133360" cy="1523880"/>
          </a:xfrm>
          <a:prstGeom prst="flowChartProcess">
            <a:avLst/>
          </a:prstGeom>
          <a:solidFill>
            <a:srgbClr val="aa947e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cxnSp>
        <p:nvCxnSpPr>
          <p:cNvPr id="46" name="AutoShape 5"/>
          <p:cNvCxnSpPr/>
          <p:nvPr/>
        </p:nvCxnSpPr>
        <p:spPr>
          <a:xfrm rot="5400000">
            <a:off x="4513320" y="3486600"/>
            <a:ext cx="2520" cy="2934360"/>
          </a:xfrm>
          <a:prstGeom prst="bentConnector3">
            <a:avLst>
              <a:gd name="adj1" fmla="val 19683333"/>
            </a:avLst>
          </a:prstGeom>
          <a:ln w="9360">
            <a:solidFill>
              <a:srgbClr val="ccff66"/>
            </a:solidFill>
            <a:miter/>
            <a:tailEnd len="med" type="triangle" w="med"/>
          </a:ln>
        </p:spPr>
      </p:cxnSp>
      <p:sp>
        <p:nvSpPr>
          <p:cNvPr id="47" name="Text Box 6"/>
          <p:cNvSpPr/>
          <p:nvPr/>
        </p:nvSpPr>
        <p:spPr>
          <a:xfrm>
            <a:off x="3181320" y="1295280"/>
            <a:ext cx="278136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63634"/>
                </a:solidFill>
                <a:latin typeface="Times New Roman"/>
              </a:rPr>
              <a:t>Proceso de Manufactur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133720" y="3429000"/>
            <a:ext cx="1981080" cy="100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63634"/>
                </a:solidFill>
                <a:latin typeface="Times New Roman"/>
              </a:rPr>
              <a:t>Productos y subproductos útile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791320" y="3429000"/>
            <a:ext cx="1752480" cy="1313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63634"/>
                </a:solidFill>
                <a:latin typeface="Times New Roman"/>
              </a:rPr>
              <a:t>Descarga que puede requerir tratamiento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352680" y="304920"/>
            <a:ext cx="2438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4572000" y="762120"/>
            <a:ext cx="0" cy="45720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6019920" y="685800"/>
            <a:ext cx="2057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Contaminante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impurezas)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Line 12"/>
          <p:cNvSpPr/>
          <p:nvPr/>
        </p:nvSpPr>
        <p:spPr>
          <a:xfrm flipH="1">
            <a:off x="4800240" y="990720"/>
            <a:ext cx="1219320" cy="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1219320"/>
            <a:ext cx="3276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Medio de Reacción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(agua, solventes orgánicos)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380880" y="1828800"/>
            <a:ext cx="2438640" cy="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57200" y="2133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Catalizador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685800" y="2438280"/>
            <a:ext cx="2286000" cy="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7467480" y="1676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misiones a la Atmósfera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cxnSp>
        <p:nvCxnSpPr>
          <p:cNvPr id="59" name="AutoShape 18"/>
          <p:cNvCxnSpPr/>
          <p:nvPr/>
        </p:nvCxnSpPr>
        <p:spPr>
          <a:xfrm flipV="1" rot="16200000">
            <a:off x="5609880" y="2485440"/>
            <a:ext cx="1505520" cy="381600"/>
          </a:xfrm>
          <a:prstGeom prst="bentConnector3">
            <a:avLst>
              <a:gd name="adj1" fmla="val 98828"/>
            </a:avLst>
          </a:prstGeom>
          <a:ln w="9360">
            <a:solidFill>
              <a:srgbClr val="ccff66"/>
            </a:solidFill>
            <a:miter/>
            <a:tailEnd len="med" type="triangle" w="med"/>
          </a:ln>
        </p:spPr>
      </p:cxnSp>
      <p:sp>
        <p:nvSpPr>
          <p:cNvPr id="60" name="Text Box 19"/>
          <p:cNvSpPr/>
          <p:nvPr/>
        </p:nvSpPr>
        <p:spPr>
          <a:xfrm>
            <a:off x="6172200" y="1600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Reciclo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3886200" y="5029200"/>
            <a:ext cx="18288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Subproducto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interé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5715000" y="5638680"/>
            <a:ext cx="1447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gua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residuale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7238880" y="55627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Sólidos y Lodo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990720" y="64008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1143000" y="62485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</a:rPr>
              <a:t>Proceso de Manufactura Industria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Line 25"/>
          <p:cNvSpPr/>
          <p:nvPr/>
        </p:nvSpPr>
        <p:spPr>
          <a:xfrm flipV="1">
            <a:off x="7391520" y="2438280"/>
            <a:ext cx="685800" cy="99072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" name="Line 26"/>
          <p:cNvSpPr/>
          <p:nvPr/>
        </p:nvSpPr>
        <p:spPr>
          <a:xfrm>
            <a:off x="5715000" y="2514600"/>
            <a:ext cx="0" cy="91440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3733920" y="2514600"/>
            <a:ext cx="0" cy="91440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Line 28"/>
          <p:cNvSpPr/>
          <p:nvPr/>
        </p:nvSpPr>
        <p:spPr>
          <a:xfrm>
            <a:off x="7391520" y="5029200"/>
            <a:ext cx="533160" cy="53352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Line 29"/>
          <p:cNvSpPr/>
          <p:nvPr/>
        </p:nvSpPr>
        <p:spPr>
          <a:xfrm flipH="1">
            <a:off x="6324120" y="5029200"/>
            <a:ext cx="304920" cy="533520"/>
          </a:xfrm>
          <a:prstGeom prst="line">
            <a:avLst/>
          </a:prstGeom>
          <a:ln w="9360">
            <a:solidFill>
              <a:srgbClr val="cc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Rectangle 30"/>
          <p:cNvSpPr/>
          <p:nvPr/>
        </p:nvSpPr>
        <p:spPr>
          <a:xfrm>
            <a:off x="4113720" y="22860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Reactivo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-461520" y="461880"/>
            <a:ext cx="10518120" cy="5946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63634"/>
                </a:solidFill>
                <a:latin typeface="Times New Roman"/>
              </a:rPr>
              <a:t>Todos los residuos tienen que ir a alguna parte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63634"/>
                </a:solidFill>
                <a:latin typeface="Times New Roman"/>
              </a:rPr>
              <a:t>Cuán rápido van y dónde van, depende de: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cc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99"/>
                </a:solidFill>
                <a:latin typeface="Times New Roman"/>
              </a:rPr>
              <a:t>Propiedades que afectan la movilidad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99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cc0099"/>
                </a:solidFill>
                <a:latin typeface="Times New Roman"/>
              </a:rPr>
              <a:t>(densidad, viscosidad, solubilidad</a:t>
            </a:r>
            <a:r>
              <a:rPr b="1" lang="es-ES" sz="2400" spc="-1" strike="noStrike">
                <a:solidFill>
                  <a:srgbClr val="4636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b) </a:t>
            </a:r>
            <a:r>
              <a:rPr b="1" lang="es-CL" sz="2400" spc="-1" strike="noStrike">
                <a:solidFill>
                  <a:srgbClr val="ff0066"/>
                </a:solidFill>
                <a:latin typeface="Times New Roman"/>
              </a:rPr>
              <a:t>Propiedades que evalúan la movilidad:</a:t>
            </a: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Factores de bioconcentración,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adsorción en suelos, difusión, presión de vapor, etc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c) 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Propiedades </a:t>
            </a:r>
            <a:r>
              <a:rPr b="1" lang="es-CL" sz="2400" spc="-1" strike="noStrike">
                <a:solidFill>
                  <a:srgbClr val="cc0000"/>
                </a:solidFill>
                <a:latin typeface="Times New Roman"/>
              </a:rPr>
              <a:t>para evaluar 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persistencia</a:t>
            </a:r>
            <a:r>
              <a:rPr b="1" lang="es-CL" sz="24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Biodegradación, hidrólisis, oxido-reducción, fotolisi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                                      </a:t>
            </a:r>
            <a:r>
              <a:rPr b="1" lang="es-ES" sz="2400" spc="-1" strike="noStrike" u="sng">
                <a:solidFill>
                  <a:srgbClr val="009900"/>
                </a:solidFill>
                <a:uFillTx/>
                <a:latin typeface="Times New Roman"/>
              </a:rPr>
              <a:t>Concentración Ambiental Potencial</a:t>
            </a:r>
            <a:r>
              <a:rPr b="1" lang="es-CL" sz="2400" spc="-1" strike="noStrike" u="sng">
                <a:solidFill>
                  <a:srgbClr val="009900"/>
                </a:solidFill>
                <a:uFillTx/>
                <a:latin typeface="Times New Roman"/>
              </a:rPr>
              <a:t>  (PEC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219320" y="5181480"/>
            <a:ext cx="976320" cy="486000"/>
          </a:xfrm>
          <a:prstGeom prst="pie">
            <a:avLst/>
          </a:prstGeom>
          <a:solidFill>
            <a:srgbClr val="f9dbd3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42440" y="247968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63634"/>
                </a:solidFill>
                <a:latin typeface="Times New Roman"/>
              </a:rPr>
              <a:t>Producció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63634"/>
                </a:solidFill>
                <a:latin typeface="Times New Roman"/>
              </a:rPr>
              <a:t>Industrial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844560" y="5029200"/>
            <a:ext cx="2689200" cy="459720"/>
          </a:xfrm>
          <a:prstGeom prst="rect">
            <a:avLst/>
          </a:prstGeom>
          <a:noFill/>
          <a:ln w="9360">
            <a:solidFill>
              <a:srgbClr val="5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60000"/>
                </a:solidFill>
                <a:latin typeface="Times New Roman"/>
              </a:rPr>
              <a:t>Usos No dispersiv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181480" y="5867280"/>
            <a:ext cx="1746360" cy="825480"/>
          </a:xfrm>
          <a:prstGeom prst="rect">
            <a:avLst/>
          </a:prstGeom>
          <a:noFill/>
          <a:ln w="9360">
            <a:solidFill>
              <a:srgbClr val="5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Reciclo fina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351160" y="2479680"/>
            <a:ext cx="159660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Patrones d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Emisió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940640" y="727200"/>
            <a:ext cx="164088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Estratósfer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016240" y="2174760"/>
            <a:ext cx="24879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Tropósfera  (biota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119480" y="3429000"/>
            <a:ext cx="261288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Aguas Subterránea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167240" y="3733920"/>
            <a:ext cx="1486800" cy="265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Rí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Lag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Oceán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Emisarios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públic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Sedimento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Marino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1295280" y="3429000"/>
            <a:ext cx="381240" cy="1600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2819520" y="5638680"/>
            <a:ext cx="2209680" cy="2286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1981080" y="2743200"/>
            <a:ext cx="228600" cy="763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Line 13"/>
          <p:cNvSpPr/>
          <p:nvPr/>
        </p:nvSpPr>
        <p:spPr>
          <a:xfrm flipV="1">
            <a:off x="3809880" y="1371600"/>
            <a:ext cx="1143000" cy="9144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4267080" y="2590560"/>
            <a:ext cx="609840" cy="1522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2819520" y="3429000"/>
            <a:ext cx="1143000" cy="6858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4191120" y="4114800"/>
            <a:ext cx="2514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6324480" y="4800600"/>
            <a:ext cx="685800" cy="763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288720" y="19368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66"/>
                </a:solidFill>
                <a:latin typeface="Times New Roman"/>
              </a:rPr>
              <a:t>En cada compartimiento ocurre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66"/>
                </a:solidFill>
                <a:uFillTx/>
                <a:latin typeface="Times New Roman"/>
              </a:rPr>
              <a:t>a su vez mecanismos degradativ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026"/>
          <p:cNvSpPr/>
          <p:nvPr/>
        </p:nvSpPr>
        <p:spPr>
          <a:xfrm>
            <a:off x="684360" y="609480"/>
            <a:ext cx="845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Tabla 1. 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Agua consumida por la industria; porcentaje del         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total de agua alimentada</a:t>
            </a: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 que queda en product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Text Box 1027"/>
          <p:cNvSpPr/>
          <p:nvPr/>
        </p:nvSpPr>
        <p:spPr>
          <a:xfrm>
            <a:off x="826920" y="2205000"/>
            <a:ext cx="27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Text Box 1028"/>
          <p:cNvSpPr/>
          <p:nvPr/>
        </p:nvSpPr>
        <p:spPr>
          <a:xfrm>
            <a:off x="250920" y="2276640"/>
            <a:ext cx="8497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orcentaje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 Porcentaje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Industria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de la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Industria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     de la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alimentación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      alimentación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Automóvile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6.2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Carne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3.2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Azúcar de remolach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10.5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etróleo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7.2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roductos químico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5.9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rocesado de aves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5.3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reparación de carbón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ulpa y papel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4.3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de piedr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18.2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Sal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27.6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Maíz y trigo (molienda)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20.6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Jabones y detergente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8.5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Destilación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10.4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Acero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7.3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rocesado de alimento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33.6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Azúcar de cañ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15.9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Maquinari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21.4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Textil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6.7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63634"/>
                </a:solidFill>
                <a:latin typeface="Times New Roman"/>
              </a:rPr>
              <a:t>Tabla </a:t>
            </a:r>
            <a:r>
              <a:rPr b="0" lang="es-ES" sz="1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463634"/>
                </a:solidFill>
                <a:latin typeface="Times New Roman"/>
              </a:rPr>
              <a:t>Requerimientos de agua de industrias seleccionadas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Unidad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463634"/>
                </a:solidFill>
                <a:latin typeface="Times New Roman"/>
              </a:rPr>
              <a:t>             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 Galone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Litro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Industria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de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    por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por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          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Producción                       Unidad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	</a:t>
            </a:r>
            <a:r>
              <a:rPr b="0" lang="es-ES" sz="2000" spc="-1" strike="noStrike" u="sng">
                <a:solidFill>
                  <a:srgbClr val="463634"/>
                </a:solidFill>
                <a:uFillTx/>
                <a:latin typeface="Times New Roman"/>
              </a:rPr>
              <a:t>Unidad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63634"/>
                </a:solidFill>
                <a:latin typeface="Times New Roman"/>
              </a:rPr>
              <a:t>Productos alimenticio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Azúcar de remolach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Tonelada de remolach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7,000*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26,400*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Bebidas alcohólica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Galón de graduación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125-170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474-642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Carne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es-CL" sz="20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000 lb (454 kg) d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ganado en pie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600-3,500†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Legumbres, enlatada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Caj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3-250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11.3-945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63634"/>
                </a:solidFill>
                <a:latin typeface="Times New Roman"/>
              </a:rPr>
              <a:t>Productos manufacturado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Automóvile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Vehículo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10,000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37,850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Artículos de algodón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1,000 lb (454 kg)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20,000-100,000    75,700-378,500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iele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1,000 pies2 (92.9 m2)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de cueros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    200-64,000            757-242,000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apel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Tonelad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 2,000-100,000       7,570-378,500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ulpa de papel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Tonelada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       4,000-60,000       15,100-226,000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94720" y="42228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imes New Roman"/>
              </a:rPr>
              <a:t>Sólo un muy pequeño % del agua consumida por la industri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imes New Roman"/>
              </a:rPr>
              <a:t>es incorporada a los productros que se manufactura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46280" y="1641600"/>
            <a:ext cx="6035400" cy="265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63634"/>
                </a:solidFill>
                <a:uFillTx/>
                <a:latin typeface="Times New Roman"/>
              </a:rPr>
              <a:t>Ejemplos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3,2 % industria cárnic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5,3 % procesado de av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10,5 % azucar de remolach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20,6 % Maíz y trigo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33,6 % procesado de aliment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1120" y="5181480"/>
            <a:ext cx="818172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Una fracción muy importante corresponde a aguas de l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intercambiadores de calor y las de lavado de reactores y pis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199160" y="24768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Tratamiento de Aguas Industrial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920" y="1905120"/>
            <a:ext cx="9037440" cy="302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Tratamiento de purificación para uso doméstico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Tratamiento para aplicaciones industriales específica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Tratamiento de Aguas Residuales para reuso o descarga aceptable</a:t>
            </a:r>
            <a:r>
              <a:rPr b="1" lang="es-E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80880" y="5305320"/>
            <a:ext cx="915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guas domésticas puede tener dureza pero no microorganism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gua para calderas puede contener bacterias pero no Ca, Mg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gua para intercambiadores de calor no puede ser corrosiv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692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63634"/>
                </a:solidFill>
                <a:latin typeface="Times New Roman"/>
              </a:rPr>
              <a:t>Tratamiento de Aguas para uso Industrial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68360" y="1773360"/>
            <a:ext cx="8280360" cy="37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Usos más comun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463634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Agua de Alimentación para Calderas (exenta de dureza</a:t>
            </a:r>
            <a:r>
              <a:rPr b="0" lang="es-CL" sz="2400" spc="-1" strike="noStrike">
                <a:solidFill>
                  <a:srgbClr val="463634"/>
                </a:solidFill>
                <a:latin typeface="Times New Roman"/>
              </a:rPr>
              <a:t>,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O</a:t>
            </a:r>
            <a:r>
              <a:rPr b="0" lang="es-ES" sz="2400" spc="-1" strike="noStrike" baseline="-25000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es-CL" sz="2400" spc="-1" strike="noStrike" baseline="-25000">
                <a:solidFill>
                  <a:srgbClr val="463634"/>
                </a:solidFill>
                <a:latin typeface="Times New Roman"/>
              </a:rPr>
              <a:t>    y  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CO</a:t>
            </a:r>
            <a:r>
              <a:rPr b="0" lang="es-ES" sz="2400" spc="-1" strike="noStrike" baseline="-25000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463634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Agua para enfriadores (torres o intercambiadores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(exenta de sustancias corrosivas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463634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Procesos en Industria Alimento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63634"/>
                </a:solidFill>
                <a:latin typeface="Times New Roman"/>
              </a:rPr>
              <a:t>(exenta de patógenos y sustancias tóxicas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4:13:50Z</dcterms:created>
  <dc:creator>Fernando Valenzuela</dc:creator>
  <dc:description/>
  <dc:language>en-US</dc:language>
  <cp:lastModifiedBy>Fernando Valenzuela</cp:lastModifiedBy>
  <dcterms:modified xsi:type="dcterms:W3CDTF">2010-04-06T13:45:17Z</dcterms:modified>
  <cp:revision>78</cp:revision>
  <dc:subject/>
  <dc:title>Presentación de PowerPoint</dc:title>
</cp:coreProperties>
</file>