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76C16-BE00-456A-864D-CC5D9AED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2037A-881C-47AE-B6A7-158E8D3D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4AFDD-86E0-4702-9051-ED0E9AB1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42044-882D-4C4E-8B4D-26C79390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5D9F-C5C5-49F2-B6D3-6A50D9EC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10F7-F57F-42F9-9B1D-73F57752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2874-53AB-470B-B8C4-EA414FF4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1251-D572-4B53-93B9-872B5E59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84B4-8E3B-42AD-9DE6-FDBFBDC1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328E-387D-40ED-881D-4B5EAA79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89C8-11AB-4E4A-9318-3F43B633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583BC-6ACA-4330-96AD-ACEC3A73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859A-D83A-4294-BE50-A2EF7F7F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3C44-6A0A-4F5D-86D8-67BF68AD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D1E0-5FD8-4CE5-A6BA-C3EA3210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9EB8-B0DF-4446-B818-3CFF7E74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2FDD-4FEE-4928-913C-3B7BABB9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E4070-450D-4482-9DC8-C6859893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9F225-4795-4EFC-9809-BA8728C2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7E6D8-DFAF-497E-B8F7-4BC38C57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4D71-3F79-469E-B75B-B6482135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0DF8E-08B5-4427-B0B8-4A614E8C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CFD3A-80DF-40B9-9356-108A8A84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7E44E-6AAE-4AC0-A99F-F39D4A3F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7E7E-2185-452E-8B33-9BC9B6FB92B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2475-EED3-47A5-8C3F-5A8A9DD3541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stadística Descriptiv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ementos de Estadíst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titativos: provienen de variables que pueden medirse, cuantificarse o expresarse numéricamente. 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sidad de un s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idad de her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os de variables cuantitativ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as: es aquella que solo puede tomar un número finito o infinito numerable de valores. Ejemplo: cantidad de her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s: es la variable que puede tomar cualquier valor en una escala continua. Ejemplo: cantidad de líquido contenido en un recip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95120" y="2238120"/>
            <a:ext cx="74754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Nom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Ord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Interva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Razón o Propor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Absolu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716360" y="2205000"/>
            <a:ext cx="2900160" cy="792360"/>
            <a:chOff x="4716360" y="2205000"/>
            <a:chExt cx="2900160" cy="792360"/>
          </a:xfrm>
        </p:grpSpPr>
        <p:sp>
          <p:nvSpPr>
            <p:cNvPr id="138" name=""/>
            <p:cNvSpPr/>
            <p:nvPr/>
          </p:nvSpPr>
          <p:spPr>
            <a:xfrm>
              <a:off x="4716360" y="2205000"/>
              <a:ext cx="287280" cy="79236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51240" y="2363760"/>
              <a:ext cx="24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ariables Cualitati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164360" y="3284640"/>
            <a:ext cx="1583640" cy="1439640"/>
            <a:chOff x="7164360" y="3284640"/>
            <a:chExt cx="1583640" cy="1439640"/>
          </a:xfrm>
        </p:grpSpPr>
        <p:sp>
          <p:nvSpPr>
            <p:cNvPr id="141" name=""/>
            <p:cNvSpPr/>
            <p:nvPr/>
          </p:nvSpPr>
          <p:spPr>
            <a:xfrm>
              <a:off x="7164360" y="3284640"/>
              <a:ext cx="287280" cy="143964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74680" y="3644640"/>
              <a:ext cx="127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Vari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uantit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360" y="2176200"/>
            <a:ext cx="8005680" cy="35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nominal: los datos se pueden agrupar en categorí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 no mantienen una relación de orden entre 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or lo tanto no están definidas las operaciones lógicas (&gt;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sino solo las de igualdad o diferenc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color de ojos, sexo, profesión, estado civil, relig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ala ordinal: existe un cierto orden o jerarquía entre las categorías (&gt;, &lt;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 grados militares, organigrama de una empresa, escalafón de los profesores universitarios, grados de disnea, estadiaje de un tu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39152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la de Intervalos: valores numéricos de las variables y además de las relaciones de orden (&gt;, &lt;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se pueden establecer distancias, es decir, tienen sentido las operaciones de suma y resta. Tiene dos propie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a unidad de medida que se mantiene constante para todos los valores que toma la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 valor patrón u origen relativo que no significa la ausencia de valor en la vari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5675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razón o proporción: es la más completa y general de todas las escalas. Se caracteriza porque los valores de la variable son números entre los cuales, además de las relaciones de orden (&gt;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y distancia (+,-), se pueden establecer múltiplos y propor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peso, altura, volum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Absoluta: se caracteriza porque los valores que toma la variable son el resultado 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por lo tanto, está constituida por los enteros positivos y el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número de hermanos, cantidad de autos vendidos, cantidad de accidentes en una intersección, cantidad de hijos,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atos Univariantes y Multivari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ivariantes o unidimensionales: sólo recogen información sobre una característica (Ej: edad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ivariantes o bidimensionales: recogen información sobre dos características de la población. (Ej: edad y estatura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atos Univariantes y Multivari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ltivariantes o pluridimensionales: recogen información sobre tres ó más características. (Ej: edad, estatura y peso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lementos básic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ementos de Estadíst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44520" y="2238120"/>
            <a:ext cx="362736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vez que se ha realizado la recolección de los datos, se obtienen datos en bruto, los cuales rara vez son significativos sin una organización y tabu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932360" y="2565360"/>
            <a:ext cx="331308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493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distribución de frecuencias: es un arreglo de los datos que permite expresar la frecuencia de ocurrencias de las observaciones en cada una de las clases, mostrando el patrón de la distribución de manera más signific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20800" y="4105440"/>
          <a:ext cx="7048440" cy="1724040"/>
        </p:xfrm>
        <a:graphic>
          <a:graphicData uri="http://schemas.openxmlformats.org/drawingml/2006/table">
            <a:tbl>
              <a:tblPr/>
              <a:tblGrid>
                <a:gridCol w="1174680"/>
                <a:gridCol w="1176480"/>
                <a:gridCol w="1174680"/>
                <a:gridCol w="1171440"/>
                <a:gridCol w="1176480"/>
                <a:gridCol w="11746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a de Cl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0" lang="en-US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0" lang="en-US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2400" y="2238120"/>
            <a:ext cx="748008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Distribución de Fr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comienda su uso cuando se tienen grandes cantidades de datos (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 construcción requiere, en primer lugar, la selección de los límites de los intervalos de cl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definir la cantidad de intervalos de clase (k), se puede us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gla de Sturges:  k = 1 + 3.3log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e Clase = (Li+Ls)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absoluta de la clase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acumulada de la clase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relativa de la clase (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relativa acumulada de la clase (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gráficos permiten visualizar en forma global y rápida el comportamiento de los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cuantitativos agrupados en clases, comúnmente se utilizan tres gráf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istogram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lígono de frecuenci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jiva o Polígono de frecuencias acumulad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116000" y="2249640"/>
            <a:ext cx="7808400" cy="4275000"/>
            <a:chOff x="1116000" y="2249640"/>
            <a:chExt cx="7808400" cy="42750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116000" y="2249640"/>
              <a:ext cx="6049800" cy="42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 flipH="1">
              <a:off x="7164000" y="3500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80440" y="330660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istogra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3600360" cy="25002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433440" y="3716280"/>
            <a:ext cx="7859520" cy="2895480"/>
            <a:chOff x="433440" y="3716280"/>
            <a:chExt cx="7859520" cy="289548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5435640" y="3716280"/>
              <a:ext cx="28573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859280" y="53737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3440" y="5157720"/>
              <a:ext cx="42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istograma y Polígono de Fr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863000" y="2492280"/>
            <a:ext cx="5804280" cy="2808000"/>
            <a:chOff x="1863000" y="2492280"/>
            <a:chExt cx="5804280" cy="28080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4083840" y="2492280"/>
              <a:ext cx="3583440" cy="28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871000" y="3193200"/>
              <a:ext cx="8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63000" y="2975400"/>
              <a:ext cx="72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Oj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datos cualitativos se us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6897240" y="4576680"/>
            <a:ext cx="3816360" cy="36828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Verdana"/>
              </a:rPr>
              <a:t>Tema 2. Estadística Descrip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818080" y="1628640"/>
            <a:ext cx="6291000" cy="3029040"/>
            <a:chOff x="2818080" y="1628640"/>
            <a:chExt cx="6291000" cy="302904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4545000" y="1628640"/>
              <a:ext cx="456408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753000" y="242100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8080" y="221940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r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08000" y="3645000"/>
            <a:ext cx="6790680" cy="3168720"/>
            <a:chOff x="108000" y="3645000"/>
            <a:chExt cx="6790680" cy="316872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108000" y="3645000"/>
              <a:ext cx="475272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364000" y="5732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3800" y="553248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r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blación: es la colección d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d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s posibles mediciones u observaciones que pueden hacerse de una variable bajo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8000" y="4005360"/>
            <a:ext cx="2625840" cy="2158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132000" y="4076640"/>
            <a:ext cx="18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508720" y="3716280"/>
            <a:ext cx="27208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340000" y="2708280"/>
            <a:ext cx="5822640" cy="2719440"/>
            <a:chOff x="2340000" y="2708280"/>
            <a:chExt cx="5822640" cy="271944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2340000" y="2708280"/>
              <a:ext cx="388944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516720" y="44928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47520" y="429120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ur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543560" cy="3752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58680" y="164304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tores, torta o 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tendencia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esponden a valores que generalmente se ubican en la parte central de un conjunt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rma como los datos pueden condensarse en un solo valor central alrededor del cual todos los datos muestrales se distribuy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tendencia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medidas de tendencia central más importante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 aritmé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69246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no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330720" y="2606760"/>
                <a:ext cx="15411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468360" y="3914640"/>
            <a:ext cx="62262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a datos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492360" y="4437000"/>
                <a:ext cx="13273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2127600" y="5740560"/>
            <a:ext cx="4531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onde: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punto medio de la cl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frecuencia absoluta de la cl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valor que ocupa la posición central de un conjunto de observaciones, una vez que han sido ordenados en forma ascendente o descend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al conjunto de datos en dos partes ig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datos no agrup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 es impar: posición donde se ubica la mediana es igual a (n+1)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 es par: (n+1)/2 no es entero, por lo tanto la mediana será igual al promedio de las dos posiciones cent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5754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os agrupados: clase mediana es la que contiene a la observación que ocupa la posición n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059280" y="3357720"/>
                <a:ext cx="26841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881280" y="4648320"/>
            <a:ext cx="726732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onde:   Lm: límite inferior del intervalo (clase) donde se ubica la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m-1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: frecuencia acumulada de la clase anterior a la clase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: frecuencia absoluta de la clase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m: amplitud del intervalo donde se ubica la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bservación o clase que tiene la mayor frecuencia en un conjunto de observ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 conjunto de datos puede ser unimodal, bimodal o multimod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a única medida de tendencia central que se puede determinar para datos de tipo cualit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168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no agrupados: es simplemente la observación que más se rep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771640" y="3429000"/>
                <a:ext cx="33004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539640" y="4508640"/>
            <a:ext cx="80647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onde:   Lm: límite inferior de la clase mo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diferencia entr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de la clase modal y l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anteri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diferencia entr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de la clase modal y la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m: amplitud de la clase modal (clase de 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recuenc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lasifica en dos categorí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a: es aquella que incluye una cantidad limitada contable de observaciones, individuos o medidas. Siempre que sea posible alcanzar (contar) el número total de todas las posibles mediciones, se considera como finita l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867280" y="4908600"/>
            <a:ext cx="210816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ción entre la media, la mediana y la mo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957320" y="1700280"/>
            <a:ext cx="5567400" cy="2014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978200" y="4221000"/>
            <a:ext cx="5473440" cy="1981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556640" y="6308640"/>
            <a:ext cx="62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ando los datos son sesgados es mejor emplear la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ropiedad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uma de las diferencias entre las media muestral y el valor de cada observación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edia de una constante es la cons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todas las observaciones 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se multiplican por una constante, la media también se debe multiplicar por ese mismo valor cons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ea en su cálculo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expresa en las mismas unidades que la variable en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centro de gravedad de toda la distribución, representando a todos los valores observ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valor ú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trata de un concepto familiar para la mayoría de las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útil para llevar a cabo procedimientos estadísticos como la comparación de medias de varios conjuntos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ve adversamente afectada por valores extremos, perdiendo representativ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el conjunto de datos es muy grande puede ser tedioso su cálculo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 puede calcular para datos cualit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 puede calcular para datos que tengan clases de extremo abierto, tanto superior como inf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6920" y="1827000"/>
            <a:ext cx="7496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 si el número de observaciones no es muy gr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ve influenciada por valores extremos, ya que solo influyen los valores cent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ent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calcular para cualquier tipos de datos cuantitativos, incluso los datos con clase de extremo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medida de tendencia central más representativa en el caso de variables que solo admiten la escala ord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tiliza en su “cálculo”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ondera cada valor por el número de veces que se ha repet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ordenar los datos antes de determinar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quiere cálcu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usarse para datos tanto cuantitativos como cualit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interpre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ve influenciada por valores extre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calcular en clases de extremo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9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conjuntos pequeños de datos su valor no tiene casi utilidad, si es que de hecho existe. Solo tiene significado en el caso de una gran cantidad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tiliza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empre existe, si los datos no se repi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a: es aquella que incluye un gran conjunto de observaciones o mediciones que no pueden alcanzarse por conteo. Al menos, hipotéticamente, no existe límite en cuanto al número de observaciones que el experimento puede gen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51640" y="465300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ocasiones, el azar hace que una sola observación se no representativa se el valor más frecuente del conjunt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ícil de interpretar si los datos tiene 3 o más mo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valores numéricos que indican o describen la forma en que las observaciones están dispersas o diseminadas, con respecto al valor cen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importantes debido a que dos muestras de observaciones con el mismo valor central pueden tener una variabilidad muy disti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40000" y="3938760"/>
            <a:ext cx="47242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viación Típ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ficiente de vari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(amplitud o recorrid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á determinado por los dos valores extremos de los datos muestrales, es simplemente la diferencia entre la mayor y menor observ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a medida de dispersión absoluta, ya que depende solamente de los datos y permite conocer la máxima disper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i no se emplea debido a que depende únicamente de dos val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porciona una medida de variabilidad de las observaciones con respecto al centro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Var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 valor numérico que mide el grado de dispersión relativa porque depende de la posición de los datos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on respecto a la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el promedio al cuadrado de las desviaciones de cada observación con respecto a la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ción: s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Var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5000" y="1998360"/>
            <a:ext cx="814068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varianza de un conjunto de observaciones es grande se dice que los datos tiene una mayor variabilidad que un conjunto de datos que tenga un varianza me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708360" y="3716280"/>
                <a:ext cx="2189160" cy="26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: Desviación Típ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59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la raíz cuadrada de la var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ción: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168720" y="3019320"/>
                <a:ext cx="1861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: Coeficiente de Vari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a medida de dispersión relativa que permite comparar el nivel de dispersión de dos muestras de variables estadísticas difer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iene dimen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ción: 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168720" y="4722840"/>
                <a:ext cx="2333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×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st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 conjunto de mediciones u observaciones tomadas a partir de un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 subconjunto de l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84360" y="4433760"/>
            <a:ext cx="4354560" cy="20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l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til cuando se quiere conocer la extensión de las variaciones extremas (valor máximo de la dispers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l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s una MD con respecto al centro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o emplea dos valores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puede calcular en distribuciones de límite de clase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Var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ieda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mpre es mayor o igual a cero y menor que infin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arianza de una constante es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Var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útil cuando se compara la variabilidad de dos o más conjuntos de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 toda la información dispon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porciona ayuda inmediata cuando se estudia la dispersión de un solo conjunto de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ícil de interpretar por tener sus unidades elevadas al cuad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Desviación Típ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 expresada en las mismas unidades que la variable en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 todas las observaciones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interpre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i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l Coeficiente de Vari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única MD que permite comparar el nivel de dispersión de dos muestras de variables difer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ea toda la información disponible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edidas de Posición: Percent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mento ubicado en la posición k%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268360" y="2781360"/>
                <a:ext cx="38163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600120" y="4284720"/>
            <a:ext cx="8075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marL="88920" indent="-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partir de esto, se pueden definir 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uar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Dec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Quin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Posición: Cuar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uart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849840" y="2708280"/>
                <a:ext cx="16556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417840" y="3645000"/>
                <a:ext cx="2522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849840" y="4437000"/>
                <a:ext cx="1592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medidas numéricas que permiten determinar la forma que tiene la curva de los datos, por lo tanto, sirven para corroborar lo que los gráficos muest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62640" y="4740120"/>
            <a:ext cx="11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d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42680" y="4595760"/>
            <a:ext cx="2916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si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Kurtosis o apunt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21840" y="444348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eficiente de Pea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eficiente Yule-Bow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51080" y="443700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35440" y="4437000"/>
            <a:ext cx="71640" cy="649440"/>
          </a:xfrm>
          <a:custGeom>
            <a:avLst/>
            <a:gdLst>
              <a:gd name="textAreaLeft" fmla="*/ 45720 w 71640"/>
              <a:gd name="textAreaRight" fmla="*/ 72000 w 7164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n estudiar la forma de la curva, dependiendo de cómo se agrupan los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124000" y="3716280"/>
            <a:ext cx="5567400" cy="20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stra aleatoria: se considera aleatoria siempre y cuando cada observación, medición o individuo de la población tenga la misma probabilidad de ser seleccio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16360" y="4437000"/>
            <a:ext cx="32400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eficiente de Asimetría de Pear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ácil de calcular e interpre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álcu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700360" y="3068640"/>
                <a:ext cx="25272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</m:e>
                        </m:d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9" name=""/>
          <p:cNvGrpSpPr/>
          <p:nvPr/>
        </p:nvGrpSpPr>
        <p:grpSpPr>
          <a:xfrm>
            <a:off x="1582200" y="4078440"/>
            <a:ext cx="6094800" cy="2086920"/>
            <a:chOff x="1582200" y="4078440"/>
            <a:chExt cx="6094800" cy="2086920"/>
          </a:xfrm>
        </p:grpSpPr>
        <p:sp>
          <p:nvSpPr>
            <p:cNvPr id="310" name=""/>
            <p:cNvSpPr/>
            <p:nvPr/>
          </p:nvSpPr>
          <p:spPr>
            <a:xfrm>
              <a:off x="1582200" y="407844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8880" y="5171760"/>
              <a:ext cx="59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73840" y="4597200"/>
              <a:ext cx="3503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= 0, X=Md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gt; 0, X&gt;Md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lt; 0, X&lt;Md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08360" y="4581360"/>
              <a:ext cx="216000" cy="158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000"/>
                <a:gd name="textAreaBottom" fmla="*/ 1542960 h 15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03760" y="4652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03760" y="5195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03760" y="57466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582200" y="4149720"/>
            <a:ext cx="5378400" cy="2087280"/>
            <a:chOff x="1582200" y="4149720"/>
            <a:chExt cx="5378400" cy="2087280"/>
          </a:xfrm>
        </p:grpSpPr>
        <p:sp>
          <p:nvSpPr>
            <p:cNvPr id="319" name=""/>
            <p:cNvSpPr/>
            <p:nvPr/>
          </p:nvSpPr>
          <p:spPr>
            <a:xfrm>
              <a:off x="1582200" y="414972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98800" y="52434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29560" y="4668840"/>
              <a:ext cx="2831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= 0,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&gt; 0,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&lt; 0,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08360" y="4652640"/>
              <a:ext cx="216000" cy="1584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916360" y="2565360"/>
                <a:ext cx="27381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mbién podemos calcu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eficiente de Asimetría de Yule-Bowl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álcu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411280" y="2997360"/>
                <a:ext cx="3240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8" name=""/>
          <p:cNvGrpSpPr/>
          <p:nvPr/>
        </p:nvGrpSpPr>
        <p:grpSpPr>
          <a:xfrm>
            <a:off x="1582200" y="4078440"/>
            <a:ext cx="6094800" cy="2086920"/>
            <a:chOff x="1582200" y="4078440"/>
            <a:chExt cx="6094800" cy="2086920"/>
          </a:xfrm>
        </p:grpSpPr>
        <p:sp>
          <p:nvSpPr>
            <p:cNvPr id="329" name=""/>
            <p:cNvSpPr/>
            <p:nvPr/>
          </p:nvSpPr>
          <p:spPr>
            <a:xfrm>
              <a:off x="1582200" y="407844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98800" y="51717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73840" y="4597200"/>
              <a:ext cx="3503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= 0, X=Md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gt; 0, X&gt;Md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lt; 0, X&lt;Md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08360" y="4581360"/>
              <a:ext cx="216000" cy="158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000"/>
                <a:gd name="textAreaBottom" fmla="*/ 1542960 h 15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03760" y="4652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03760" y="5195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03760" y="57466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den si los valores de la distribución están más o menos concentrados alrededor de los valores medios de la muestra (zona central de la distribuc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finen tres tipos de distribución según su grado de Kurto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493040" cy="32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socúrtica: grado de concentración medio alrededor de los valores centrales de la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ptocúrtica: grado de concentración elev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laticúrtica: grado de concentración reduc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547640" y="5084640"/>
            <a:ext cx="5089680" cy="14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276720" y="2492280"/>
                <a:ext cx="1798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276720" y="3716280"/>
                <a:ext cx="2089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05720" y="4581360"/>
            <a:ext cx="2085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pretació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02680" y="5075280"/>
            <a:ext cx="156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= 0, Mes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gt; 0, Lept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lt; 0, Platicúrt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56000" y="5013360"/>
            <a:ext cx="215640" cy="12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eficiente de aplastamiento de F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4720" y="3665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on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2124000" y="5373720"/>
                <a:ext cx="32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276720" y="2492280"/>
                <a:ext cx="1798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76720" y="3716280"/>
                <a:ext cx="2089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405720" y="4581360"/>
            <a:ext cx="2085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pretació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02680" y="5075280"/>
            <a:ext cx="156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= 0, Mes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gt; 0, Lept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lt; 0, Platicúrt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56000" y="5013360"/>
            <a:ext cx="215640" cy="12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eficiente de aplastamiento de F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4720" y="3665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on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2124000" y="5373720"/>
                <a:ext cx="32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pos de datos y escalas de med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riab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las características o lo que se estudia de cada individuo de la muestra. Ej: sexo, edad, peso, estatura, color de ojos, estado civil, temperatura, cantidad de nacimientos, presión, grosor, diámetro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los valores que toma la variable en cada ca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litativos: son datos que solo toman valores asociados a las cualidades o atributos, clasificándolos en una de varia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tegorí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es decir, no son valores numéricos. E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xo: f/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ábito de fumar: Fumador/No fu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or de ojos: negro, azul, marró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igión: católica, evangélica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do civil: soltero, casado, divorciado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21:20:58Z</dcterms:created>
  <dc:creator>Eliana</dc:creator>
  <dc:description/>
  <dc:language>en-US</dc:language>
  <cp:lastModifiedBy>scourt</cp:lastModifiedBy>
  <dcterms:modified xsi:type="dcterms:W3CDTF">2010-04-18T20:28:58Z</dcterms:modified>
  <cp:revision>59</cp:revision>
  <dc:subject/>
  <dc:title>Unidad I. Conceptos Básicos y Estadística Descriptiva</dc:title>
</cp:coreProperties>
</file>