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jpeg" ContentType="image/jpe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F62AF-6A0C-4FB5-BCCE-D0BAD4B2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90601-12E2-424A-901C-FB1C0C0E2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A0D9-B078-4CBF-B746-8B7EFAA5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E277D-AD3B-4D64-93F2-DAE630D46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1139F-2278-464B-98AF-69F073720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A191-D10C-4A0B-8379-0F6FE10AA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D733-E063-40C5-95F9-5FB860000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1367-00FC-4E4B-A1F6-E24EA03AC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6907F-8803-4CD6-855F-D0577BCA1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BD8D2-11A9-4CCE-BAA7-3C3E62095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409F6-D524-47B3-9FC1-B7C5F7E0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55A80-37FD-47CB-8ABE-04E143687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AC94-B33D-4493-B429-C9DA70B46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031C-BCDF-4F3C-A13E-BAAB80F59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CA24A-71F1-4D99-9727-74EF428A8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9B2F-FEEC-4C72-B5AB-38F2493C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FC117-CA89-4DDF-AFFF-E4214D302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247912-0C82-46A5-9CE3-4623CB78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CB276-B1E3-40CF-92B6-BF75EF2CC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7C0F9-A83C-4B98-B7F8-BD1EADAB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ECD56-B4CC-4B51-B4BF-01A024240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2270-4285-44F5-B7B1-51F325E21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7FC41-B1E9-4717-A3E8-CAC3F751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EC34F5-DE1A-4FA7-A777-A6244B4F1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36C11-1CA9-4125-8F45-42FBFA6190FA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7A29-886A-4E61-A0FB-6FFF5F08970F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stadística Descriptiva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mentos de Estad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antitativos: provienen de variables que pueden medirse, cuantificarse o expresarse numéricamente. Ej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e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dad de un sis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tidad de herm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pos de variables cuantitativ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cretas: es aquella que solo puede tomar un número finito o infinito numerable de valores. Ejemplo: cantidad de herman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as: es la variable que puede tomar cualquier valor en una escala continua. Ejemplo: cantidad de líquido contenido en un recip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95120" y="2238120"/>
            <a:ext cx="74754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Nom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O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Interva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Razón o Propor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Absolu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716360" y="2205000"/>
            <a:ext cx="2900160" cy="792360"/>
            <a:chOff x="4716360" y="2205000"/>
            <a:chExt cx="2900160" cy="792360"/>
          </a:xfrm>
        </p:grpSpPr>
        <p:sp>
          <p:nvSpPr>
            <p:cNvPr id="138" name=""/>
            <p:cNvSpPr/>
            <p:nvPr/>
          </p:nvSpPr>
          <p:spPr>
            <a:xfrm>
              <a:off x="4716360" y="2205000"/>
              <a:ext cx="287280" cy="79236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20520 h 792360"/>
                <a:gd name="textAreaBottom" fmla="*/ 771840 h 792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151240" y="2363760"/>
              <a:ext cx="246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Variables Cualitati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7164360" y="3284640"/>
            <a:ext cx="1583640" cy="1439640"/>
            <a:chOff x="7164360" y="3284640"/>
            <a:chExt cx="1583640" cy="1439640"/>
          </a:xfrm>
        </p:grpSpPr>
        <p:sp>
          <p:nvSpPr>
            <p:cNvPr id="141" name=""/>
            <p:cNvSpPr/>
            <p:nvPr/>
          </p:nvSpPr>
          <p:spPr>
            <a:xfrm>
              <a:off x="7164360" y="3284640"/>
              <a:ext cx="287280" cy="1439640"/>
            </a:xfrm>
            <a:custGeom>
              <a:avLst/>
              <a:gdLst>
                <a:gd name="textAreaLeft" fmla="*/ 0 w 287280"/>
                <a:gd name="textAreaRight" fmla="*/ 103680 w 28728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474680" y="3644640"/>
              <a:ext cx="1273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Variabl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Cuantitativ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2176200"/>
            <a:ext cx="8005680" cy="35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nominal: los datos se pueden agrupar en categorías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que no mantienen una relación de orden entre s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or lo tanto no están definidas las operaciones lógicas (&gt;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sino solo las de igualdad o diferenci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color de ojos, sexo, profesión, estado civil, relig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cala ordinal: existe un cierto orden o jerarquía entre las categorías (&gt;, &lt;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: grados militares, organigrama de una empresa, escalafón de los profesores universitarios, grados de disnea, estadiaje de un tum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16000" y="1699920"/>
            <a:ext cx="739152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cala de Intervalos: valores numéricos de las variables y además de las relaciones de orden (&gt;, &lt;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se pueden establecer distancias, es decir, tienen sentido las operaciones de suma y resta. Tiene dos propieda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a unidad de medida que se mantiene constante para todos los valores que toma la vari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 valor patrón u origen relativo que no significa la ausencia de valor en la varia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42560" y="1844280"/>
            <a:ext cx="75675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de razón o proporción: es la más completa y general de todas las escalas. Se caracteriza porque los valores de la variable son números entre los cuales, además de las relaciones de orden (&gt;, &lt;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y distancia (+,-), se pueden establecer múltiplos y propor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peso, altura, volum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calas de med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cala Absoluta: se caracteriza porque los valores que toma la variable son el resultado d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nt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y por lo tanto, está constituida por los enteros positivos y el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jemplos: número de hermanos, cantidad de autos vendidos, cantidad de accidentes en una intersección, cantidad de hijos,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atos Univariantes y Multivar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ivariantes o unidimensionales: sólo recogen información sobre una característica (Ej: edad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ivariantes o bidimensionales: recogen información sobre dos características de la población. (Ej: edad y estatura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Datos Univariantes y Multivari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ltivariantes o pluridimensionales: recogen información sobre tres ó más características. (Ej: edad, estatura y peso de los alumnos de una clase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Elementos básico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Elementos de Estadística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44520" y="2238120"/>
            <a:ext cx="362736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a vez que se ha realizado la recolección de los datos, se obtienen datos en bruto, los cuales rara vez son significativos sin una organización y tabu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932360" y="2565360"/>
            <a:ext cx="3313080" cy="336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749304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a distribución de frecuencias: es un arreglo de los datos que permite expresar la frecuencia de ocurrencias de las observaciones en cada una de las clases, mostrando el patrón de la distribución de manera más signific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820800" y="4105440"/>
          <a:ext cx="7048440" cy="1724040"/>
        </p:xfrm>
        <a:graphic>
          <a:graphicData uri="http://schemas.openxmlformats.org/drawingml/2006/table">
            <a:tbl>
              <a:tblPr/>
              <a:tblGrid>
                <a:gridCol w="1174680"/>
                <a:gridCol w="1176480"/>
                <a:gridCol w="1174680"/>
                <a:gridCol w="1171440"/>
                <a:gridCol w="1176480"/>
                <a:gridCol w="1174680"/>
              </a:tblGrid>
              <a:tr h="68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l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ca de Clase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en-US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</a:t>
                      </a:r>
                      <a:r>
                        <a:rPr b="0" lang="en-US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H</a:t>
                      </a:r>
                      <a:r>
                        <a:rPr b="0" lang="es-ES_tradnl" sz="25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22400" y="2238120"/>
            <a:ext cx="748008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Distribución de Frecuenci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recomienda su uso cuando se tienen grandes cantidades de datos (n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 construcción requiere, en primer lugar, la selección de los límites de los intervalos de cl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ara definir la cantidad de intervalos de clase (k), se puede us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regla de Sturges:  k = 1 + 3.3log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k =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ganización de los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rmin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rca de Clase = (Li+Ls)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absoluta de la clase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acumulada de la clase (N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relativa de la clase (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= n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recuencia relativa acumulada de la clase (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gráficos permiten visualizar en forma global y rápida el comportamiento de los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cuantitativos agrupados en clases, comúnmente se utilizan tres gráf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istogram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olígono de frecuenci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jiva o Polígono de frecuencias acumulada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116000" y="2249640"/>
            <a:ext cx="7808400" cy="4275000"/>
            <a:chOff x="1116000" y="2249640"/>
            <a:chExt cx="7808400" cy="42750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1116000" y="2249640"/>
              <a:ext cx="6049800" cy="427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 flipH="1">
              <a:off x="7164000" y="350028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480440" y="3306600"/>
              <a:ext cx="144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stogram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476360" y="1773360"/>
            <a:ext cx="3600360" cy="2500200"/>
          </a:xfrm>
          <a:prstGeom prst="rect">
            <a:avLst/>
          </a:prstGeom>
          <a:ln w="0">
            <a:noFill/>
          </a:ln>
        </p:spPr>
      </p:pic>
      <p:grpSp>
        <p:nvGrpSpPr>
          <p:cNvPr id="176" name=""/>
          <p:cNvGrpSpPr/>
          <p:nvPr/>
        </p:nvGrpSpPr>
        <p:grpSpPr>
          <a:xfrm>
            <a:off x="433440" y="3716280"/>
            <a:ext cx="7859520" cy="2895480"/>
            <a:chOff x="433440" y="3716280"/>
            <a:chExt cx="7859520" cy="289548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5435640" y="3716280"/>
              <a:ext cx="285732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4859280" y="5373720"/>
              <a:ext cx="28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33440" y="5157720"/>
              <a:ext cx="429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Histograma y Polígono de Frecuenci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1863000" y="2492280"/>
            <a:ext cx="5804280" cy="2808000"/>
            <a:chOff x="1863000" y="2492280"/>
            <a:chExt cx="5804280" cy="2808000"/>
          </a:xfrm>
        </p:grpSpPr>
        <p:pic>
          <p:nvPicPr>
            <p:cNvPr id="181" name="" descr=""/>
            <p:cNvPicPr/>
            <p:nvPr/>
          </p:nvPicPr>
          <p:blipFill>
            <a:blip r:embed="rId1"/>
            <a:stretch/>
          </p:blipFill>
          <p:spPr>
            <a:xfrm>
              <a:off x="4083840" y="2492280"/>
              <a:ext cx="3583440" cy="28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2871000" y="3193200"/>
              <a:ext cx="88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863000" y="2975400"/>
              <a:ext cx="72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Oj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datos cualitativos se usa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v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r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5400000">
            <a:off x="6897240" y="4576680"/>
            <a:ext cx="3816360" cy="368280"/>
          </a:xfrm>
          <a:prstGeom prst="rect">
            <a:avLst/>
          </a:prstGeom>
          <a:noFill/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99"/>
                </a:solidFill>
                <a:latin typeface="Verdana"/>
              </a:rPr>
              <a:t>Tema 2. Estadística Descrip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"/>
          <p:cNvGrpSpPr/>
          <p:nvPr/>
        </p:nvGrpSpPr>
        <p:grpSpPr>
          <a:xfrm>
            <a:off x="2818080" y="1628640"/>
            <a:ext cx="6291000" cy="3029040"/>
            <a:chOff x="2818080" y="1628640"/>
            <a:chExt cx="6291000" cy="3029040"/>
          </a:xfrm>
        </p:grpSpPr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4545000" y="1628640"/>
              <a:ext cx="4564080" cy="302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3753000" y="2421000"/>
              <a:ext cx="72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18080" y="221940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108000" y="3645000"/>
            <a:ext cx="6790680" cy="3168720"/>
            <a:chOff x="108000" y="3645000"/>
            <a:chExt cx="6790680" cy="3168720"/>
          </a:xfrm>
        </p:grpSpPr>
        <p:pic>
          <p:nvPicPr>
            <p:cNvPr id="194" name="" descr=""/>
            <p:cNvPicPr/>
            <p:nvPr/>
          </p:nvPicPr>
          <p:blipFill>
            <a:blip r:embed="rId2"/>
            <a:stretch/>
          </p:blipFill>
          <p:spPr>
            <a:xfrm>
              <a:off x="108000" y="3645000"/>
              <a:ext cx="4752720" cy="316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5364000" y="5732640"/>
              <a:ext cx="576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3800" y="5532480"/>
              <a:ext cx="88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Barr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blación: es la colección d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od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 posibles mediciones u observaciones que pueden hacerse de una variable bajo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08000" y="4005360"/>
            <a:ext cx="2625840" cy="2158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132000" y="4076640"/>
            <a:ext cx="1857600" cy="18576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508720" y="3716280"/>
            <a:ext cx="2720880" cy="28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2340000" y="2708280"/>
            <a:ext cx="5822640" cy="2719440"/>
            <a:chOff x="2340000" y="2708280"/>
            <a:chExt cx="5822640" cy="2719440"/>
          </a:xfrm>
        </p:grpSpPr>
        <p:pic>
          <p:nvPicPr>
            <p:cNvPr id="199" name="" descr=""/>
            <p:cNvPicPr/>
            <p:nvPr/>
          </p:nvPicPr>
          <p:blipFill>
            <a:blip r:embed="rId1"/>
            <a:stretch/>
          </p:blipFill>
          <p:spPr>
            <a:xfrm>
              <a:off x="2340000" y="2708280"/>
              <a:ext cx="3889440" cy="27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"/>
            <p:cNvSpPr/>
            <p:nvPr/>
          </p:nvSpPr>
          <p:spPr>
            <a:xfrm>
              <a:off x="6516720" y="4492800"/>
              <a:ext cx="64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47520" y="4291200"/>
              <a:ext cx="91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Curv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presentación gráfica de los da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340000" y="2133720"/>
            <a:ext cx="4543560" cy="3752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1858680" y="164304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ctores, torta o circ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tendenci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rresponden a valores que generalmente se ubican en la parte central de un conju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rma como los datos pueden condensarse en un solo valor central alrededor del cual todos los datos muestrales se distribuy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tendencia cent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medidas de tendencia central más importantes s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 aritmé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68000" y="1989000"/>
            <a:ext cx="6924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no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" name=""/>
              <p:cNvSpPr txBox="1"/>
              <p:nvPr/>
            </p:nvSpPr>
            <p:spPr>
              <a:xfrm>
                <a:off x="3330720" y="2606760"/>
                <a:ext cx="1541160" cy="11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2" name=""/>
          <p:cNvSpPr/>
          <p:nvPr/>
        </p:nvSpPr>
        <p:spPr>
          <a:xfrm>
            <a:off x="468360" y="3914640"/>
            <a:ext cx="62262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ara datos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3492360" y="4437000"/>
                <a:ext cx="132732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bar>
                      <m:barPr>
                        <m:pos m:val="top"/>
                      </m:barPr>
                      <m:e>
                        <m:r>
                          <m:t xml:space="preserve">X</m:t>
                        </m:r>
                      </m:e>
                    </m:ba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2127600" y="5740560"/>
            <a:ext cx="45316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onde: c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punto medio de la cl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frecuencia absoluta de la clase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valor que ocupa la posición central de un conjunto de observaciones, una vez que han sido ordenados en forma ascendente o descend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ide al conjunto de datos en dos partes igu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datos no agrup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 es impar: posición donde se ubica la mediana es igual a (n+1)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n es par: (n+1)/2 no es entero, por lo tanto la mediana será igual al promedio de las dos posiciones centra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edi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75754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agrupados: clase mediana es la que contiene a la observación que ocupa la posición n/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3059280" y="3357720"/>
                <a:ext cx="2684160" cy="108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e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881280" y="4648320"/>
            <a:ext cx="726732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onde:   Lm: límite inferior del intervalo (clase) donde se ubica la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m-1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: frecuencia acumulada de la clase anterior a la clase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1600" spc="-1" strike="noStrike" baseline="-25000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: frecuencia absoluta de la clase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Cm: amplitud del intervalo donde se ubica la media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Observación o clase que tiene la mayor frecuencia en un conjunto de observ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 conjunto de datos puede ser unimodal, bimodal o multimod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la única medida de tendencia central que se puede determinar para datos de tipo cualitativ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álculo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168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no agrupados: es simplemente la observación que más se repi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datos agrupad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2771640" y="3429000"/>
                <a:ext cx="330048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m</m:t>
                    </m:r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rPr>
                        <m:lit/>
                        <m:nor/>
                      </m:rPr>
                      <m:t xml:space="preserve">C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"/>
          <p:cNvSpPr/>
          <p:nvPr/>
        </p:nvSpPr>
        <p:spPr>
          <a:xfrm>
            <a:off x="539640" y="4508640"/>
            <a:ext cx="8064720" cy="15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onde:   Lm: límite inferior de la clase mod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1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diferencia entr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 la clase modal y l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Arial"/>
              </a:rPr>
              <a:t>anterior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: diferencia entre n</a:t>
            </a:r>
            <a:r>
              <a:rPr b="0" lang="es-ES_tradnl" sz="18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de la clase modal y la posteri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m: amplitud de la clase modal (clase de ma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                   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frecuenci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lasifica en dos categorí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ita: es aquella que incluye una cantidad limitada contable de observaciones, individuos o medidas. Siempre que sea posible alcanzar (contar) el número total de todas las posibles mediciones, se considera como finita l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5867280" y="4908600"/>
            <a:ext cx="2108160" cy="168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lación entre la media, la mediana y la mo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957320" y="1700280"/>
            <a:ext cx="5567400" cy="201456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1978200" y="4221000"/>
            <a:ext cx="5473440" cy="19814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1556640" y="6308640"/>
            <a:ext cx="62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ando los datos son sesgados es mejor emplear la 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uma de las diferencias entre las media muestral y el valor de cada observación es cer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media de una constante es la co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todas las observaciones x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se multiplican por una constante, la media también se debe multiplicar por ese mismo valor consta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ea en su cálculo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expresa en las mismas unidades que la variable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l centro de gravedad de toda la distribución, representando a todos los valores observ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una valor ú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2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trata de un concepto familiar para la mayoría de las perso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útil para llevar a cabo procedimientos estadísticos como la comparación de medias de varios conjuntos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9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med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ve adversamente afectada por valores extremos, perdiendo representativ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conjunto de datos es muy grande puede ser tedioso su cálculo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puede calcular para datos cualita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e puede calcular para datos que tengan clases de extremo abierto, tanto superior como inferi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2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86920" y="1827000"/>
            <a:ext cx="74962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 si el número de observaciones no es muy gran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ve influenciada por valores extremos, ya que solo influyen los valores cent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enten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calcular para cualquier tipos de datos cuantitativos, incluso los datos con clase de extrem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medida de tendencia central más representativa en el caso de variables que solo admiten la escala ord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media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tiliza en su “cálculo”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ondera cada valor por el número de veces que se ha repe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ordenar los datos antes de determina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quiere cálcu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usarse para datos tanto cuantitativos como cualita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interpre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ve influenciada por valores extre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calcular en clases de extremo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2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2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2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42920" y="1773360"/>
            <a:ext cx="7639200" cy="441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conjuntos pequeños de datos su valor no tiene casi utilidad, si es que de hecho existe. Solo tiene significado en el caso de una gran cantidad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utiliza toda la información dispon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iempre existe, si los datos no se repi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6" dur="500"/>
                                        <p:tgtEl>
                                          <p:spTgt spid="2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inita: es aquella que incluye un gran conjunto de observaciones o mediciones que no pueden alcanzarse por conteo. Al menos, hipotéticamente, no existe límite en cuanto al número de observaciones que el experimento puede gene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1857240" cy="185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 la mo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ocasiones, el azar hace que una sola observación se no representativa se el valor más frecuente del conjunto de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ícil de interpretar si los datos tiene 3 o más mo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8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valores numéricos que indican o describen la forma en que las observaciones están dispersas o diseminadas, con respecto al valor cent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importantes debido a que dos muestras de observaciones con el mismo valor central pueden tener una variabilidad muy disti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40000" y="3938760"/>
            <a:ext cx="4724280" cy="2514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, variación o variabilidad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n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viación Típ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eficiente de vari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2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4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ango (amplitud o recorrido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tá determinado por los dos valores extremos de los datos muestrales, es simplemente la diferencia entre la mayor y menor observ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a medida de dispersión absoluta, ya que depende solamente de los datos y permite conocer la máxima disper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9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i no se emplea debido a que depende únicamente de dos val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proporciona una medida de variabilidad de las observaciones con respecto al centro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6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Var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valor numérico que mide el grado de dispersión relativa porque depende de la posición de los datos 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…,x</a:t>
            </a:r>
            <a:r>
              <a:rPr b="0" lang="es-ES_tradnl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con respecto a la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el promedio al cuadrado de las desviaciones de cada observación con respecto a la med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tación: s</a:t>
            </a:r>
            <a:r>
              <a:rPr b="0" lang="es-ES_trad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3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8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dispersión: Varian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95000" y="1998360"/>
            <a:ext cx="814068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la varianza de un conjunto de observaciones es grande se dice que los datos tiene una mayor variabilidad que un conjunto de datos que tenga un varianza men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3708360" y="3716280"/>
                <a:ext cx="2189160" cy="26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bar>
                                          <m:barPr>
                                            <m:pos m:val="top"/>
                                          </m:barPr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</m:ba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r>
                          <m:t xml:space="preserve">−</m:t>
                        </m:r>
                        <m:sSup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: Desviación Típ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59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la raíz cuadrada de la varianz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ción: 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3168720" y="3019320"/>
                <a:ext cx="1861920" cy="7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2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didas de dispersión: Coeficiente de Var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a medida de dispersión relativa que permite comparar el nivel de dispersión de dos muestras de variables estadísticas difer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tiene dimensio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ación: 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168720" y="4722840"/>
                <a:ext cx="233352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s</m:t>
                        </m:r>
                      </m:num>
                      <m:den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</m:den>
                    </m:f>
                    <m:r>
                      <m:t xml:space="preserve">×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4" dur="500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9" dur="500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4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str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conjunto de mediciones u observaciones tomadas a partir de un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un subconjunto de la pob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484360" y="4433760"/>
            <a:ext cx="4354560" cy="20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l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Útil cuando se quiere conocer la extensión de las variaciones extremas (valor máximo de la dispers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entajas y Desventajas del Ran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 una MD con respecto al centro de la distribu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o emplea dos valores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e puede calcular en distribuciones de límite de clase abier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8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Var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ropieda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mpre es mayor o igual a cero y menor que infin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2600" indent="-552600">
              <a:spcBef>
                <a:spcPts val="799"/>
              </a:spcBef>
              <a:buClr>
                <a:srgbClr val="00007d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varianza de una constante es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0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piedades, Ventajas y Desventajas de la Varianz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 útil cuando se compara la variabilidad de dos o más conjuntos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tiliza toda la información disponi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proporciona ayuda inmediata cuando se estudia la dispersión de un solo conjunto de 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ícil de interpretar por tener sus unidades elevadas al cuadr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7" dur="500"/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2" dur="500"/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7" dur="500"/>
                                        <p:tgtEl>
                                          <p:spTgt spid="2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2" dur="500"/>
                                        <p:tgtEl>
                                          <p:spTgt spid="2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 la Desviación Típ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a expresada en las mismas unidades que la variable en estud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a todas las observaciones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interpret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es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tie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9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4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9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4" dur="500"/>
                                        <p:tgtEl>
                                          <p:spTgt spid="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y Desventajas del Coeficiente de Vari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Ventaj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la única MD que permite comparar el nivel de dispersión de dos muestras de variables difer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ea toda la información disponible en su cálcul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ácil de cal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6" dur="5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Medidas de Posición: Percenti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075520" cy="8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Elemento ubicado en la posición k%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2268360" y="2781360"/>
                <a:ext cx="3816360" cy="114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n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up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f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0" name=""/>
          <p:cNvSpPr/>
          <p:nvPr/>
        </p:nvSpPr>
        <p:spPr>
          <a:xfrm>
            <a:off x="600120" y="4284720"/>
            <a:ext cx="80755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6000"/>
          </a:bodyPr>
          <a:p>
            <a:pPr marL="88920" indent="-88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 partir de esto, se pueden definir 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Cuar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Dec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Quinti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3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Posición: Cuart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uarti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3" name=""/>
              <p:cNvSpPr txBox="1"/>
              <p:nvPr/>
            </p:nvSpPr>
            <p:spPr>
              <a:xfrm>
                <a:off x="3849840" y="2708280"/>
                <a:ext cx="16556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3417840" y="3645000"/>
                <a:ext cx="252252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849840" y="4437000"/>
                <a:ext cx="15922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0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n medidas numéricas que permiten determinar la forma que tiene la curva de los datos, por lo tanto, sirven para corroborar lo que los gráficos muestr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862640" y="4740120"/>
            <a:ext cx="116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ed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e for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442680" y="4595760"/>
            <a:ext cx="2916000" cy="95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simet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Kurtosis o apuntami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21840" y="444348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eficiente de Pear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eficiente Yule-Bowl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151080" y="4437000"/>
            <a:ext cx="216000" cy="12970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35440" y="4437000"/>
            <a:ext cx="71640" cy="649440"/>
          </a:xfrm>
          <a:custGeom>
            <a:avLst/>
            <a:gdLst>
              <a:gd name="textAreaLeft" fmla="*/ 45720 w 71640"/>
              <a:gd name="textAreaRight" fmla="*/ 72000 w 71640"/>
              <a:gd name="textAreaTop" fmla="*/ 16920 h 649440"/>
              <a:gd name="textAreaBottom" fmla="*/ 63252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n estudiar la forma de la curva, dependiendo de cómo se agrupan los da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124000" y="3716280"/>
            <a:ext cx="5567400" cy="201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os de Población y Muest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stra aleatoria: se considera aleatoria siempre y cuando cada observación, medición o individuo de la población tenga la misma probabilidad de ser seleccion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916360" y="4437000"/>
            <a:ext cx="3240000" cy="16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eficiente de Asimetría de Pears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ácil de calcular e interpret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8" name=""/>
              <p:cNvSpPr txBox="1"/>
              <p:nvPr/>
            </p:nvSpPr>
            <p:spPr>
              <a:xfrm>
                <a:off x="2700360" y="3068640"/>
                <a:ext cx="2527200" cy="95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S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e</m:t>
                            </m:r>
                          </m:e>
                        </m:d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09" name=""/>
          <p:cNvGrpSpPr/>
          <p:nvPr/>
        </p:nvGrpSpPr>
        <p:grpSpPr>
          <a:xfrm>
            <a:off x="1582200" y="4078440"/>
            <a:ext cx="6094800" cy="2086920"/>
            <a:chOff x="1582200" y="4078440"/>
            <a:chExt cx="6094800" cy="2086920"/>
          </a:xfrm>
        </p:grpSpPr>
        <p:sp>
          <p:nvSpPr>
            <p:cNvPr id="310" name=""/>
            <p:cNvSpPr/>
            <p:nvPr/>
          </p:nvSpPr>
          <p:spPr>
            <a:xfrm>
              <a:off x="1582200" y="407844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008880" y="5171760"/>
              <a:ext cx="59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173840" y="4597200"/>
              <a:ext cx="350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= 0, X=Md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gt; 0, X&gt;Md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lt; 0, X&lt;Md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708360" y="4581360"/>
              <a:ext cx="216000" cy="158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03760" y="4652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703760" y="5195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03760" y="574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9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1582200" y="4149720"/>
            <a:ext cx="5378400" cy="2087280"/>
            <a:chOff x="1582200" y="4149720"/>
            <a:chExt cx="5378400" cy="2087280"/>
          </a:xfrm>
        </p:grpSpPr>
        <p:sp>
          <p:nvSpPr>
            <p:cNvPr id="319" name=""/>
            <p:cNvSpPr/>
            <p:nvPr/>
          </p:nvSpPr>
          <p:spPr>
            <a:xfrm>
              <a:off x="1582200" y="414972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998800" y="524340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129560" y="4668840"/>
              <a:ext cx="28310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= 0,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&gt; 0,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&lt; 0,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708360" y="4652640"/>
              <a:ext cx="216000" cy="1584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360"/>
                <a:gd name="textAreaBottom" fmla="*/ 1543320 h 158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23" name=""/>
              <p:cNvSpPr txBox="1"/>
              <p:nvPr/>
            </p:nvSpPr>
            <p:spPr>
              <a:xfrm>
                <a:off x="2916360" y="2565360"/>
                <a:ext cx="2738160" cy="134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o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24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ambién podemos calcul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das de Forma: Asimet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1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oeficiente de Asimetría de Yule-Bowle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álcu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"/>
              <p:cNvSpPr txBox="1"/>
              <p:nvPr/>
            </p:nvSpPr>
            <p:spPr>
              <a:xfrm>
                <a:off x="2411280" y="2997360"/>
                <a:ext cx="324036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328" name=""/>
          <p:cNvGrpSpPr/>
          <p:nvPr/>
        </p:nvGrpSpPr>
        <p:grpSpPr>
          <a:xfrm>
            <a:off x="1582200" y="4078440"/>
            <a:ext cx="6094800" cy="2086920"/>
            <a:chOff x="1582200" y="4078440"/>
            <a:chExt cx="6094800" cy="2086920"/>
          </a:xfrm>
        </p:grpSpPr>
        <p:sp>
          <p:nvSpPr>
            <p:cNvPr id="329" name=""/>
            <p:cNvSpPr/>
            <p:nvPr/>
          </p:nvSpPr>
          <p:spPr>
            <a:xfrm>
              <a:off x="1582200" y="4078440"/>
              <a:ext cx="268884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666699"/>
                </a:buClr>
                <a:buFont typeface="Verdana"/>
                <a:buChar char="o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Verdana"/>
                </a:rPr>
                <a:t>Interpretación: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98800" y="5171760"/>
              <a:ext cx="43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73840" y="4597200"/>
              <a:ext cx="3503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= 0, X=Md Simétric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gt; 0, X&gt;Md Asimétrica Positiv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&lt; 0, X&lt;Md Asimétrica Negativ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08360" y="4581360"/>
              <a:ext cx="216000" cy="158400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41040 h 1584000"/>
                <a:gd name="textAreaBottom" fmla="*/ 1542960 h 1584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703760" y="465264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703760" y="519552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03760" y="5746680"/>
              <a:ext cx="7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8" dur="500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8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iden si los valores de la distribución están más o menos concentrados alrededor de los valores medios de la muestra (zona central de la distribución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 definen tres tipos de distribución según su grado de Kurtos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5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493040" cy="32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esocúrtica: grado de concentración medio alrededor de los valores centrales de la vari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eptocúrtica: grado de concentración elev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laticúrtica: grado de concentración reduc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1547640" y="5084640"/>
            <a:ext cx="508968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2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7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2" name=""/>
              <p:cNvSpPr txBox="1"/>
              <p:nvPr/>
            </p:nvSpPr>
            <p:spPr>
              <a:xfrm>
                <a:off x="3276720" y="2492280"/>
                <a:ext cx="1798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3" name=""/>
              <p:cNvSpPr txBox="1"/>
              <p:nvPr/>
            </p:nvSpPr>
            <p:spPr>
              <a:xfrm>
                <a:off x="3276720" y="3716280"/>
                <a:ext cx="208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44" name=""/>
          <p:cNvSpPr/>
          <p:nvPr/>
        </p:nvSpPr>
        <p:spPr>
          <a:xfrm>
            <a:off x="405720" y="4581360"/>
            <a:ext cx="208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pretació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902680" y="5075280"/>
            <a:ext cx="15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= 0, Mes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gt; 0, Lept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 0, Platicúr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56000" y="5013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eficiente de aplastamiento de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94720" y="3665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2124000" y="5373720"/>
                <a:ext cx="32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Medidas de Forma: Kur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276720" y="2492280"/>
                <a:ext cx="179856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3276720" y="3716280"/>
                <a:ext cx="208908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353" name=""/>
          <p:cNvSpPr/>
          <p:nvPr/>
        </p:nvSpPr>
        <p:spPr>
          <a:xfrm>
            <a:off x="405720" y="4581360"/>
            <a:ext cx="20854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66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nterpretación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902680" y="5075280"/>
            <a:ext cx="15631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= 0, Mes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gt; 0, Leptocúr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&lt; 0, Platicúrti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556000" y="501336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8360" y="1773360"/>
            <a:ext cx="82216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eficiente de aplastamiento de Fis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94720" y="3665520"/>
            <a:ext cx="91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Arial"/>
              </a:rPr>
              <a:t>Dond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8" name=""/>
              <p:cNvSpPr txBox="1"/>
              <p:nvPr/>
            </p:nvSpPr>
            <p:spPr>
              <a:xfrm>
                <a:off x="2124000" y="5373720"/>
                <a:ext cx="325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615" dur="indefinite" restart="never" nodeType="tmRoot">
          <p:childTnLst>
            <p:seq>
              <p:cTn id="616" dur="indefinite" nodeType="mainSeq">
                <p:childTnLst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6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ipos de datos y escalas de med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Variabl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las características o lo que se estudia de cada individuo de la muestra. Ej: sexo, edad, peso, estatura, color de ojos, estado civil, temperatura, cantidad de nacimientos, presión, grosor, diámetro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at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on los valores que toma la variable en cada ca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ualitativos: son datos que solo toman valores asociados a las cualidades o atributos, clasificándolos en una de varias </a:t>
            </a: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</a:rPr>
              <a:t>categoría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, es decir, no son valores numéricos. E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xo: f/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ábito de fumar: Fumador/No fu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lor de ojos: negro, azul, marrón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ligión: católica, evangélica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stado civil: soltero, casado, divorciado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21:20:58Z</dcterms:created>
  <dc:creator>Eliana</dc:creator>
  <dc:description/>
  <dc:language>en-US</dc:language>
  <cp:lastModifiedBy>scourt</cp:lastModifiedBy>
  <dcterms:modified xsi:type="dcterms:W3CDTF">2010-04-18T20:28:58Z</dcterms:modified>
  <cp:revision>59</cp:revision>
  <dc:subject/>
  <dc:title>Unidad I. Conceptos Básicos y Estadística Descriptiva</dc:title>
</cp:coreProperties>
</file>