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FEC2-1D90-4ABC-BE98-38120927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7F28-495A-40AE-934F-1E39F2AB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ABF3E-AAAE-48C3-94D6-93777039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FCAB3-EBCF-4CCC-B0CB-F56FAA8B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762A-8147-49F3-A3A8-64CB9E42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002A-32A4-40B8-8662-BE8C1ABF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1150-573F-4382-B33B-E13955E6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78A1-71E5-4E97-B7BB-48150733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C37F-7519-48AE-B23A-7609F734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3FDE-029A-4CD3-8CF4-C749BDEE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6330-E21B-4FB8-99CE-DBB6433A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066A-79D9-4BAA-B7BB-A92E0381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742E-5373-45E6-B1F7-F6133774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D266-C6F7-4404-A3E8-18F6E885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8285-377D-46AF-8373-BC3A53F8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0D71-C19D-4F0A-9EB4-AB0ADDDD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F58E-7207-4EAD-86D8-5CF661D0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2AB8-CE3F-462D-A560-DF920D81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848C-C58C-435E-9E07-269CFD01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1AF4-186A-4BA3-8716-57AF6275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EBA7-8A9A-48D4-B24E-283633B1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BB66-B6AB-40DC-8D94-7035FD0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364D-121B-405D-BB11-76F2B6B1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C706-4EB4-49BD-A6CB-FE390CFD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42EA-E969-4C3A-9122-F4AEE33D5A2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1A95-DCC2-4E59-899E-163D6B380E5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stadística Descriptiv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itativos: provienen de variables que pueden medirse, cuantificarse o expresarse numéricamente. 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de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de her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variables cuantita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as: es aquella que solo puede tomar un número finito o infinito numerable de valores. Ejemplo: cantidad de her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s: es la variable que puede tomar cualquier valor en una escala continua. Ejemplo: cantidad de líquido contenido en un recip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95120" y="2238120"/>
            <a:ext cx="74754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Interva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716360" y="2205000"/>
            <a:ext cx="2900160" cy="792360"/>
            <a:chOff x="4716360" y="2205000"/>
            <a:chExt cx="2900160" cy="792360"/>
          </a:xfrm>
        </p:grpSpPr>
        <p:sp>
          <p:nvSpPr>
            <p:cNvPr id="138" name=""/>
            <p:cNvSpPr/>
            <p:nvPr/>
          </p:nvSpPr>
          <p:spPr>
            <a:xfrm>
              <a:off x="4716360" y="2205000"/>
              <a:ext cx="287280" cy="79236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1240" y="236376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ables Cualitati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164360" y="3284640"/>
            <a:ext cx="1583640" cy="1439640"/>
            <a:chOff x="7164360" y="3284640"/>
            <a:chExt cx="1583640" cy="1439640"/>
          </a:xfrm>
        </p:grpSpPr>
        <p:sp>
          <p:nvSpPr>
            <p:cNvPr id="141" name=""/>
            <p:cNvSpPr/>
            <p:nvPr/>
          </p:nvSpPr>
          <p:spPr>
            <a:xfrm>
              <a:off x="7164360" y="3284640"/>
              <a:ext cx="287280" cy="1439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74680" y="3644640"/>
              <a:ext cx="127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uantit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2176200"/>
            <a:ext cx="800568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: los datos se pueden agrupar en categorí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 no mantienen una relación de orden entre 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or lo tanto no están definidas las operaciones lógicas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ino solo las de igualdad o difer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color de ojos, sexo, profesión, estado civil, reli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ala ordinal: existe un cierto orden o jerarquía entre las categorías (&gt;, &lt;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grados militares, organigrama de una empresa, escalafón de los profesores universitarios, grados de disnea, estadiaje de un t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915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 de Intervalos: valores numéricos de las variables y además de las relaciones de orden (&gt;, &lt;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se pueden establecer distancias, es decir, tienen sentido las operaciones de suma y resta. Tiene dos propie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a unidad de medida que se mantiene constante para todos los valores que toma la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valor patrón u origen relativo que no significa la ausencia de valor en la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5675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: es la más completa y general de todas las escalas. Se caracteriza porque los valores de la variable son números entre los cuales, además de las relaciones de orden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y distancia (+,-), se pueden establecer múltiplos y propor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peso, altura, volum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: se caracteriza porque los valores que toma la variable son el resultado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por lo tanto, está constituida por los enteros positivos y el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número de hermanos, cantidad de autos vendidos, cantidad de accidentes en una intersección, cantidad de hijos,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ariantes o unidimensionales: sólo recogen información sobre una característica (Ej: edad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variantes o bidimensionales: recogen información sobre dos características de la población. (Ej: edad y estatura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variantes o pluridimensionales: recogen información sobre tres ó más características. (Ej: edad, estatura y peso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lementos básic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4520" y="2238120"/>
            <a:ext cx="362736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que se ha realizado la recolección de los datos, se obtienen datos en bruto, los cuales rara vez son significativos sin una organización y tabu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3130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493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distribución de frecuencias: es un arreglo de los datos que permite expresar la frecuencia de ocurrencias de las observaciones en cada una de las clases, mostrando el patrón de la distribución de manera más signifi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0800" y="4105440"/>
          <a:ext cx="7048440" cy="1724040"/>
        </p:xfrm>
        <a:graphic>
          <a:graphicData uri="http://schemas.openxmlformats.org/drawingml/2006/table">
            <a:tbl>
              <a:tblPr/>
              <a:tblGrid>
                <a:gridCol w="1174680"/>
                <a:gridCol w="1176480"/>
                <a:gridCol w="1174680"/>
                <a:gridCol w="1171440"/>
                <a:gridCol w="1176480"/>
                <a:gridCol w="11746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a de 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2400" y="2238120"/>
            <a:ext cx="748008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Distribución de Fr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comienda su uso cuando se tienen grandes cantidades de datos 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construcción requiere, en primer lugar, la selección de los límites de los intervalos de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definir la cantidad de intervalos de clase (k), se puede us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gla de Sturges:  k = 1 + 3.3log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e Clase = (Li+Ls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bsolut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cumulad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acumulad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áficos permiten visualizar en forma global y rápida el comportamiento de los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cuantitativos agrupados en clases, comúnmente se utilizan tres grá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stogram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lígono de frecu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jiva o Polígono de frecuencias acumulad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16000" y="2249640"/>
            <a:ext cx="7808400" cy="4275000"/>
            <a:chOff x="1116000" y="2249640"/>
            <a:chExt cx="7808400" cy="4275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116000" y="2249640"/>
              <a:ext cx="6049800" cy="42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H="1">
              <a:off x="716400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0440" y="330660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600360" cy="2500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433440" y="3716280"/>
            <a:ext cx="7859520" cy="2895480"/>
            <a:chOff x="433440" y="3716280"/>
            <a:chExt cx="7859520" cy="289548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435640" y="3716280"/>
              <a:ext cx="28573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859280" y="537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3440" y="5157720"/>
              <a:ext cx="42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 y Polígono de Fr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863000" y="2492280"/>
            <a:ext cx="5804280" cy="2808000"/>
            <a:chOff x="1863000" y="2492280"/>
            <a:chExt cx="5804280" cy="28080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083840" y="2492280"/>
              <a:ext cx="358344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871000" y="3193200"/>
              <a:ext cx="8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3000" y="2975400"/>
              <a:ext cx="72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j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cualitativos se u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6897240" y="4576680"/>
            <a:ext cx="3816360" cy="3682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Tema 2. Estadística 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818080" y="1628640"/>
            <a:ext cx="6291000" cy="3029040"/>
            <a:chOff x="2818080" y="1628640"/>
            <a:chExt cx="6291000" cy="30290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45000" y="1628640"/>
              <a:ext cx="45640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753000" y="2421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8080" y="22194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8000" y="3645000"/>
            <a:ext cx="6790680" cy="3168720"/>
            <a:chOff x="108000" y="3645000"/>
            <a:chExt cx="6790680" cy="316872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08000" y="3645000"/>
              <a:ext cx="475272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364000" y="5732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3800" y="55324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blación: es la colección 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 posibles mediciones u observaciones que pueden hacerse de una variable bajo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4005360"/>
            <a:ext cx="2625840" cy="215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27208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340000" y="2708280"/>
            <a:ext cx="5822640" cy="2719440"/>
            <a:chOff x="2340000" y="2708280"/>
            <a:chExt cx="5822640" cy="271944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340000" y="2708280"/>
              <a:ext cx="388944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516720" y="44928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47520" y="4291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u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543560" cy="3752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58680" y="164304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tores, torta o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sponden a valores que generalmente se ubican en la parte central de un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 como los datos pueden condensarse en un solo valor central alrededor del cual todos los datos muestrales se distribuy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edidas de tendencia central más importante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 aritm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6924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330720" y="2606760"/>
                <a:ext cx="1541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68360" y="3914640"/>
            <a:ext cx="62262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92360" y="4437000"/>
                <a:ext cx="1327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127600" y="5740560"/>
            <a:ext cx="4531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punto medio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frecuencia absoluta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valor que ocupa la posición central de un conjunto de observaciones, una vez que han sido ordenados en forma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l conjunto de datos en dos partes ig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impar: posición donde se ubica la mediana es igual a (n+1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par: (n+1)/2 no es entero, por lo tanto la mediana será igual al promedio de las dos posiciones cent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575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agrupados: clase mediana es la que contiene a la observación que ocupa la posición n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59280" y="3357720"/>
                <a:ext cx="2684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881280" y="4648320"/>
            <a:ext cx="72673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onde:   Lm: límite inferior del intervalo (clase)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-1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cumulada de la clase anterior a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bsoluta de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m: amplitud del intervalo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servación o clase que tiene la mayor frecuencia en un conjunto de observ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conjunto de datos puede ser unimodal, bimodal o multimo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a única medida de tendencia central que se puede determinar para datos de tipo cualit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 es simplemente la observación que más se rep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71640" y="3429000"/>
                <a:ext cx="3300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39640" y="4508640"/>
            <a:ext cx="8064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  Lm: límite inferior de la clase m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nteri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m: amplitud de la clase modal (clase de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recuenc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lasifica en dos categorí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a: es aquella que incluye una cantidad limitada contable de observaciones, individuos o medidas. Siempre que sea posible alcanzar (contar) el número total de todas las posibles mediciones, se considera como finita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67280" y="4908600"/>
            <a:ext cx="2108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ción entre la media, la mediana y la m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57320" y="1700280"/>
            <a:ext cx="556740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78200" y="4221000"/>
            <a:ext cx="547344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56640" y="630864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os datos son sesgados es mejor emplear la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uma de las diferencias entre las media muestral y el valor de cada observación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a de una constante es la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todas las observaciones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 multiplican por una constante, la media también se debe multiplicar por ese mismo valor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en su cálculo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xpres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centro de gravedad de toda la distribución, representando a todos los valores observ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valor ú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ta de un concepto familiar para la mayoría de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útil para llevar a cabo procedimientos estadísticos como la comparación de medias de varios conjuntos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ve adversamente afectada por valores extremos, perdiendo represent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conjunto de datos es muy grande puede ser tedioso su cálculo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cualit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que tengan clases de extremo abierto, tanto superior como inf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 si el número de observaciones no es mu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, ya que solo influyen los valores cent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ent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para cualquier tipos de datos cuantitativos, incluso los datos con clase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medida de tendencia central más representativa en el caso de variables que solo admiten la 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en su “cálculo”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ndera cada valor por el número de veces que se ha repe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ordenar los datos antes de determin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quiere cálcu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usarse para datos tanto cuantitativos como cualit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en clases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9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onjuntos pequeños de datos su valor no tiene casi utilidad, si es que de hecho existe. Solo tiene significado en el caso de una gran cantidad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empre existe, si los datos no se rep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a: es aquella que incluye un gran conjunto de observaciones o mediciones que no pueden alcanzarse por conteo. Al menos, hipotéticamente, no existe límite en cuanto al número de observaciones que el experimento puede gen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ocasiones, el azar hace que una sola observación se no representativa se el valor más frecuente del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ícil de interpretar si los datos tiene 3 o más mo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valores numéricos que indican o describen la forma en que las observaciones están dispersas o diseminadas, con respecto al valor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importantes debido a que dos muestras de observaciones con el mismo valor central pueden tener una variabilidad muy disti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40000" y="3938760"/>
            <a:ext cx="4724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viación 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ficiente de vari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(amplitud o recorri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 determinado por los dos valores extremos de los datos muestrales, es simplemente la diferencia entre la mayor y menor observ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a medida de dispersión absoluta, ya que depende solamente de los datos y permite conocer la máxima disp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 no se emplea debido a que depende únicamente de dos va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porciona una medida de variabilidad de las observaciones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valor numérico que mide el grado de dispersión relativa porque depende de la posición de los datos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promedio al cuadrado de las desviaciones de cada observación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ción: 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998360"/>
            <a:ext cx="814068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varianza de un conjunto de observaciones es grande se dice que los datos tiene una mayor variabilidad que un conjunto de datos que tenga un varianza me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708360" y="3716280"/>
                <a:ext cx="2189160" cy="26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59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raíz cuadrada de la var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68720" y="3019320"/>
                <a:ext cx="1861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da de dispersión relativa que permite comparar el nivel de dispersión de dos muestras de variables estadísticas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ene dim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168720" y="4722840"/>
                <a:ext cx="2333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conjunto de mediciones u observaciones tomadas a partir de un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subconjunto de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4433760"/>
            <a:ext cx="435456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til cuando se quiere conocer la extensión de las variaciones extremas (valor máximo de la dispers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D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 emplea dos valor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puede calcular en distribuciones de límite de clase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mpre es mayor o igual a cero y menor que infin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rianza de una constante es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útil cuando se compara la variabilidad de dos o más conjuntos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toda la información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porciona ayuda inmediata cuando se estudia la dispersión de un solo conjunto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ícil de interpretar por tener sus unidades elevadas al cuad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xpresad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todas las observacion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l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única MD que permite comparar el nivel de dispersión de dos muestras de variables difer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toda la información disponible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didas de Posición: Percent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mento ubicado en la posición k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68360" y="2781360"/>
                <a:ext cx="3816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600120" y="4284720"/>
            <a:ext cx="807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partir de esto, se pueden definir 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ar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c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Quin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Posición: Cuar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uart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49840" y="2708280"/>
                <a:ext cx="1655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417840" y="3645000"/>
                <a:ext cx="252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849840" y="4437000"/>
                <a:ext cx="1592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medidas numéricas que permiten determinar la forma que tiene la curva de los datos, por lo tanto, sirven para corroborar lo que los gráficos muest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2640" y="474012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42680" y="4595760"/>
            <a:ext cx="2916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s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Kurtosis o apu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21840" y="444348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de Pea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Yule-Bow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51080" y="443700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35440" y="443700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n estudiar la forma de la curva, dependiendo de cómo se agrupan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5567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 aleatoria: se considera aleatoria siempre y cuando cada observación, medición o individuo de la población tenga la misma probabilidad de ser selec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Pear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ácil de calcular e interpre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00360" y="3068640"/>
                <a:ext cx="2527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10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8880" y="517176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582200" y="4149720"/>
            <a:ext cx="5378400" cy="2087280"/>
            <a:chOff x="1582200" y="4149720"/>
            <a:chExt cx="5378400" cy="2087280"/>
          </a:xfrm>
        </p:grpSpPr>
        <p:sp>
          <p:nvSpPr>
            <p:cNvPr id="319" name=""/>
            <p:cNvSpPr/>
            <p:nvPr/>
          </p:nvSpPr>
          <p:spPr>
            <a:xfrm>
              <a:off x="1582200" y="414972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8800" y="5243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29560" y="4668840"/>
              <a:ext cx="2831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0,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gt; 0,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lt; 0,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08360" y="4652640"/>
              <a:ext cx="216000" cy="1584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916360" y="2565360"/>
                <a:ext cx="27381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mbién podemos calc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Yule-Bow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411280" y="2997360"/>
                <a:ext cx="3240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29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98800" y="51717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den si los valores de la distribución están más o menos concentrados alrededor de los valores medios de la muestra (zona central de la distribu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finen tres tipos de distribución según su grado de Kurt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49304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ocúrtica: grado de concentración medio alrededor de los valores centrales de l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ptocúrtica: grado de concentración elev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ticúrtica: grado de concentración redu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547640" y="5084640"/>
            <a:ext cx="508968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datos y escalas de med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ab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as características o lo que se estudia de cada individuo de la muestra. Ej: sexo, edad, peso, estatura, color de ojos, estado civil, temperatura, cantidad de nacimientos, presión, grosor, diámetro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os valores que toma la variable en cada c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litativos: son datos que solo toman valores asociados a las cualidades o atributos, clasificándolos en una de vari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no son valores numéricos. E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xo: f/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ábito de fumar: Fumador/No f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de ojos: negro, azul, marró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: católica, evangélica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do civil: soltero, casado, divorciado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1:20:58Z</dcterms:created>
  <dc:creator>Eliana</dc:creator>
  <dc:description/>
  <dc:language>en-US</dc:language>
  <cp:lastModifiedBy>scourt</cp:lastModifiedBy>
  <dcterms:modified xsi:type="dcterms:W3CDTF">2010-04-18T20:28:58Z</dcterms:modified>
  <cp:revision>59</cp:revision>
  <dc:subject/>
  <dc:title>Unidad I. Conceptos Básicos y Estadística Descriptiva</dc:title>
</cp:coreProperties>
</file>