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116-C836-4790-9946-2260F578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784-5547-4849-A9C2-657D0A74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A40-2C70-4F41-B6F7-E0C3E7A4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22A-75BE-4C12-9DB5-64E89326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643-554C-4928-81FF-A2F39E7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9C9-55CE-4D54-AE27-DD002D7D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FF4-4430-49DE-B47E-41C55233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5DF-3BFB-484C-9390-B786579D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ED0-7077-4D0D-A968-8B958876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A2E-3451-4E8C-83A7-114AA20F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677-F9DE-4589-88C0-64CB3BDA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341-C9A0-48D7-A24A-1D92CD7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DB76-C711-4617-8B29-1C9B8462C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93800" y="2022480"/>
          <a:ext cx="730728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22480"/>
                    <a:ext cx="73072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28640" y="2022480"/>
          <a:ext cx="72882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022480"/>
                    <a:ext cx="72882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01680" y="2309760"/>
          <a:ext cx="6519960" cy="38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2309760"/>
                    <a:ext cx="6519960" cy="38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7:59:47Z</dcterms:modified>
  <cp:revision>24</cp:revision>
  <dc:subject/>
  <dc:title>Un curso intensivo de Introducción a la Programación Orientada a Objetos en Java  para estudiantes de secundaria </dc:title>
</cp:coreProperties>
</file>