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165-F372-4543-B48C-E8294B31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EA4-676F-4A22-B2D5-8699129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614-59F9-4106-9A18-B8DC08C4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0A7-7E8D-46CA-9A70-5E8C06C8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C09-1844-4AF9-BB51-C2B50131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E84-79F9-41A6-9DF6-B5E889B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7A3-271F-4DD5-A863-9A413061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319-8B34-4A2F-9256-BF6FB51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105-F837-4AC7-B054-53792F47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D3D-0531-48FD-9D8C-C75E956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E10-931B-45AB-8D25-A2056007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ED4-2864-46DE-BBDE-0136C2E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E417-FDDC-4D88-97CF-D3775EDB0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180,16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1-04-19T12:54:49Z</dcterms:modified>
  <cp:revision>97</cp:revision>
  <dc:subject/>
  <dc:title>Sin título de diapositiva</dc:title>
</cp:coreProperties>
</file>