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 12: Ventan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79000" y="696960"/>
            <a:ext cx="46501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79C02-FD97-4344-A2B3-13AFD790D34A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2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 12: Ventan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6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50120" cy="348624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5E09D-8281-4F57-B2C0-CD62D5EDA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10E86-4DBD-4EAB-9C0B-CE59F743F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4FA0A-CA92-4AEB-AFA8-0976B815C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72BB0-F906-4415-BF9F-566897BE6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625DD-F35F-4C25-ABDF-D8EF7D033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4FE62-D338-46A1-9773-2E01C629D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01313-C848-4ABE-A416-B9D53F643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98A68-A0E7-43D3-A277-B046A999A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A4ED0-2759-4623-9919-19F48B0FB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EF3B7-AB74-4751-89CD-159E40949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0E8C0-2B7B-426F-8CD5-705DC5BBF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6F0D0-DC5A-4C29-A0B9-B7D494B5C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B6C16-E464-47DD-8A84-8FC5B1B420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Object 2"/>
          <p:cNvGraphicFramePr/>
          <p:nvPr/>
        </p:nvGraphicFramePr>
        <p:xfrm>
          <a:off x="399960" y="301680"/>
          <a:ext cx="8460000" cy="6835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9960" y="301680"/>
                    <a:ext cx="8460000" cy="683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Object 2"/>
          <p:cNvGraphicFramePr/>
          <p:nvPr/>
        </p:nvGraphicFramePr>
        <p:xfrm>
          <a:off x="523800" y="266760"/>
          <a:ext cx="8220240" cy="6195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3800" y="266760"/>
                    <a:ext cx="8220240" cy="619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Object 2"/>
          <p:cNvGraphicFramePr/>
          <p:nvPr/>
        </p:nvGraphicFramePr>
        <p:xfrm>
          <a:off x="185760" y="425520"/>
          <a:ext cx="8629560" cy="5948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5760" y="425520"/>
                    <a:ext cx="8629560" cy="594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Object 2"/>
          <p:cNvGraphicFramePr/>
          <p:nvPr/>
        </p:nvGraphicFramePr>
        <p:xfrm>
          <a:off x="541440" y="558720"/>
          <a:ext cx="8345520" cy="6286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1440" y="558720"/>
                    <a:ext cx="8345520" cy="628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Ejercicio. Programa que nunca pierde </a:t>
            </a:r>
            <a:r>
              <a:rPr b="0" lang="es-C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611280" y="3716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Cada vez que se ingrese un N° responder con uno más </a:t>
            </a:r>
            <a:r>
              <a:rPr b="0" lang="es-C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Botón “de nuevo” debe limpiar la frase “Gano yo con el x” </a:t>
            </a:r>
            <a:r>
              <a:rPr b="0" lang="es-C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>
            <a:off x="1979640" y="1916280"/>
            <a:ext cx="4495680" cy="188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3 Rectángulo"/>
          <p:cNvSpPr/>
          <p:nvPr/>
        </p:nvSpPr>
        <p:spPr>
          <a:xfrm>
            <a:off x="250920" y="333360"/>
            <a:ext cx="8713800" cy="615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om Tkinter import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métodos para Entry y Butt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obtener n° y mostrar mensa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ef mostrarMensaje(x)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n=int(respuesta.get(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mensaje.config(text="gano yo con el "+str(n+1)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limpiar mensa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ef jugarDeNuevo()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ensaje.config(text=""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Nota. Para “limpiar” todos los caracteres del texto del objeto respuesta (de la clase Entry)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respuesta.delete(0,END)#desde índice 0 al fi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1 Rectángulo"/>
          <p:cNvSpPr/>
          <p:nvPr/>
        </p:nvSpPr>
        <p:spPr>
          <a:xfrm>
            <a:off x="0" y="189000"/>
            <a:ext cx="914400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Jalisco: programa que nunca pier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ventana = Tk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marco para agrupar pregunta y respues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marco=Frame(ventan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marco.pack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regunta=Label(marco,text="Ingrese un número:"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regunta.pack(side=LEF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espuesta=Entry(marc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espuesta.pack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espuesta.bind("&lt;Return&gt;",mostrarMensaj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mensaje y boton en venta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mensaje=Label(ventan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mensaje.pack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boton=Button(ventana,text="de nuevo",command=jugarDeNuev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boton.pack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ventana.mainloop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Estructura de uso comú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Clase para interfaz con el usuar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componen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métodos para atender even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Program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crea objeto para la vent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crea objeto para la interfaz (de la ventan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loop” de espera de even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1 Rectángulo"/>
          <p:cNvSpPr/>
          <p:nvPr/>
        </p:nvSpPr>
        <p:spPr>
          <a:xfrm>
            <a:off x="250920" y="189000"/>
            <a:ext cx="8893080" cy="64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rom Tkinter import 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lass Interfaz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constructor: define e inicializa compone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ef __init__(self,ventana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marco para pregunta y respues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marco=Frame(ventan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marco.pack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pregunta=Label(marco,text="Ingrese un número:"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pregunta.pack(side=LEF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respuesta = Entry(marc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respuesta.pack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respuesta.bind("&lt;Return&gt;",self.mostrarMensaj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mensaje y botón a venta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mensaje=Label(ventan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mensaje.pack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boton=Button(ventana,text="de nuevo", \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ommand=self.jugarDeNuev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boton.pack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1 Rectángulo"/>
          <p:cNvSpPr/>
          <p:nvPr/>
        </p:nvSpPr>
        <p:spPr>
          <a:xfrm>
            <a:off x="108000" y="620640"/>
            <a:ext cx="892800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métodos para even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ef mostrarMensaje(self,x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n=int(self.respuesta.get(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mensaje.config(text="gano yo con el "+str(n+1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ef jugarDeNuevo(self):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mensaje.config(text="")#limpiar mensaj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respuesta.delete(0,END)#limpiar respues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Jalisco: programa que nunca pier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ventana = Tk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=Interfaz(ventana)  #o Interfaz(ventan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ventana.mainloop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Nota. clase Interfaz podría grabarse en otro arch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Object 2"/>
          <p:cNvGraphicFramePr/>
          <p:nvPr/>
        </p:nvGraphicFramePr>
        <p:xfrm>
          <a:off x="399960" y="239760"/>
          <a:ext cx="8274240" cy="7164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9960" y="239760"/>
                    <a:ext cx="8274240" cy="716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Object 2"/>
          <p:cNvGraphicFramePr/>
          <p:nvPr/>
        </p:nvGraphicFramePr>
        <p:xfrm>
          <a:off x="318960" y="185760"/>
          <a:ext cx="8150400" cy="7777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8960" y="185760"/>
                    <a:ext cx="8150400" cy="777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1 Rectángulo"/>
          <p:cNvSpPr/>
          <p:nvPr/>
        </p:nvSpPr>
        <p:spPr>
          <a:xfrm>
            <a:off x="179280" y="115920"/>
            <a:ext cx="8785440" cy="83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rom Tkinter import 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metodos que se ejecutan en caso de click en boton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ef saludar(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modificar objeto con texto “hola”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aludo.config(text="hola"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ef greet()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aludo.config(text="hello"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venta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ventana = Tk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boton “español”. Un click ejecuta método saludar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boton1 = Button(ventana,text="español",command=saluda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boton1.pack()  #ubica botón en venta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boton “english”. Un click ejecuta greet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boton2 = Button(ventana,text="english",command=gree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boton2.pack()  #ubica botón debajo de anteri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componente para mostrar salud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aludo= Label(ventan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aludo.pack() #ubica Label debaj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loop para clicks en botones (hasta cerrar ventan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ventana.mainloop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Object 2"/>
          <p:cNvGraphicFramePr/>
          <p:nvPr/>
        </p:nvGraphicFramePr>
        <p:xfrm>
          <a:off x="355680" y="338040"/>
          <a:ext cx="8788320" cy="6967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5680" y="338040"/>
                    <a:ext cx="8788320" cy="696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1 Rectángulo"/>
          <p:cNvSpPr/>
          <p:nvPr/>
        </p:nvSpPr>
        <p:spPr>
          <a:xfrm>
            <a:off x="324000" y="333360"/>
            <a:ext cx="8640720" cy="61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rom Tkinter import 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metodo que se ejecuta en caso de ingresar un nomb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ef saludar(x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=respuesta.get()  #obtener respues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aludo.config(text="hola "+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programa que salu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ventana = Tk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regunta = Label(ventana,text="Cuál es tu nombre?"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regunta.pack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componente para ingresar nomb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espuesta = Entry(ventan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espuesta.pack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espuesta.bind("&lt;Return&gt;",saluda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componente para mostrar salu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aludo=Label(ventan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aludo.pack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ventana.mainloop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Object 2"/>
          <p:cNvGraphicFramePr/>
          <p:nvPr/>
        </p:nvGraphicFramePr>
        <p:xfrm>
          <a:off x="239760" y="257040"/>
          <a:ext cx="8523360" cy="6410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9760" y="257040"/>
                    <a:ext cx="8523360" cy="641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Object 2"/>
          <p:cNvGraphicFramePr/>
          <p:nvPr/>
        </p:nvGraphicFramePr>
        <p:xfrm>
          <a:off x="338040" y="257040"/>
          <a:ext cx="8415360" cy="5673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8040" y="257040"/>
                    <a:ext cx="8415360" cy="567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Object 2"/>
          <p:cNvGraphicFramePr/>
          <p:nvPr/>
        </p:nvGraphicFramePr>
        <p:xfrm>
          <a:off x="160200" y="284040"/>
          <a:ext cx="8805960" cy="633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200" y="284040"/>
                    <a:ext cx="8805960" cy="633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5T15:15:25Z</dcterms:created>
  <dc:creator>jalvarez</dc:creator>
  <dc:description/>
  <dc:language>en-US</dc:language>
  <cp:lastModifiedBy>jalvarez</cp:lastModifiedBy>
  <cp:lastPrinted>2006-04-18T16:26:29Z</cp:lastPrinted>
  <dcterms:modified xsi:type="dcterms:W3CDTF">2012-01-07T18:33:27Z</dcterms:modified>
  <cp:revision>208</cp:revision>
  <dc:subject/>
  <dc:title>Sin título de diapositiva</dc:title>
</cp:coreProperties>
</file>