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2: Vent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000" y="696960"/>
            <a:ext cx="46501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828A-2EBB-4B23-9936-3C8F86FF86C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2: Vent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50120" cy="348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CC51-D5AF-44F1-AC31-1C6E5163D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F5AE-87BD-455E-BB32-6CD30B55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C693-BA09-45FA-9906-CBF13DBE6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FDAE-69D4-4008-8AA3-824B9303D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804B-CA3B-4B22-A1DA-04BEC6E4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639D-6C87-4469-9F9A-4DA450E9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CD04-0923-4B25-AA40-976E4FEB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8C56-B739-454B-8423-2914456F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0B97-E87D-4791-9EB3-35BC0F0A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73E3-D694-4A64-8840-82D28C24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1B39-721A-4FEE-A40F-5518495F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AD7D-91A8-42DB-86CB-FF4A2E92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802A-0ABC-44EB-B4ED-E2A1568EA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399960" y="301680"/>
          <a:ext cx="8460000" cy="683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301680"/>
                    <a:ext cx="8460000" cy="68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523800" y="266760"/>
          <a:ext cx="8220240" cy="619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266760"/>
                    <a:ext cx="8220240" cy="61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185760" y="425520"/>
          <a:ext cx="8629560" cy="594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60" y="425520"/>
                    <a:ext cx="8629560" cy="59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541440" y="558720"/>
          <a:ext cx="8345520" cy="628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558720"/>
                    <a:ext cx="8345520" cy="628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jercicio. Programa que nunca pierde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11280" y="37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da vez que se ingrese un N° responder con uno más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Botón “de nuevo” debe limpiar la frase “Gano yo con el x”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979640" y="1916280"/>
            <a:ext cx="449568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3 Rectángulo"/>
          <p:cNvSpPr/>
          <p:nvPr/>
        </p:nvSpPr>
        <p:spPr>
          <a:xfrm>
            <a:off x="250920" y="333360"/>
            <a:ext cx="871380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métodos para Entry y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obtener n° y mostrar mens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mostrarMensaje(x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=int(respuesta.get(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ensaje.config(text="gano yo con el "+str(n+1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limpiar mens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jugarDeNuevo()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saje.config(text="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ota. Para “limpiar” todos los caracteres del texto del objeto respuesta (de la clase Entry)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.delete(0,END)#desde índice 0 al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1 Rectángulo"/>
          <p:cNvSpPr/>
          <p:nvPr/>
        </p:nvSpPr>
        <p:spPr>
          <a:xfrm>
            <a:off x="0" y="189000"/>
            <a:ext cx="9144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Jalisco: programa que nunca pi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 = T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arco para agrupar pregunta y respu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=Frame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gunta=Label(marco,text="Ingrese un número: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gunta.pack(side=LEF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=Entry(mar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.bind("&lt;Return&gt;",mostrarMensaj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ensaje y boton en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nsaje=Label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nsaje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=Button(ventana,text="de nuevo",command=jugarDeNuev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uctura de uso comú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lase para interfaz con el usu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pon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étodos para atender ev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gram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a objeto para la vent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a objeto para la interfaz (de la venta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op” de espera de ev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1 Rectángulo"/>
          <p:cNvSpPr/>
          <p:nvPr/>
        </p:nvSpPr>
        <p:spPr>
          <a:xfrm>
            <a:off x="250920" y="189000"/>
            <a:ext cx="8893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Interfaz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constructor: define e inicializa compon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ventana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arco para pregunta y respu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=Frame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pregunta=Label(marco,text="Ingrese un número: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pregunta.pack(side=LEF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 = Entry(mar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.bind("&lt;Return&gt;",self.mostrarMensaj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ensaje y botón a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mensaje=Label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mensaje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boton=Button(ventana,text="de nuevo",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and=self.jugarDeNuev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boton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1 Rectángulo"/>
          <p:cNvSpPr/>
          <p:nvPr/>
        </p:nvSpPr>
        <p:spPr>
          <a:xfrm>
            <a:off x="108000" y="620640"/>
            <a:ext cx="8928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étodos para ev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mostrarMensaje(self,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=int(self.respuesta.get(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mensaje.config(text="gano yo con el "+str(n+1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jugarDeNuevo(self)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mensaje.config(text="")#limpiar mens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.delete(0,END)#limpiar respu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Jalisco: programa que nunca pi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 = T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=Interfaz(ventana)  #o Interfaz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ota. clase Interfaz podría grabarse en otro arch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399960" y="239760"/>
          <a:ext cx="8274240" cy="716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239760"/>
                    <a:ext cx="8274240" cy="71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318960" y="185760"/>
          <a:ext cx="8150400" cy="777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85760"/>
                    <a:ext cx="8150400" cy="77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 Rectángulo"/>
          <p:cNvSpPr/>
          <p:nvPr/>
        </p:nvSpPr>
        <p:spPr>
          <a:xfrm>
            <a:off x="179280" y="115920"/>
            <a:ext cx="8785440" cy="83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etodos que se ejecutan en caso de click en boto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saludar(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odificar objeto con texto “hola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.config(text="hola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greet(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.config(text="hello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 = T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boton “español”. Un click ejecuta método saludar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1 = Button(ventana,text="español",command=salud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1.pack()  #ubica botón en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boton “english”. Un click ejecuta gree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2 = Button(ventana,text="english",command=gre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2.pack()  #ubica botón debajo de ant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componente para mostrar salu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= Label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.pack() #ubica Label de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loop para clicks en botones (hasta cerrar 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355680" y="338040"/>
          <a:ext cx="8788320" cy="696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338040"/>
                    <a:ext cx="8788320" cy="696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1 Rectángulo"/>
          <p:cNvSpPr/>
          <p:nvPr/>
        </p:nvSpPr>
        <p:spPr>
          <a:xfrm>
            <a:off x="324000" y="333360"/>
            <a:ext cx="86407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etodo que se ejecuta en caso de ingresar un nom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saludar(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=respuesta.get()  #obtener respu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.config(text="hola "+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programa que salu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 = T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gunta = Label(ventana,text="Cuál es tu nombre?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gunta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componente para ingresar nom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 = Entry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.bind("&lt;Return&gt;",salud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componente para mostrar salu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=Label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239760" y="257040"/>
          <a:ext cx="8523360" cy="641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257040"/>
                    <a:ext cx="8523360" cy="641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338040" y="257040"/>
          <a:ext cx="8415360" cy="567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040" y="257040"/>
                    <a:ext cx="8415360" cy="567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160200" y="284040"/>
          <a:ext cx="8805960" cy="633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200" y="284040"/>
                    <a:ext cx="8805960" cy="63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15:15:25Z</dcterms:created>
  <dc:creator>jalvarez</dc:creator>
  <dc:description/>
  <dc:language>en-US</dc:language>
  <cp:lastModifiedBy>jalvarez</cp:lastModifiedBy>
  <cp:lastPrinted>2006-04-18T16:26:29Z</cp:lastPrinted>
  <dcterms:modified xsi:type="dcterms:W3CDTF">2012-01-07T18:33:27Z</dcterms:modified>
  <cp:revision>208</cp:revision>
  <dc:subject/>
  <dc:title>Sin título de diapositiva</dc:title>
</cp:coreProperties>
</file>