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960"/>
            <a:ext cx="4650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9029-C37D-4940-A960-E30EDEC2CE1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01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F62-D269-4793-AA76-D269E44D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C23-4CAA-4C36-A1F7-3CA81DD3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62A-CCEC-4CEF-BA24-9A3DA871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C6D0-31A7-45D8-B855-C1081754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F11-ACFE-463C-A383-DAE152A1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CAE-68E3-48CA-9592-D246AEE7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C95-46FE-4E6E-99DB-B1A004EB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1B1-CE7F-4955-8293-47AA731A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7710-5CC7-4E38-8C4B-586DFDC8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894-9EFE-4B0D-86D7-8CAADA18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989D-868B-4392-A31B-4C68F7B4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4F1B-3015-4727-8446-2EE4284E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E9A0-AA76-42A9-A175-14942B9B7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399960" y="301680"/>
          <a:ext cx="8460000" cy="68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01680"/>
                    <a:ext cx="8460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23800" y="266760"/>
          <a:ext cx="822024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66760"/>
                    <a:ext cx="822024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185760" y="425520"/>
          <a:ext cx="862956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425520"/>
                    <a:ext cx="862956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541440" y="558720"/>
          <a:ext cx="834552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558720"/>
                    <a:ext cx="834552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rcicio. Programa que nunca pierde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7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vez que se ingrese un N° responder con uno más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otón “de nuevo” debe limpiar la frase “Gano yo con el x”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4495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3 Rectángulo"/>
          <p:cNvSpPr/>
          <p:nvPr/>
        </p:nvSpPr>
        <p:spPr>
          <a:xfrm>
            <a:off x="250920" y="333360"/>
            <a:ext cx="871380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ntry y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n° y mostr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respuesta.ge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gano yo con el "+str(n+1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impi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Para “limpiar” todos los caracteres del texto del objeto respuesta (de la clase Entry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desde índice 0 al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Rectángulo"/>
          <p:cNvSpPr/>
          <p:nvPr/>
        </p:nvSpPr>
        <p:spPr>
          <a:xfrm>
            <a:off x="0" y="18900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=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o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=Button(ventana,text="de nuevo",command=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250920" y="189000"/>
            <a:ext cx="8893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erfa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structor: define e inicializa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 = 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bind("&lt;Return&gt;",self.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ón 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=Button(ventana,text="de nuevo",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self.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Rectángulo"/>
          <p:cNvSpPr/>
          <p:nvPr/>
        </p:nvSpPr>
        <p:spPr>
          <a:xfrm>
            <a:off x="108000" y="620640"/>
            <a:ext cx="892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self.respuesta.get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gano yo con el "+str(n+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self)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")#limpiar men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limpia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nterfaz(ventana)  #o Interfaz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clase Interfaz podría grabarse en otro arch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9960" y="239760"/>
          <a:ext cx="8274240" cy="71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39760"/>
                    <a:ext cx="8274240" cy="71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18960" y="185760"/>
          <a:ext cx="8150400" cy="77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85760"/>
                    <a:ext cx="8150400" cy="77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Rectángulo"/>
          <p:cNvSpPr/>
          <p:nvPr/>
        </p:nvSpPr>
        <p:spPr>
          <a:xfrm>
            <a:off x="179280" y="115920"/>
            <a:ext cx="8785440" cy="83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s que se ejecutan en caso de click en bot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odificar objeto con texto “hol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eet(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ello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spañol”. Un click ejecuta método salud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 = Button(ventana,text="español",command=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.pack()  #ubica botó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nglish”. Un click ejecuta gre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 = Button(ventana,text="english",command=gre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.pack()  #ubica botón debajo de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 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 #ubica Label de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loop para clicks en botones (hasta cerrar 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355680" y="338040"/>
          <a:ext cx="8788320" cy="69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38040"/>
                    <a:ext cx="8788320" cy="69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Rectángulo"/>
          <p:cNvSpPr/>
          <p:nvPr/>
        </p:nvSpPr>
        <p:spPr>
          <a:xfrm>
            <a:off x="324000" y="333360"/>
            <a:ext cx="864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 que se ejecuta en caso de ingresar un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=respuesta.get()  #obtene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 "+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programa que sal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 = Label(ventana,text="Cuál es tu nombre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ingresar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 = Entry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39760" y="257040"/>
          <a:ext cx="8523360" cy="641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57040"/>
                    <a:ext cx="8523360" cy="641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338040" y="257040"/>
          <a:ext cx="8415360" cy="567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257040"/>
                    <a:ext cx="8415360" cy="56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60200" y="284040"/>
          <a:ext cx="880596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284040"/>
                    <a:ext cx="88059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12-01-07T18:33:27Z</dcterms:modified>
  <cp:revision>208</cp:revision>
  <dc:subject/>
  <dc:title>Sin título de diapositiva</dc:title>
</cp:coreProperties>
</file>