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0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EC17-08E9-4464-B306-28FDB8236B3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268-5C79-495C-AA80-E4B64932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680-C23C-4833-B7C3-1CE12615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CA7-9E9A-4FF3-981D-0B4E04A4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0E3-D247-4EBB-BCC2-27D0FEBC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CE1-8A3B-453C-9FB6-85BCCC3C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7FD-EA0F-482C-B761-2BA8D95C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48C-F00B-4D0A-8A82-F2290189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2F4-D81F-4B17-8161-6043A99A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AA7-9C4D-44AC-97CC-A2530B2A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B892-C9EF-4779-9F8E-199A3893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CC9-EF5C-4388-9542-65B6CAFC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81E-24AA-4682-8288-C36FAA23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7645-E69C-453D-A229-BEE6E09D0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99960" y="301680"/>
          <a:ext cx="8460000" cy="68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01680"/>
                    <a:ext cx="8460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23800" y="266760"/>
          <a:ext cx="822024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66760"/>
                    <a:ext cx="822024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185760" y="425520"/>
          <a:ext cx="862956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25520"/>
                    <a:ext cx="862956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541440" y="558720"/>
          <a:ext cx="834552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558720"/>
                    <a:ext cx="834552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rcicio. Programa que nunca pierde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7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vez que se ingrese un N° responder con uno má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otón “de nuevo” debe limpiar la frase “Gano yo con el x”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4495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Rectángulo"/>
          <p:cNvSpPr/>
          <p:nvPr/>
        </p:nvSpPr>
        <p:spPr>
          <a:xfrm>
            <a:off x="250920" y="333360"/>
            <a:ext cx="871380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ntry y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n° y mostr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respuesta.ge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gano yo con el "+str(n+1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impi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Para “limpiar” todos los caracteres del texto del objeto respuesta (de la clase Entry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desde índice 0 al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0" y="18900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=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o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=Button(ventana,text="de nuevo",command=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893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erfa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structor: define e inicializa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 = 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bind("&lt;Return&gt;",self.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ón 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=Button(ventana,text="de nuevo",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self.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108000" y="620640"/>
            <a:ext cx="892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self.respuesta.ge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gano yo con el "+str(n+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self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")#limpiar men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limpia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erfaz(ventana)  #o Interfaz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clase Interfaz podría grabarse en otro arch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9960" y="239760"/>
          <a:ext cx="8274240" cy="71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39760"/>
                    <a:ext cx="8274240" cy="71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18960" y="185760"/>
          <a:ext cx="8150400" cy="77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85760"/>
                    <a:ext cx="8150400" cy="77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179280" y="115920"/>
            <a:ext cx="8785440" cy="83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s que se ejecutan en caso de click en bot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odificar objeto con texto “hol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eet(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ello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spañol”. Un click ejecuta método salud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 = Button(ventana,text="español",command=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.pack()  #ubica botó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nglish”. Un click ejecuta gre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 = Button(ventana,text="english",command=gre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.pack()  #ubica botón debajo de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 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 #ubica Label de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loop para clicks en botones (hasta cerrar 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55680" y="338040"/>
          <a:ext cx="8788320" cy="69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38040"/>
                    <a:ext cx="8788320" cy="69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324000" y="333360"/>
            <a:ext cx="864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 que se ejecuta en caso de ingresar un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=respuesta.get()  #obtene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 "+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programa que sal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 = Label(ventana,text="Cuál es tu nombre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ingresar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 = Entry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39760" y="257040"/>
          <a:ext cx="8523360" cy="641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57040"/>
                    <a:ext cx="8523360" cy="641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338040" y="257040"/>
          <a:ext cx="841536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57040"/>
                    <a:ext cx="841536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60200" y="284040"/>
          <a:ext cx="880596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284040"/>
                    <a:ext cx="88059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12-01-07T18:33:27Z</dcterms:modified>
  <cp:revision>208</cp:revision>
  <dc:subject/>
  <dc:title>Sin título de diapositiva</dc:title>
</cp:coreProperties>
</file>