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2: Venta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000" y="696960"/>
            <a:ext cx="46501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A7984-CC95-4E10-8B7F-2A28D835F18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2: Venta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50120" cy="3486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0773-E7B5-4EA9-94B8-6F281F458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C809-587C-4FD8-9B39-CCE837A8B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8FC4-93FA-491E-87EB-41010766E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83F9-16FB-425C-B174-1FC41551B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A77D-0F5C-40B0-89EC-3C3F0B298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C310-1BE1-42B9-A573-89C59E12A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1552-7281-46D7-BB72-29479149B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662F-387C-4295-B959-B0E73B0D1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8236-0E5F-4140-B319-C946D5DE6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3710-3FEF-40E0-ABC9-05EC51D7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49DB-67DE-4396-AAC9-949B6D1B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BF5F-1E4D-4557-AD3D-832CE301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F2791-78E7-4961-8733-7EAF0D4522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399960" y="301680"/>
          <a:ext cx="8460000" cy="683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301680"/>
                    <a:ext cx="8460000" cy="68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2"/>
          <p:cNvGraphicFramePr/>
          <p:nvPr/>
        </p:nvGraphicFramePr>
        <p:xfrm>
          <a:off x="523800" y="266760"/>
          <a:ext cx="8220240" cy="619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266760"/>
                    <a:ext cx="8220240" cy="61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2"/>
          <p:cNvGraphicFramePr/>
          <p:nvPr/>
        </p:nvGraphicFramePr>
        <p:xfrm>
          <a:off x="185760" y="425520"/>
          <a:ext cx="8629560" cy="594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760" y="425520"/>
                    <a:ext cx="8629560" cy="59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541440" y="558720"/>
          <a:ext cx="8345520" cy="628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558720"/>
                    <a:ext cx="8345520" cy="628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jercicio. Programa que nunca pierde </a:t>
            </a: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11280" y="37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da vez que se ingrese un N° responder con uno más </a:t>
            </a: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Botón “de nuevo” debe limpiar la frase “Gano yo con el x” </a:t>
            </a: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979640" y="1916280"/>
            <a:ext cx="449568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3 Rectángulo"/>
          <p:cNvSpPr/>
          <p:nvPr/>
        </p:nvSpPr>
        <p:spPr>
          <a:xfrm>
            <a:off x="250920" y="333360"/>
            <a:ext cx="8713800" cy="61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métodos para Entry y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obtener n° y mostrar mens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mostrarMensaje(x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=int(respuesta.get(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ensaje.config(text="gano yo con el "+str(n+1)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limpiar mens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jugarDeNuevo()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ensaje.config(text="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Nota. Para “limpiar” todos los caracteres del texto del objeto respuesta (de la clase Entry)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respuesta.delete(0,END)#desde índice 0 al 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1 Rectángulo"/>
          <p:cNvSpPr/>
          <p:nvPr/>
        </p:nvSpPr>
        <p:spPr>
          <a:xfrm>
            <a:off x="0" y="189000"/>
            <a:ext cx="91440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Jalisco: programa que nunca pie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 = T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arco para agrupar pregunta y respue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rco=Frame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rco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gunta=Label(marco,text="Ingrese un número: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gunta.pack(side=LEF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uesta=Entry(marc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uesta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uesta.bind("&lt;Return&gt;",mostrarMensaj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ensaje y boton en vent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ensaje=Label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ensaje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ton=Button(ventana,text="de nuevo",command=jugarDeNuev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ton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.mainloop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structura de uso comú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lase para interfaz con el usu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mpon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étodos para atender ev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gram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a objeto para la vent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a objeto para la interfaz (de la ventan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oop” de espera de ev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1 Rectángulo"/>
          <p:cNvSpPr/>
          <p:nvPr/>
        </p:nvSpPr>
        <p:spPr>
          <a:xfrm>
            <a:off x="250920" y="189000"/>
            <a:ext cx="8893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Interfaz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constructor: define e inicializa compon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__init__(self,ventana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arco para pregunta y respue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rco=Frame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rco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pregunta=Label(marco,text="Ingrese un número: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pregunta.pack(side=LEF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respuesta = Entry(marc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respuesta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respuesta.bind("&lt;Return&gt;",self.mostrarMensaj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ensaje y botón a vent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mensaje=Label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mensaje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boton=Button(ventana,text="de nuevo",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mmand=self.jugarDeNuev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boton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1 Rectángulo"/>
          <p:cNvSpPr/>
          <p:nvPr/>
        </p:nvSpPr>
        <p:spPr>
          <a:xfrm>
            <a:off x="108000" y="620640"/>
            <a:ext cx="8928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étodos para ev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mostrarMensaje(self,x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=int(self.respuesta.get(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mensaje.config(text="gano yo con el "+str(n+1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jugarDeNuevo(self)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mensaje.config(text="")#limpiar mensa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respuesta.delete(0,END)#limpiar respue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Jalisco: programa que nunca pie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 = T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=Interfaz(ventana)  #o Interfaz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.mainloop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Nota. clase Interfaz podría grabarse en otro arch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399960" y="239760"/>
          <a:ext cx="8274240" cy="716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239760"/>
                    <a:ext cx="8274240" cy="71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318960" y="185760"/>
          <a:ext cx="8150400" cy="777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185760"/>
                    <a:ext cx="8150400" cy="77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1 Rectángulo"/>
          <p:cNvSpPr/>
          <p:nvPr/>
        </p:nvSpPr>
        <p:spPr>
          <a:xfrm>
            <a:off x="179280" y="115920"/>
            <a:ext cx="8785440" cy="83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etodos que se ejecutan en caso de click en boton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saludar(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odificar objeto con texto “hola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ludo.config(text="hola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greet(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ludo.config(text="hello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vent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 = T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boton “español”. Un click ejecuta método saludar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ton1 = Button(ventana,text="español",command=salud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ton1.pack()  #ubica botón en vent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boton “english”. Un click ejecuta greet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ton2 = Button(ventana,text="english",command=gre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ton2.pack()  #ubica botón debajo de anter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componente para mostrar salu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ludo= Label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ludo.pack() #ubica Label de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loop para clicks en botones (hasta cerrar 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.mainloop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Object 2"/>
          <p:cNvGraphicFramePr/>
          <p:nvPr/>
        </p:nvGraphicFramePr>
        <p:xfrm>
          <a:off x="355680" y="338040"/>
          <a:ext cx="8788320" cy="696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5680" y="338040"/>
                    <a:ext cx="8788320" cy="696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1 Rectángulo"/>
          <p:cNvSpPr/>
          <p:nvPr/>
        </p:nvSpPr>
        <p:spPr>
          <a:xfrm>
            <a:off x="324000" y="333360"/>
            <a:ext cx="864072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etodo que se ejecuta en caso de ingresar un nom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saludar(x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=respuesta.get()  #obtener respue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ludo.config(text="hola "+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programa que salu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 = T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gunta = Label(ventana,text="Cuál es tu nombre?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gunta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componente para ingresar nom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uesta = Entry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uesta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uesta.bind("&lt;Return&gt;",salud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componente para mostrar salu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ludo=Label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ludo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.mainloop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239760" y="257040"/>
          <a:ext cx="8523360" cy="641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257040"/>
                    <a:ext cx="8523360" cy="641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338040" y="257040"/>
          <a:ext cx="8415360" cy="567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8040" y="257040"/>
                    <a:ext cx="8415360" cy="567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160200" y="284040"/>
          <a:ext cx="8805960" cy="633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200" y="284040"/>
                    <a:ext cx="8805960" cy="63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5T15:15:25Z</dcterms:created>
  <dc:creator>jalvarez</dc:creator>
  <dc:description/>
  <dc:language>en-US</dc:language>
  <cp:lastModifiedBy>jalvarez</cp:lastModifiedBy>
  <cp:lastPrinted>2006-04-18T16:26:29Z</cp:lastPrinted>
  <dcterms:modified xsi:type="dcterms:W3CDTF">2012-01-07T18:33:27Z</dcterms:modified>
  <cp:revision>208</cp:revision>
  <dc:subject/>
  <dc:title>Sin título de diapositiva</dc:title>
</cp:coreProperties>
</file>