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BDED62-C84F-4F6C-B816-849190E72B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B78118-B40C-4D38-A1FA-74462480C2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F04BFA-4F61-4A99-9D36-FDBE577595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2ED1EB-4179-4AED-8AF6-AA22ECA167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E78-537D-4352-9DB1-5C67AF94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706-CDA7-4541-886E-9B0BDB10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DC9-F1F7-4F15-AD9C-641F7A35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34E-AECB-40F8-A9CC-1A78568B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891-453A-4F36-9E21-8D568DD8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7F5-7F85-4F21-8E98-4D08AA94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817-1F2F-469E-A030-FE0F0B9A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CC2-0293-4951-AEB7-B1DCF54B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2D4-6CF1-4864-8713-C93CC22E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E37-BD67-4B77-81DF-C50ACC4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BBA-25E0-44D0-85D6-0D25E65F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7EB-F36B-49A5-906C-AA213F7A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A11F-C441-4EA5-BBB9-5F08CE71E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2: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I: Programación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Compu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 usando los 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907920"/>
            <a:ext cx="805788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 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 Diccionarios/Tup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 Búsqu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 Ord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8 Estructuras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9 Matlab (3 cl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Horario: lunes a jue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08:30 Laboratorio con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0:15 Clase con profe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2:00 Laboratorio con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sde 14 hrs: laboratorio libre (sin ayd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ernes: laboratorio libre todo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2 pruebas (7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iércoles 18 de e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Jueves 26 de e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3 tareas (3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758880" y="1986120"/>
          <a:ext cx="7211880" cy="368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1986120"/>
                    <a:ext cx="721188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2-01-09T10:48:17Z</dcterms:modified>
  <cp:revision>28</cp:revision>
  <dc:subject/>
  <dc:title>Un curso intensivo de Introducción a la Programación Orientada a Objetos en Java  para estudiantes de secundaria </dc:title>
</cp:coreProperties>
</file>