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/enero  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75DF7D7-6E09-4ACF-AFF2-0EBBCE60C41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/enero  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A67FBD2-08CF-4B46-8673-68DC8885B28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/enero  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5D3CBEB-C7AD-4B9A-A407-90E39518173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/enero  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8D4B9EB-1224-413B-AC0A-B2AD254034E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6FFE-54FE-4513-BBC9-694EBA5C3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2AB8-59DE-41ED-A78C-3C241E72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D9F3-44A0-4B5C-ACF1-D9B713FA6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BF24-66AF-426A-AC3C-FEB1F0FB9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4CD9-D28D-4503-8AA8-4B1746E2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AF04-2C41-452C-A809-18E7C88F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7456-03D1-4692-A32F-6AB6F77B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2F9F-F890-4482-8CBF-CE5AB1EA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25E7-80E9-40E2-8F31-1D2A3D75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746B-F756-4612-B712-71492274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CE68-ACDB-42A1-A09F-FBA8EA08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1D0A-9106-4768-B61C-9FA70946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004F-7323-4B37-9BAD-56EA38ED8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cuela de Verano 2012:</a:t>
            </a: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mputación II: Programación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e Computad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an Alvarez Ru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. de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alvarez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 usando los lenguajes Java y Mat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907920"/>
            <a:ext cx="8057880" cy="556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 Venta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 Gráf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 L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 Tab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 Diccionarios/Tup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6 Búsqu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7 Orden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8 Estructuras de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9 Matlab (3 clas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Horario: lunes a jue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08:30 Laboratorio con ayud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10:15 Clase con profe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12:00 Laboratorio con ayud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esde 14 hrs: laboratorio libre (sin ayd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iernes: laboratorio libre todo el d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2 pruebas (70%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Miércoles 18 de en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Jueves 26 de en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valuación: 3 tareas (30%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Object 3"/>
          <p:cNvGraphicFramePr/>
          <p:nvPr/>
        </p:nvGraphicFramePr>
        <p:xfrm>
          <a:off x="758880" y="1986120"/>
          <a:ext cx="7211880" cy="368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8880" y="1986120"/>
                    <a:ext cx="7211880" cy="36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jalvarez</cp:lastModifiedBy>
  <cp:lastPrinted>2006-01-04T11:43:13Z</cp:lastPrinted>
  <dcterms:modified xsi:type="dcterms:W3CDTF">2012-01-09T10:48:17Z</dcterms:modified>
  <cp:revision>28</cp:revision>
  <dc:subject/>
  <dc:title>Un curso intensivo de Introducción a la Programación Orientada a Objetos en Java  para estudiantes de secundaria </dc:title>
</cp:coreProperties>
</file>