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/enero  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DBFEC67-2422-46BE-9F93-51CA71FD833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/enero  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D2E0682-67C3-4568-82EB-AED1A43F07D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/enero  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D1C37E7-2F0E-4F73-ABC2-40F15C500B5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/enero  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365DC1A-760C-49BA-B3E9-C9B6EB6E90C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AB67-C8DF-44E6-A610-3DBEAA40E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4C0E-9558-402D-8B69-025129C4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B786-1AB1-462F-8A68-DE2DC735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F47C-E5BC-4495-A0FE-56524BEE4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673B-D682-4D26-8411-AE6C16A5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398D-DC26-41B8-81B0-D28073D8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DDF5-68E3-47E2-AB19-26209051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50F8-8E36-43F8-9D7A-E9D2B492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8A9D-096B-45B8-BC07-082F2456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BDF1-4102-451F-BA5D-E38CD45C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AD90-9F0C-481F-98CD-2A6A073A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A477-F58B-4CE7-A3A6-C43A7F5B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05D3-EFC3-42E0-ADB6-2168D9421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cuela de Verano 2012:</a:t>
            </a: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mputación II: Programación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e Computad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Alvarez Ru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. de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alvarez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 usando los lenguajes Java y Mat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907920"/>
            <a:ext cx="8057880" cy="556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 Venta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 Gráf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 L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 Tab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 Diccionarios/Tup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6 Búsqu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7 Orden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8 Estructuras de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9 Matlab (3 clas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Horario: lunes a jue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08:30 Laboratorio con ayud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10:15 Clase con profe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12:00 Laboratorio con ayud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esde 14 hrs: laboratorio libre (sin ayd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iernes: laboratorio libre todo el d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2 pruebas (70%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Miércoles 18 de en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Jueves 26 de en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valuación: 3 tareas (30%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Object 3"/>
          <p:cNvGraphicFramePr/>
          <p:nvPr/>
        </p:nvGraphicFramePr>
        <p:xfrm>
          <a:off x="758880" y="1986120"/>
          <a:ext cx="7211880" cy="368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8880" y="1986120"/>
                    <a:ext cx="7211880" cy="36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jalvarez</cp:lastModifiedBy>
  <cp:lastPrinted>2006-01-04T11:43:13Z</cp:lastPrinted>
  <dcterms:modified xsi:type="dcterms:W3CDTF">2012-01-09T10:48:17Z</dcterms:modified>
  <cp:revision>28</cp:revision>
  <dc:subject/>
  <dc:title>Un curso intensivo de Introducción a la Programación Orientada a Objetos en Java  para estudiantes de secundaria </dc:title>
</cp:coreProperties>
</file>