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22A-467F-43B6-83FD-4019D647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333-825C-4A9B-8EBE-1D2CD2FF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42F-5CD2-420F-A134-9FA510BB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7CF-132D-4453-9EE8-755CB6E6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21B-8563-4834-86C6-51F872C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CD5-0C9C-4F4A-8331-B2B7B6AE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70B-1EC1-4174-A766-4C77D110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D32-6E8D-4CBA-8822-4F90D053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ECB-FCE4-4E0D-904F-A120E2B8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1C0-4574-4F3C-8205-7DA20C88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60D-64D2-4E60-8EAE-7C47B1A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7E5-CA9A-43BA-83A0-74C8733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B155D5B8-BC35-4C35-9958-B3EED311C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01-05T19:40:21Z</dcterms:modified>
  <cp:revision>94</cp:revision>
  <dc:subject/>
  <dc:title>Sin título de diapositiva</dc:title>
</cp:coreProperties>
</file>