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2F6-548E-48F8-B486-F7F091BA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3C3-1225-4318-9756-21D8D1EE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BAE-B5D2-452A-B760-33BF3057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A13-1109-4803-B124-564A7549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745-3D0A-4B1A-95C4-2229890C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42B-BDAE-469C-A793-78BFE332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03C-D038-4435-8494-5DDEF79C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CC4-A9B0-4CDB-8BC9-0D82E746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59D-6541-4D8F-B59F-4988E978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188-7D1B-42C8-83EE-83A7655F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927-40EF-4ED8-A335-E2E38F9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ED9-E63B-41A7-8386-14F9A88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AAD8-44FD-4E14-B323-8018B4B3F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45960" y="284040"/>
          <a:ext cx="818532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84040"/>
                    <a:ext cx="818532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372960" y="399960"/>
          <a:ext cx="8194680" cy="62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9960"/>
                    <a:ext cx="819468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Rectángulo"/>
          <p:cNvSpPr/>
          <p:nvPr/>
        </p:nvSpPr>
        <p:spPr>
          <a:xfrm>
            <a:off x="0" y="2852640"/>
            <a:ext cx="925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100,100,180,16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179280" y="2997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00016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an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min(alto,ancho)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to=200; 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,text="circunferencia",command=dibuj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,width=ancho,height=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=input("ancho?"); H=input("alto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W,height=H,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191160"/>
            <a:ext cx="8893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1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324000" y="26028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 usando n puntos de [a,b]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11-04-19T11:53:52Z</dcterms:modified>
  <cp:revision>95</cp:revision>
  <dc:subject/>
  <dc:title>Sin título de diapositiva</dc:title>
</cp:coreProperties>
</file>