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7B1F-4737-452C-8A32-D7B276955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F81E-09A4-4CF0-81B8-E45760CB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7FA5-52C7-451D-AD3A-C00134FEF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1D6F-6B85-4034-88E5-5381985C2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F2FD-6C5C-4C3F-BC30-04E08162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F892-755E-4021-8FC7-B1F0871E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79BF-0A16-4D46-99E7-6E63E973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1D04-5041-40E9-84DB-F6E0E382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AC02-979F-45BC-8C63-84F880A4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5DC2-7DB6-451D-B403-4A093ED7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7759-BC40-401E-9A07-CC3B9027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D990-A08D-4458-98BF-B755287D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440E-733C-4322-A420-AB7CC91BB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71600" y="406440"/>
          <a:ext cx="7905600" cy="641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905600" cy="641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841320" y="222120"/>
          <a:ext cx="8015400" cy="593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22120"/>
                    <a:ext cx="8015400" cy="59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396720" y="258840"/>
          <a:ext cx="8386920" cy="6381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720" y="258840"/>
                    <a:ext cx="8386920" cy="63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71600" y="406440"/>
          <a:ext cx="8099280" cy="664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8099280" cy="66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71600" y="415800"/>
          <a:ext cx="8256600" cy="651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15800"/>
                    <a:ext cx="8256600" cy="651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1600" y="406440"/>
          <a:ext cx="7886520" cy="713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886520" cy="71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71600" y="406440"/>
          <a:ext cx="7988040" cy="720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988040" cy="72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61880" y="480960"/>
          <a:ext cx="8396280" cy="671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480960"/>
                    <a:ext cx="8396280" cy="67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09480" y="415800"/>
          <a:ext cx="8147160" cy="636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5800"/>
                    <a:ext cx="8147160" cy="636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831960" y="573120"/>
          <a:ext cx="8053200" cy="565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573120"/>
                    <a:ext cx="8053200" cy="56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95200" y="369720"/>
          <a:ext cx="8756640" cy="628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200" y="369720"/>
                    <a:ext cx="8756640" cy="628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71600" y="379440"/>
          <a:ext cx="8348400" cy="646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379440"/>
                    <a:ext cx="8348400" cy="64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57080" y="831960"/>
          <a:ext cx="7813800" cy="543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831960"/>
                    <a:ext cx="7813800" cy="54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84360" y="415800"/>
          <a:ext cx="8229600" cy="688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15800"/>
                    <a:ext cx="8229600" cy="68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84360" y="415800"/>
          <a:ext cx="8210520" cy="689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15800"/>
                    <a:ext cx="8210520" cy="689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71600" y="406440"/>
          <a:ext cx="7878600" cy="64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87860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2:56:39Z</dcterms:created>
  <dc:creator>jalvarez</dc:creator>
  <dc:description/>
  <dc:language>en-US</dc:language>
  <cp:lastModifiedBy>jalvarez</cp:lastModifiedBy>
  <cp:lastPrinted>2006-03-30T20:21:23Z</cp:lastPrinted>
  <dcterms:modified xsi:type="dcterms:W3CDTF">2011-01-14T13:37:06Z</dcterms:modified>
  <cp:revision>60</cp:revision>
  <dc:subject/>
  <dc:title>Sin título de diapositiva</dc:title>
</cp:coreProperties>
</file>