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EE76-C1A4-4040-8A20-C06689C9BD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520-03BD-4F7B-BE60-94867758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37F-4C4F-4C0F-9BAC-DB140D29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A4C-8D82-4BF8-A266-B427BE0C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85D-B91A-4DB2-90BD-2D101980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05B-2FA0-426E-8AFD-2D68F1CF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BD0-2383-44E3-84C9-C7AC2343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708-007D-4BF8-8D74-E8D0087B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3C8-9C26-4746-A21B-A1680690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DF9-BB86-4C0E-AD92-1396D054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64F-7B35-44CA-96B0-75BE65F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479-D218-49E7-B7B7-35603738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D8F-2E83-4BB5-B37B-16C48DEA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200E-5AEC-4DFC-8B6B-4557A6B09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9960" y="301680"/>
          <a:ext cx="846000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01680"/>
                    <a:ext cx="8460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x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Para “limpiar” todos los caracteres del texto del objeto respuesta (de la clase Entry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desde índice 0 al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11-04-16T14:41:26Z</dcterms:modified>
  <cp:revision>208</cp:revision>
  <dc:subject/>
  <dc:title>Sin título de diapositiva</dc:title>
</cp:coreProperties>
</file>