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F06D-28A7-426B-8C1A-B121E0CC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B5E-F635-4479-AB8B-003E9B52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3AC-0F0E-4ACD-A3C5-52AE1C50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5552-9D7A-430D-AFF5-B3D35B74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F788-FCFD-44DF-9F28-A90A709F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6D56-EA97-4EBD-9FB2-C67CCC2F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3086-1969-401A-8E31-5F1BBDEB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42D-0953-4817-A96E-E9500F3C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4285-3346-42CD-B4B3-B02B9201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4E5-DBE5-4243-9E14-85A74134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CB1-3FE8-457E-86A2-D1C5D5DD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1DCC-10FE-42B1-8B59-E5516F8B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6D2B-6424-4A2A-A513-649E84EB4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345960" y="284040"/>
          <a:ext cx="818532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84040"/>
                    <a:ext cx="818532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Rectángulo"/>
          <p:cNvSpPr/>
          <p:nvPr/>
        </p:nvSpPr>
        <p:spPr>
          <a:xfrm>
            <a:off x="179280" y="333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0=H-coordenadaPixel(f(a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=coordenadaPixel(x,a,b,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H-coordenadaPixel(f(x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x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vertir x en [y,z] a coord [0,w] de pixel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oordenadaPixel(x,y,z,w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int(w*(x-y)/(z-y)+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372960" y="399960"/>
          <a:ext cx="8194680" cy="62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99960"/>
                    <a:ext cx="8194680" cy="62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230040" y="141120"/>
          <a:ext cx="8523360" cy="697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41120"/>
                    <a:ext cx="8523360" cy="697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177840" y="195120"/>
          <a:ext cx="8825040" cy="686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95120"/>
                    <a:ext cx="8825040" cy="68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50920" y="29952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angulo: sumar x (en radi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gir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anes=x*math.pi/1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ngulo += 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 y reubicar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vanz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nuevas coorden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f = self.h + int(x*math.cos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f = self.v - int(x*math.sin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v.create_line(self.h,self.v,hf,v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ubicación de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h=h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=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5567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gono regular de N lados de tamaño L (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L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y N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016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repetir n v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avanzar tortuga en L(dibujando li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avanzar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irar tortu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girar(360.0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20386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1280" y="549360"/>
          <a:ext cx="7846920" cy="5935680"/>
        </p:xfrm>
        <a:graphic>
          <a:graphicData uri="http://schemas.openxmlformats.org/drawingml/2006/table">
            <a:tbl>
              <a:tblPr/>
              <a:tblGrid>
                <a:gridCol w="1512720"/>
                <a:gridCol w="1656000"/>
                <a:gridCol w="1512720"/>
                <a:gridCol w="1584360"/>
                <a:gridCol w="1581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tuga 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Rectángulo"/>
          <p:cNvSpPr/>
          <p:nvPr/>
        </p:nvSpPr>
        <p:spPr>
          <a:xfrm>
            <a:off x="395280" y="476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Existe clase predefinida en Phy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urtle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=Turt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forward(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539640" y="147600"/>
          <a:ext cx="7564680" cy="67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7600"/>
                    <a:ext cx="756468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3 Rectángulo"/>
          <p:cNvSpPr/>
          <p:nvPr/>
        </p:nvSpPr>
        <p:spPr>
          <a:xfrm>
            <a:off x="0" y="2852640"/>
            <a:ext cx="925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rectangle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rectangle(100,100,180,160,fill="black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20192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2019600" cy="2276280"/>
          </a:xfrm>
          <a:prstGeom prst="rect">
            <a:avLst/>
          </a:prstGeom>
          <a:ln w="0">
            <a:noFill/>
          </a:ln>
        </p:spPr>
      </p:pic>
      <p:sp>
        <p:nvSpPr>
          <p:cNvPr id="46" name="2 Rectángulo"/>
          <p:cNvSpPr/>
          <p:nvPr/>
        </p:nvSpPr>
        <p:spPr>
          <a:xfrm>
            <a:off x="179280" y="2997360"/>
            <a:ext cx="849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100,100,200,200,fill="black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000160" cy="2485800"/>
          </a:xfrm>
          <a:prstGeom prst="rect">
            <a:avLst/>
          </a:prstGeom>
          <a:ln w="0">
            <a:noFill/>
          </a:ln>
        </p:spPr>
      </p:pic>
      <p:sp>
        <p:nvSpPr>
          <p:cNvPr id="48" name="2 Rectángulo"/>
          <p:cNvSpPr/>
          <p:nvPr/>
        </p:nvSpPr>
        <p:spPr>
          <a:xfrm>
            <a:off x="0" y="692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ircunferencia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and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ibujar(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random.randint(0,an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random.randint(0,al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ndom.randint(1,min(alto,ancho)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x-r,y-r,x+r,y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to=200; ancho=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v,text="circunferencia",command=dibuj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,width=ancho,height=al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; 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93760" y="160200"/>
          <a:ext cx="7881840" cy="663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60200"/>
                    <a:ext cx="7881840" cy="66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Rectángulo"/>
          <p:cNvSpPr/>
          <p:nvPr/>
        </p:nvSpPr>
        <p:spPr>
          <a:xfrm>
            <a:off x="250920" y="26028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=input("ancho?"); H=input("alto?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W,height=H,bg="white")#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ibujar 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0,H-1,W,H-1) #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W/2,0,W/2,H) #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; v0=0 #coordenadas comienzo primera 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terar con x=-100,-90,…,-10,0,10,…,90,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-10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100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=x*x #valor de la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int(W*(x+100)/200 + 0.5) #coord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H - int(H*y/10000 + 0.5) #coord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 #actualizar coordenadas comienzo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399960" y="417600"/>
          <a:ext cx="8487000" cy="719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17600"/>
                    <a:ext cx="8487000" cy="71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50920" y="191160"/>
            <a:ext cx="889308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seno con 20 ptos entre 0 y 2*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1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math.sin,20,0,2*math.pi,cv,2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ficar x*x con 20 ptos entre -100 y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adr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 return x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ficar(cuadrado,20,-100,100,cv,200,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Rectángulo"/>
          <p:cNvSpPr/>
          <p:nvPr/>
        </p:nvSpPr>
        <p:spPr>
          <a:xfrm>
            <a:off x="324000" y="260280"/>
            <a:ext cx="87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 usando n puntos de [a,b] en canvas cv de WxH pix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aficar(f,n,a,b,cv,W,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terminar minimo y maximo de f en [a,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=(b-a)/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= 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min(y,min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max(y,max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jalvarez</cp:lastModifiedBy>
  <cp:lastPrinted>2006-04-21T23:26:38Z</cp:lastPrinted>
  <dcterms:modified xsi:type="dcterms:W3CDTF">2011-04-19T11:53:52Z</dcterms:modified>
  <cp:revision>95</cp:revision>
  <dc:subject/>
  <dc:title>Sin título de diapositiva</dc:title>
</cp:coreProperties>
</file>