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5E5B-FCDC-4315-9431-3528693E9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5B7C-87A9-4A9C-AFE3-740555799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A849-3D12-42A5-B9A8-069F2F9C4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BC82-AB64-458F-8921-8DD93CA9B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7C05-D4CF-457E-99F9-523A2FF3D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0228-B14F-45D1-AA38-D4C5D342E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E572-4D23-4A09-B2DD-ED5172832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90C5-2AA2-4AAE-90FB-F2C86E6C2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913E-0D9E-4AFA-B94D-2D615E459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8E60-7225-4A1A-9071-0322AAA4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46BA-A4FF-49B9-9E9A-FB7BCB2A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9748-ACA8-4989-8445-07E274E9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E0D35-8604-4374-8938-48CD085A18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rchivos en disco: motiv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24000" y="1700280"/>
          <a:ext cx="8569080" cy="4970520"/>
        </p:xfrm>
        <a:graphic>
          <a:graphicData uri="http://schemas.openxmlformats.org/drawingml/2006/table">
            <a:tbl>
              <a:tblPr/>
              <a:tblGrid>
                <a:gridCol w="2252520"/>
                <a:gridCol w="2859120"/>
                <a:gridCol w="345744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oria (RA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 de memor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látil (contenido se pierd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manente (contenido se mantien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loc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ápida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seg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nta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seg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empo acce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tante (a cualquier luga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ble (depende de cercanía a cabezal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rato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0 veces -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ac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itada (máx 4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yor (máx 500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01640" y="480960"/>
          <a:ext cx="7786800" cy="669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640" y="480960"/>
                    <a:ext cx="7786800" cy="66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30080" y="527040"/>
          <a:ext cx="7823520" cy="6510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080" y="527040"/>
                    <a:ext cx="7823520" cy="65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341280" y="461880"/>
          <a:ext cx="8710560" cy="672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280" y="461880"/>
                    <a:ext cx="8710560" cy="672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06440" y="507960"/>
          <a:ext cx="8599320" cy="6807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507960"/>
                    <a:ext cx="8599320" cy="680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79280" y="115920"/>
            <a:ext cx="864072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#contar lineas y caracteres de un arch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l=0 #contador de lín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c=0 #contador de caract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=open(raw_input("archivo?"),"r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 Tr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a=a.readlin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linea=="": brea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l=nl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for c in linea: nc=nc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.clos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nl,"linea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nc,"caractere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68360" y="549360"/>
            <a:ext cx="79200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#contar lineas y caracteres de un arch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l=0 #contador de lín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c=0 #contador de caract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=open(raw_input("archivo?"),"r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for linea in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l=nl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c=nc+len(line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.clos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nl,"linea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nc,"caractere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68360" y="260280"/>
            <a:ext cx="835164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#contar lineas y caracteres de un arch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l=0 #contador de lín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c=0 #contador de caract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=open(raw_input("archivo?"),"r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for linea in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nl += 1 #nl=nl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nc += len(linea) #nc=nc+len(line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.clos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nl,"linea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nc,"caractere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ntaxis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riable operador= expre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emántica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riable = variable operador (expres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68360" y="260280"/>
            <a:ext cx="835164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#contar lineas y caracteres de un arch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=open(raw_input("archivo?"),"r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s=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""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#string para concatenar lin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for linea in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s += linea #s=s+li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.clos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s.count(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\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),"linea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len(s),"caracteres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ta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aplicable a archivos que caben en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68360" y="692280"/>
            <a:ext cx="835164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#contar lineas y caracteres de un arch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=open(raw_input("archivo?"),"r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s = a.read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a.clos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s.count(“\n”),"linea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len(s),"caracteres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¿a.read(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ee y entrega todos los caracteres del archiv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06440" y="379440"/>
          <a:ext cx="8580240" cy="689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379440"/>
                    <a:ext cx="8580240" cy="689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969840" y="674640"/>
          <a:ext cx="7315200" cy="594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9840" y="674640"/>
                    <a:ext cx="7315200" cy="59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84360" y="433440"/>
          <a:ext cx="8062920" cy="599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33440"/>
                    <a:ext cx="8062920" cy="59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73120" y="554040"/>
          <a:ext cx="8358120" cy="557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3120" y="554040"/>
                    <a:ext cx="835812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71600" y="396720"/>
          <a:ext cx="8543880" cy="616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396720"/>
                    <a:ext cx="8543880" cy="616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47720" y="507960"/>
          <a:ext cx="7888320" cy="644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7720" y="507960"/>
                    <a:ext cx="7888320" cy="644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52520" y="351000"/>
          <a:ext cx="8432640" cy="7223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351000"/>
                    <a:ext cx="8432640" cy="72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71600" y="396720"/>
          <a:ext cx="8432640" cy="675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396720"/>
                    <a:ext cx="8432640" cy="675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4:59:48Z</dcterms:created>
  <dc:creator>jalvarez</dc:creator>
  <dc:description/>
  <dc:language>en-US</dc:language>
  <cp:lastModifiedBy>jalvarez</cp:lastModifiedBy>
  <cp:lastPrinted>2006-04-04T19:13:56Z</cp:lastPrinted>
  <dcterms:modified xsi:type="dcterms:W3CDTF">2011-01-17T17:39:19Z</dcterms:modified>
  <cp:revision>55</cp:revision>
  <dc:subject/>
  <dc:title>Sin título de diapositiva</dc:title>
</cp:coreProperties>
</file>