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54A5-7288-4189-9837-DF333C8967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061-48BB-4360-BB48-F778D20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476-8AFD-4977-92CE-B737763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69D-3B08-4D5F-ACB0-36F89217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A6A-4EA1-46AA-9B0B-5F238258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333-8BF7-49BB-9DC0-E6E2426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2B5-06EC-4321-A33C-042933C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285-7782-480B-A172-894461D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F07-689B-48FD-9582-996B105A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017-8793-4520-9937-69F65A17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CBC-3A7A-49B6-B0FA-F793D8C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88E-BD0C-46DC-8B0B-01FE11A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769-22FD-4FA5-AE6B-B07CED9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678E-D440-405D-BE05-5F559B00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1-04-16T14:41:26Z</dcterms:modified>
  <cp:revision>208</cp:revision>
  <dc:subject/>
  <dc:title>Sin título de diapositiva</dc:title>
</cp:coreProperties>
</file>