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343D-34ED-4F8E-A307-CDE21755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E509-7BD6-47DB-9C65-7CFD8B20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7C3A-A409-4C39-ABC6-E87ED940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6E3D-49BA-4B17-9915-80B2B3BD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EC91-C3DD-43DA-8D36-CAFC526C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2EE6-9651-4F1E-BE01-AEF75141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D402-4A7B-4ED9-89C1-8D0CCE16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78AF-F273-47CF-A79D-3D4BE747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0E0C-8F2C-4E26-9D12-300FEAE4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3E52-0395-48CA-B696-0E17C8BC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7971-46E0-403C-962A-09A66664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0A3E-4D3A-4DCB-A543-9841DDB5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0885-D7EC-416F-AF55-FA94F4C88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uela de Verano 2010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mputación I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troducción a la Program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.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2 Pruebas (60%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793800" y="2022480"/>
          <a:ext cx="7307280" cy="38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2022480"/>
                    <a:ext cx="730728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4 tareas (4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28640" y="2022480"/>
          <a:ext cx="7288200" cy="373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2022480"/>
                    <a:ext cx="7288200" cy="37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todología pedag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todología té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ós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fundir estu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ciplina de Computación (Informá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uela de Ingeniería U. de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traer estudi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sanar” pr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spectiva de asignatura para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apa Concep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2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63" idx="0"/>
            <a:endCxn id="49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 pedagó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es centradas en alumnos y resolución de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yudantías-laboratorios: alumnos resuelven problemas en laboratorio con supervisión de profesor ayud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areas: alumnos resuelven problemas en laboratorios supervisados y abie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Hor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201680" y="2309760"/>
          <a:ext cx="6519960" cy="38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1680" y="2309760"/>
                    <a:ext cx="6519960" cy="38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ructura de una cl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roducción (30-4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esor plantea un problema y presenta contenidos para resolve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rcicio (10-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umnos resuelven un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luciones (10-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esor presenta y analiza solu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 téc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nguaje 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digma de orientación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1-04T11:43:13Z</cp:lastPrinted>
  <dcterms:modified xsi:type="dcterms:W3CDTF">2011-01-04T17:59:47Z</dcterms:modified>
  <cp:revision>24</cp:revision>
  <dc:subject/>
  <dc:title>Un curso intensivo de Introducción a la Programación Orientada a Objetos en Java  para estudiantes de secundaria </dc:title>
</cp:coreProperties>
</file>