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A76E-A9B1-4F76-84E0-C654BB5A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1EA8-39F1-4ACC-BE16-EF8B3B13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7D0A-66E7-468B-BC4F-0BD6764F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99BB-3712-41C3-9B6B-D5D3CF0A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B1A2-14E6-4B9D-A0EE-50A527CC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B89A-62A9-4F59-818F-96C61B3D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3472-C385-4F47-AF6E-3712AE27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6502-9753-41E5-BF2B-B4C387CF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8747-A7E6-4D8A-82AC-743CED57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46EA-B4EB-4D6C-8DDA-16D8D424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AAA-C449-4E21-84B0-DEFB1C64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9574-D18A-44BA-A369-AB545987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2E10-4E44-4896-A94C-DC11666AD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305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lectura/escritura y asig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selección de instrucciones (if-el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petición de instrucciones (while) y recur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14440" y="495360"/>
          <a:ext cx="7962840" cy="65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7962840" cy="65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42880" y="476280"/>
          <a:ext cx="7953480" cy="65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476280"/>
                    <a:ext cx="7953480" cy="65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Recurs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def digitos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abs(x)&lt;1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1 #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1+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digitos(x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nºs de Fibonacci: 0,1,1,2,3,5,8,13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i&lt;=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cedimientos (no devuelven resultado) recur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misterio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=input(“nº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 n==0: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misterio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n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hace misterio() con los sgtes da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99960" y="257040"/>
          <a:ext cx="8258400" cy="6258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257040"/>
                    <a:ext cx="8258400" cy="625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89000"/>
            <a:ext cx="868680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invierte string. Ej:inverso(“roma”)=“am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x==“”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verso(x[1:])+x[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capicua: capicua(“reconocer”)=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capicua(x): return x==invers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determinar si una frase es capicú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rase=raw_input(“frase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rase=frase.replace(“ “,””).low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capicua(fras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capicu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no es capicu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326880"/>
            <a:ext cx="87138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bar líneas con información cor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brir archivos de lectura y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open(“notas.txt”,”r”)  #para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open(“notas1.txt”,”w”) #para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leer todas las lin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si nombre es alfabético y nota nu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linea[0:20].replace(“ “,””).isalpha()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nd linea[20:22].replace(“ “,””).isdigit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grabar en arch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b.write(lin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cerrar 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b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916560"/>
            <a:ext cx="878544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promedio de notas y % de aprob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=alumnos=aprobados=0 #asignación “múltip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=open(“notas1.txt”) #2º parámetro “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lumnos += 1 #alumnos=alumnos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ta=int(linea[20:22]) #conversión a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 +=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nota&gt;=40: aprobados +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promedio”,suma/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% aprobados=“, 100.0*aprobados/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9280" y="460800"/>
            <a:ext cx="827892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lumnos con mejor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Nota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=“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=open(“notas1.tx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obtener nombre y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mbre=linea[0:2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ta=int(linea[20:22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mantener alumnos con mejor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nota&gt;mejor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Nota=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=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elif nota==mejor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 += “\n” + 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mejores alumnos:\n”+mej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7080" y="124200"/>
            <a:ext cx="6581520" cy="58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logo del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ante1(HH:MM)?XX:XX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ante2(HH:MM)?XX: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erencia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=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mp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aw_input(“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stante1(HH:MM)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“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2=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mp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aw_input(“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stante2(HH:MM)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“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nt “Suma=“,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1+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   #T1.__add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nt “Diferencia=“,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1-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#T1.__sub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1 &gt; 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:                #T1.__gt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nt “Mayor=“,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1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    #T1.__st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nt “Mayor=“,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380880"/>
          <a:ext cx="8448840" cy="653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448840" cy="653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19040" y="343080"/>
          <a:ext cx="8410680" cy="626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10680" cy="62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19040" y="343080"/>
          <a:ext cx="8439120" cy="625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39120" cy="62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19040" y="343080"/>
          <a:ext cx="8429760" cy="67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29760" cy="67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19040" y="343080"/>
          <a:ext cx="8391600" cy="6771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040" y="343080"/>
                    <a:ext cx="8391600" cy="67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419040" y="343080"/>
          <a:ext cx="8543880" cy="66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543880" cy="66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19040" y="371520"/>
          <a:ext cx="8496360" cy="65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71520"/>
                    <a:ext cx="849636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%: operador de resto de di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125360"/>
            <a:ext cx="896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invertir entero de 3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“Nº 3 dígitos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1=n/100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2=n%100/10 #d2=n/10%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“inverso=”,100*d3+10*d2+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cajero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=input(“¿Cuánto dinero necesita?”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d/20000,”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 $20.000”; d=d%2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10000,”de $10.000”; d=d%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5000,”de $5.000”); d=d%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2000,”de $2.000”); d=d%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1000,”de $1.000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predefin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5760" y="1009800"/>
          <a:ext cx="8393040" cy="607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1009800"/>
                    <a:ext cx="8393040" cy="60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definidas por el progra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convertir fecha ddmmaaaa a la forma aaaamm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d=x/1000000; mm=x/10000%100; aaaa=x%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aaaa*10000 + mm*100 + 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convertir fecha aaaammdd a la forma ddmm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dmmaaa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d=x%100; mm=x%10000/100; aaaa=x/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dd*1000000 + mm*10000 + 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seleccionar mayor entre dos fec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1=input(“fecha1(ddmmaaaa)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2=input(“fecha2(ddmmaaaa)?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“mayor=“,ddmmaaaa(max(aaaammdd(f1),aaaammdd(f2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strucción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836640"/>
            <a:ext cx="8640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esolver ecuación axx+bx+c=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=input(“a?”); b=input(“b?”); c=input(“c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esultado: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a==0 and b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indefini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a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”x=“,-b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=b**2-4*a*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x=“,-b/(2*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iz=math.sqrt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x=“,(-b+raiz)/(2*a),(-b-raiz)/(2*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aices complej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strucción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0920" y="765000"/>
            <a:ext cx="810108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achipu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not ok(x) or not ok(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err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x==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empat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x==“piedra” and y==“tijeras”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x==“papel” and y====“piedra”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x==“tijeras” and y==“papel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gana primer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gana segun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ok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: #devuelve True o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==“piedra”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x==“papel” 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x==“tijer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strucción 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748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tabla celsius - fahren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=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&lt;=4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g,”ºC=“,9.0/5.0*g+32,”ºF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=g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tabla grados – funcion s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&lt;=36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dianes=math.pi*grados/18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grados,radianes,math.sin(radia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=grados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atrones (esquemas) para proceso de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inicializar             #inici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mayor=0;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mayor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leer 1º                 #repetir 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input(“nº?”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repetir mientras          #le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n!=0: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  n=input(“nº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procesar                #condición de térm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 n&gt;mayor: mayor=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if n==0: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leer sgte              #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input(“nº?”)           mayor=max(mayor,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finalizar               #finalizar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“mayor=“,mayor      print “mayor=“,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11-01-24T13:31:20Z</dcterms:modified>
  <cp:revision>83</cp:revision>
  <dc:subject/>
  <dc:title>Diapositiva 1</dc:title>
</cp:coreProperties>
</file>