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8A07-CF36-40C9-8C83-D238F3F5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B792-71C8-4801-B304-14D28B3C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B03-C631-49D1-85F8-1E793B78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66C5-D242-4FD9-883E-5E577BE2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6C9A-7A5C-4D18-98D8-5FC5F4B4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626-31CC-4256-A09C-3350732D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7F5-343F-4A54-B302-2302D832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AC2C-97AF-45F8-B760-26627FE2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FAE4-12A6-4036-8FA2-9BDF285F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9F9-F9E2-478E-9300-7EB1CA94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E28-9E38-4769-AC0F-2640F385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82C-322A-49E3-923A-2C8F02B4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ED6D-39A7-4CF7-8F1B-5B1D75013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63400" y="396720"/>
          <a:ext cx="795204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396720"/>
                    <a:ext cx="795204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6800" y="701640"/>
          <a:ext cx="84250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701640"/>
                    <a:ext cx="84250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01640" y="461880"/>
          <a:ext cx="7897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61880"/>
                    <a:ext cx="7897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11360" y="433440"/>
          <a:ext cx="7804080" cy="69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33440"/>
                    <a:ext cx="780408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1-01-09T13:34:24Z</dcterms:modified>
  <cp:revision>59</cp:revision>
  <dc:subject/>
  <dc:title>Sin título de diapositiva</dc:title>
</cp:coreProperties>
</file>