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CEDB2-2A24-45F6-8011-761547329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14373-1BEC-4E38-939E-23C132426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94F89-1662-46E4-A8CF-0102A0287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9D692-FA36-4C9B-A1F4-00B4E9EE7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A093D-97AC-4C9A-90DB-FDB13A144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E5CCB-6CA5-40B8-8879-B979FFC84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66C36-3C12-4180-8899-B9D244C33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23AD3-55A5-4762-8748-733061BD4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62328-2B0C-4AD9-A7D4-723A0FBDA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6D3AA-E11B-4DFF-98D8-17F28AC27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C8326-535D-414C-90CA-187F71020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ED9FC-287D-4F9B-8E2D-86ACC4918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EE429-0C9F-45FC-B178-2248BE189D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09480" y="480960"/>
          <a:ext cx="8183520" cy="6843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480960"/>
                    <a:ext cx="8183520" cy="684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"/>
          <p:cNvGraphicFramePr/>
          <p:nvPr/>
        </p:nvGraphicFramePr>
        <p:xfrm>
          <a:off x="417600" y="338040"/>
          <a:ext cx="8513640" cy="6346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7600" y="338040"/>
                    <a:ext cx="8513640" cy="634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417600" y="338040"/>
          <a:ext cx="8424720" cy="6284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7600" y="338040"/>
                    <a:ext cx="8424720" cy="628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"/>
          <p:cNvGraphicFramePr/>
          <p:nvPr/>
        </p:nvGraphicFramePr>
        <p:xfrm>
          <a:off x="414360" y="334800"/>
          <a:ext cx="8448480" cy="6364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4360" y="334800"/>
                    <a:ext cx="8448480" cy="636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993600" y="657360"/>
          <a:ext cx="7174080" cy="5530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3600" y="657360"/>
                    <a:ext cx="7174080" cy="553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"/>
          <p:cNvGraphicFramePr/>
          <p:nvPr/>
        </p:nvGraphicFramePr>
        <p:xfrm>
          <a:off x="390600" y="407880"/>
          <a:ext cx="8567640" cy="6197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0600" y="407880"/>
                    <a:ext cx="8567640" cy="619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318960" y="328680"/>
          <a:ext cx="8691840" cy="6640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8960" y="328680"/>
                    <a:ext cx="8691840" cy="664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"/>
          <p:cNvGraphicFramePr/>
          <p:nvPr/>
        </p:nvGraphicFramePr>
        <p:xfrm>
          <a:off x="380880" y="407880"/>
          <a:ext cx="8372520" cy="6081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407880"/>
                    <a:ext cx="8372520" cy="608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324000" y="331920"/>
          <a:ext cx="7840440" cy="7065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331920"/>
                    <a:ext cx="7840440" cy="706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331920" y="415800"/>
          <a:ext cx="8369280" cy="6473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920" y="415800"/>
                    <a:ext cx="8369280" cy="647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754200" y="620640"/>
          <a:ext cx="7821360" cy="6729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4200" y="620640"/>
                    <a:ext cx="7821360" cy="672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755640" y="689040"/>
          <a:ext cx="7547040" cy="6168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689040"/>
                    <a:ext cx="7547040" cy="616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417600" y="338040"/>
          <a:ext cx="8521560" cy="6337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7600" y="338040"/>
                    <a:ext cx="8521560" cy="633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701640" y="360360"/>
          <a:ext cx="7758000" cy="6473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1640" y="360360"/>
                    <a:ext cx="7758000" cy="647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24000" y="798840"/>
            <a:ext cx="8280360" cy="49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mayorQue(self,x):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étodo que compara dos objetos (fracciones)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uelve un bool (True o Fal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j de invocacion:  f1.mayorQue(f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f de primer operando: self (componentes: self.a, self.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f de segundo operando: x (componentes: x.a, x.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suma(self,x):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étodo que suma dos frac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j de invocacion:  f1.suma(f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 nuevo objeto con la su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ado: referencia a nuevo objeto de clase Frac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331920" y="415800"/>
          <a:ext cx="8359560" cy="6483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920" y="415800"/>
                    <a:ext cx="8359560" cy="648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0T15:21:23Z</dcterms:created>
  <dc:creator>jalvarez</dc:creator>
  <dc:description/>
  <dc:language>en-US</dc:language>
  <cp:lastModifiedBy>jalvarez</cp:lastModifiedBy>
  <cp:lastPrinted>2006-04-08T15:00:39Z</cp:lastPrinted>
  <dcterms:modified xsi:type="dcterms:W3CDTF">2011-01-19T13:22:05Z</dcterms:modified>
  <cp:revision>99</cp:revision>
  <dc:subject/>
  <dc:title>Sin título de diapositiva</dc:title>
</cp:coreProperties>
</file>