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AB4E-FB10-4867-8C2F-653AD886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E7B3-0933-4689-824A-3E4E9CE7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9064-A44D-4EF5-968B-8675BB72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D5E-7475-46FC-B902-9855B09C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4E7D-E712-4AE2-A2D7-2377C083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AF8-D0DA-4875-AB81-EE99F877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6223-48D1-4C90-B259-ACE769BC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6710-2422-4998-BD88-E2FD338F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5D0-1B33-4189-BF7C-C92E5C19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B37-E974-4F13-871A-46422987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9E6-9886-49AB-8815-B449017A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1DE-AB35-4C64-A5E4-35FAF974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566C-DF4E-4761-A6EE-9029703A0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480960"/>
          <a:ext cx="8183520" cy="68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960"/>
                    <a:ext cx="818352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17600" y="338040"/>
          <a:ext cx="851364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1364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17600" y="338040"/>
          <a:ext cx="8424720" cy="62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424720" cy="62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14360" y="334800"/>
          <a:ext cx="844848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334800"/>
                    <a:ext cx="844848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993600" y="657360"/>
          <a:ext cx="7174080" cy="55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657360"/>
                    <a:ext cx="7174080" cy="55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90600" y="407880"/>
          <a:ext cx="856764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07880"/>
                    <a:ext cx="856764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18960" y="328680"/>
          <a:ext cx="8691840" cy="66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328680"/>
                    <a:ext cx="869184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407880"/>
          <a:ext cx="8372520" cy="60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7880"/>
                    <a:ext cx="8372520" cy="60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00" y="331920"/>
          <a:ext cx="784044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1920"/>
                    <a:ext cx="784044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1920" y="415800"/>
          <a:ext cx="83692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692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54200" y="620640"/>
          <a:ext cx="7821360" cy="672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20640"/>
                    <a:ext cx="7821360" cy="67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5640" y="689040"/>
          <a:ext cx="754704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89040"/>
                    <a:ext cx="754704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17600" y="338040"/>
          <a:ext cx="8521560" cy="63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215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01640" y="360360"/>
          <a:ext cx="775800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360360"/>
                    <a:ext cx="7758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798840"/>
            <a:ext cx="828036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ayorQue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compara dos objetos (fracciones)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uelve un bool (True o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mayorQue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primer operando: self (componentes: self.a, self.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segundo operando: x (componentes: x.a, x.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suma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suma dos f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suma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 nuevo objeto con la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ado: referencia a nuevo objeto de clase Fra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31920" y="415800"/>
          <a:ext cx="8359560" cy="648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59560" cy="648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11-01-19T13:22:05Z</dcterms:modified>
  <cp:revision>99</cp:revision>
  <dc:subject/>
  <dc:title>Sin título de diapositiva</dc:title>
</cp:coreProperties>
</file>