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E857-DDCD-4D87-93D3-D10DD05AD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4FEB-B050-4434-952A-91D5045A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60EB-41AE-4727-BF76-6A578D995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C806-47D9-4909-AFF0-BC95EA4D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89CF-2F64-48C3-A801-AB4FD358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30DD-217A-40A4-AFB4-B2342ADD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3C0F-6A7C-4839-B864-DD7C855D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64E2-C56C-45F7-94EB-7DFC5B1C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EB31-2FAC-4063-B03D-95945DF0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E409-C1F0-4984-92AB-60C6C12B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26FB-1D62-434C-969E-1A7A476B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338A-E541-41BD-BFCA-B1C3FE30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9F23-F3CD-4E3B-BA05-CBEFA00B7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2160" y="770040"/>
          <a:ext cx="75247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770040"/>
                    <a:ext cx="75247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55640" y="549360"/>
          <a:ext cx="8091360" cy="618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49360"/>
                    <a:ext cx="8091360" cy="61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79280" y="806400"/>
          <a:ext cx="8785080" cy="5430600"/>
        </p:xfrm>
        <a:graphic>
          <a:graphicData uri="http://schemas.openxmlformats.org/drawingml/2006/table">
            <a:tbl>
              <a:tblPr/>
              <a:tblGrid>
                <a:gridCol w="820440"/>
                <a:gridCol w="3755880"/>
                <a:gridCol w="4208760"/>
              </a:tblGrid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1 promedio=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3184560" y="13644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0036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79280" y="1052640"/>
          <a:ext cx="8713800" cy="4757760"/>
        </p:xfrm>
        <a:graphic>
          <a:graphicData uri="http://schemas.openxmlformats.org/drawingml/2006/table">
            <a:tbl>
              <a:tblPr/>
              <a:tblGrid>
                <a:gridCol w="814320"/>
                <a:gridCol w="3838680"/>
                <a:gridCol w="40608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2 promedio=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2860560" y="352440"/>
            <a:ext cx="455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35320" y="47628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60360" y="331920"/>
          <a:ext cx="8718480" cy="718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331920"/>
                    <a:ext cx="8718480" cy="71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52520" y="433440"/>
          <a:ext cx="8413560" cy="59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433440"/>
                    <a:ext cx="8413560" cy="59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84360" y="544680"/>
          <a:ext cx="6962760" cy="577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544680"/>
                    <a:ext cx="6962760" cy="57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11360" y="590400"/>
          <a:ext cx="7453080" cy="578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590400"/>
                    <a:ext cx="7453080" cy="57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14280" y="304920"/>
          <a:ext cx="8755200" cy="656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304920"/>
                    <a:ext cx="8755200" cy="65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396720" y="258840"/>
          <a:ext cx="8239320" cy="741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258840"/>
                    <a:ext cx="8239320" cy="74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79440" y="295200"/>
          <a:ext cx="8515440" cy="626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295200"/>
                    <a:ext cx="851544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54040" y="387360"/>
          <a:ext cx="8183520" cy="621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387360"/>
                    <a:ext cx="8183520" cy="62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" y="1981080"/>
          <a:ext cx="7918560" cy="414036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17680" y="517680"/>
          <a:ext cx="829440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294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87360" y="442800"/>
          <a:ext cx="8543880" cy="69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442800"/>
                    <a:ext cx="8543880" cy="69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07960" y="527040"/>
          <a:ext cx="828504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27040"/>
                    <a:ext cx="828504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68320" y="573120"/>
          <a:ext cx="7712280" cy="547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8320" y="573120"/>
                    <a:ext cx="771228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jalvarez</cp:lastModifiedBy>
  <cp:lastPrinted>2005-01-12T14:41:26Z</cp:lastPrinted>
  <dcterms:modified xsi:type="dcterms:W3CDTF">2011-01-12T14:18:22Z</dcterms:modified>
  <cp:revision>65</cp:revision>
  <dc:subject/>
  <dc:title>Sin título de diapositiva</dc:title>
</cp:coreProperties>
</file>