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5738-3860-4B07-B6A3-DA402731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9E4-9188-4944-B0BF-C0158475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E02-D0B6-4E91-BB94-877900A9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852-6385-4245-B60F-94A302DD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98C-12C8-47DE-A0AD-FD555356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2E8-C2AD-4785-81AA-0E8C3831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94B-3FFE-4CCC-92AC-32DF9707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18E-BCAB-4FE9-A817-1F8D782D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1D0-A1FC-444F-933C-3E140632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965-CC1A-490F-8122-AE08A772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ABA-237E-44A6-9462-F431F2CC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EDB-70C7-470D-9B4A-CB1D1416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8378-6073-47F3-9A3F-2F4A6F662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901960" y="3441600"/>
            <a:ext cx="1942920" cy="1828800"/>
            <a:chOff x="2901960" y="3441600"/>
            <a:chExt cx="1942920" cy="1828800"/>
          </a:xfrm>
        </p:grpSpPr>
        <p:sp>
          <p:nvSpPr>
            <p:cNvPr id="68" name="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5120" y="479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1-01-07T13:10:55Z</dcterms:modified>
  <cp:revision>76</cp:revision>
  <dc:subject/>
  <dc:title>Sin título de diapositiva</dc:title>
</cp:coreProperties>
</file>