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C1D-0CCE-4F35-8C23-7B0EE088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D8A-C4E4-43E2-BE74-E5870AFD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F50-0D0C-4D34-884A-E74A0FCE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6CB-AE0D-4D1E-A6C7-17B5A46E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0A97-FD51-4786-A06B-53421160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F3F-AB6E-4006-A929-473BADD4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BE7-4CD2-47DD-A445-7D0AB4E6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36ED-86A0-4D2D-B705-12F601E1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6D8-85C0-4B19-BE1A-8EB52FCA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759-7AF1-4F83-9506-8C23FA50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7DEE-4929-431A-8C72-875E7FB9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7F5-6472-47A0-9D87-2E1AED9A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C977-57E1-4EBE-AE00-C6EFED11A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2010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troducción a la Program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2 Pruebas (60%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93800" y="2022480"/>
          <a:ext cx="730728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2022480"/>
                    <a:ext cx="730728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4 tareas (4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28640" y="2022480"/>
          <a:ext cx="7288200" cy="37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022480"/>
                    <a:ext cx="728820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undir estu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ciplina de Computación (Inform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uela de Ingeniería U.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raer estudi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sanar” p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pectiva de asignatura para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pa Concep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2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63" idx="0"/>
            <a:endCxn id="49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s centradas en alumnos y resolución de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yudantías-laboratorios: alumnos resuelven problemas en laboratorio con supervisión de profesor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reas: alumnos resuelven problemas en laboratorios supervisados y abie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or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01680" y="2309760"/>
          <a:ext cx="6519960" cy="38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2309760"/>
                    <a:ext cx="6519960" cy="38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ructura de un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(30-4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lantea un problema y presenta contenidos para resolve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rcicio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umnos resuelven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ones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resenta y analiza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uaje 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 de orientación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1-01-04T17:59:47Z</dcterms:modified>
  <cp:revision>24</cp:revision>
  <dc:subject/>
  <dc:title>Un curso intensivo de Introducción a la Programación Orientada a Objetos en Java  para estudiantes de secundaria </dc:title>
</cp:coreProperties>
</file>