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9D7-1329-4080-9DE5-5E659608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9DB-F868-4A8A-8085-B0767A3C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E36-7DF2-4301-8B9C-1AA5CF7C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D08-CF17-4B22-BEBE-58CD81B6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8EC-0B7F-47D4-B80A-A088C308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C9B-94C3-4D9D-8FB2-720E9F00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04B-1218-421B-859B-8AC9F83A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511-8483-4FDC-8A19-1B891EDA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877-EDE9-4420-B3F6-7F1B311F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CD9-8A25-4D57-A834-D973F0A4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DB5-9B18-48F5-9691-78602110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4985-4261-4FD7-811E-D832E8CE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F4CC-D2BC-4944-857D-0A91D34D9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1640" y="534960"/>
          <a:ext cx="761040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534960"/>
                    <a:ext cx="761040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04640"/>
            <a:ext cx="849600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=raw_input(“circulo,cuadrado,rectangulo o ” + \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riangulo?").lowe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r=="circ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irculo(input("radi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cuadrad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uadrado(input("lad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rect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Rectangulo(input("largo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anch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tri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Triangulo(input("lado1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2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3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xit("figura incorrecta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area=",f.area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perimetro=",f.perimetro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-10800"/>
            <a:ext cx="8964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transitiva” (“sucesiv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A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__init__(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197000"/>
            <a:ext cx="115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349360"/>
            <a:ext cx="108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3429000"/>
            <a:ext cx="115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4360" y="1699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23600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79560"/>
            <a:ext cx="896472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múltipl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A,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 hereda de clases A y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  #tres variables pq a y b se hered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51640" y="476280"/>
            <a:ext cx="100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476280"/>
            <a:ext cx="9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1628640"/>
            <a:ext cx="863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300720" y="980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093080" y="98064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6720" y="480960"/>
          <a:ext cx="85075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507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91520"/>
            <a:ext cx="8893080" cy="61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"radi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r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r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exit("lad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a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a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8000" y="205560"/>
            <a:ext cx="889308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2. Con H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er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nº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11253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o de arch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vención: cada clase en un archivo con nombre de la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erp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mport mat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er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__init__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elf.x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26028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Esfera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#desde archivo importe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Esfera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*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.0/3.0*math.px*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b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bo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6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5400" y="663120"/>
            <a:ext cx="85932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rchivo nombr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Esfera import E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Cubo import Cu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w_input(“esfera o cubo?”).lower(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=="esfera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Esfera(input("radi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r=="cubo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Cubo(input("lad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"erro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area=",cuerpo.are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volumen=",cuerpo.perimetr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406440"/>
          <a:ext cx="8635680" cy="67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6440"/>
                    <a:ext cx="8635680" cy="67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0960" y="480960"/>
          <a:ext cx="80535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80960"/>
                    <a:ext cx="80535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71600" y="480960"/>
          <a:ext cx="8367480" cy="686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80960"/>
                    <a:ext cx="836748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98600" y="442800"/>
          <a:ext cx="7711920" cy="62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442800"/>
                    <a:ext cx="7711920" cy="62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irc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"radi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r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2*math.pi*self.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math.pi*self.r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ad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“lad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a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4*self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self.a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onstructores son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5371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 #constructor ú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 #significado de x depende d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2*math.pi*self.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4*self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83088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Rect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,y):   #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.__init__(self,x) #ctor clas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y=y  #an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self.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2*(self.x+self.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Rectangulo(nº,n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tras figu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260280"/>
            <a:ext cx="8964720" cy="64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class Tri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,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=0 or y&lt;=0 or z&lt;=0 \ #continu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or x+y&lt;=z or x+z&lt;=y or y+z&lt;=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xit("no forman triangul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elf.x=x; self.y=y; self.z=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self.x+self.y+self.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(self.x+self.y+self.z)/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return math.sqrt(s*(s-self.x)*(s-self.y)*(s-self.z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t=Triangulo(nº,nº,n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11-01-21T13:25:18Z</dcterms:modified>
  <cp:revision>71</cp:revision>
  <dc:subject/>
  <dc:title>Sin título de diapositiva</dc:title>
</cp:coreProperties>
</file>