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882-974F-47B5-9454-5497375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249-7701-4CF9-806B-D649FA22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A7E-BD00-4DA1-A3DF-7F2156C0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12C-166E-402A-B1EE-60FDACFA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014-35E8-4300-B804-8D742E82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118-A63D-4F5B-A469-B8599DFD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451-2F18-4AF1-B975-678DAB65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214-DAB8-46C3-8F7D-DBEDF97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FE1-433B-4687-8497-D38817A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AC8-C711-451C-A383-3B3469A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974-BD80-40C7-B3F1-CF85353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A47-2509-4AE1-BDC6-EFEEA49A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F7D-ECF9-4DEF-8F10-3E5666674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2:05Z</dcterms:modified>
  <cp:revision>99</cp:revision>
  <dc:subject/>
  <dc:title>Sin título de diapositiva</dc:title>
</cp:coreProperties>
</file>