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24F-9F97-4190-934C-281B4CE4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797-D5AB-452E-929E-76A15B6D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79F5-14C8-476C-A3F9-60E313B2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331F-A5A9-46C6-A114-3C67C287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B55-F766-49AE-B60A-833199CC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1C9-7AD9-4651-B077-F8EE5A90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8295-4DEB-4B5C-AAB4-8E704CC0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2541-0A80-4029-BD1E-F224F91F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282A-9EDE-4702-A469-B75EFC8F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0DC-4950-4E7C-B81C-608C66B7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E1C-72BA-4DCA-B3A8-5C689525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7C5F-E11E-4A4B-80EA-ED6D2CDA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EAAB3E23-36BC-48CE-8D8D-E324EB751D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9120" y="493560"/>
          <a:ext cx="829152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29152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407880"/>
          <a:ext cx="842652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2652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82760"/>
          <a:ext cx="8562960" cy="69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62960" cy="69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82760"/>
          <a:ext cx="8514000" cy="70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473040"/>
            <a:ext cx="8640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26240" cy="65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26240" cy="65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17080" cy="821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17080" cy="821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1-01-05T19:40:21Z</dcterms:modified>
  <cp:revision>94</cp:revision>
  <dc:subject/>
  <dc:title>Sin título de diapositiva</dc:title>
</cp:coreProperties>
</file>