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735-239A-4935-B747-44C58C18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944-4741-4117-B15E-4100D6B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CEA-6AE3-4A44-8920-189B672C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583-5ABF-4FF5-A6B0-76C81249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D5D-417B-480A-AE57-76031235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A47-48A5-4FCF-AB62-63C8F20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993-BE51-4516-9105-B814C55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BF7-C587-446A-97D4-3BC77F39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13B-C4FC-4F98-B0CE-BDDF5B10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6B1-14AB-452B-A45E-6F7B90A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EAF-115D-41C0-9017-FC7A401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E42-E969-4D2F-8124-F104C1C2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4328-0286-4DCC-B2FE-C2901241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 y 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796284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796284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abs(x)&lt;1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+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nºs de Fibonacci: 0,1,1,2,3,5,8,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i&lt;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9960" y="257040"/>
          <a:ext cx="8258400" cy="625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5840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==“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capicua: capicua(“reconocer”)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raw_input(“fras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rase=frase.replace(“ “,””).lo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26880"/>
            <a:ext cx="8713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4884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4884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9040" y="343080"/>
          <a:ext cx="841068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343080"/>
          <a:ext cx="8391600" cy="67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343080"/>
                    <a:ext cx="8391600" cy="67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5760" y="1009800"/>
          <a:ext cx="839304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009800"/>
                    <a:ext cx="8393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1010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chipu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not ok(x) or not ok(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empa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x==“piedra” and y==“tijeras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and y==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 and y==“papel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prim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“gana segu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 #devuelve True 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“piedra”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papel”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x==“tijer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1-24T13:31:20Z</dcterms:modified>
  <cp:revision>83</cp:revision>
  <dc:subject/>
  <dc:title>Diapositiva 1</dc:title>
</cp:coreProperties>
</file>