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B801-EAFE-4C4E-A3A9-816FB1A713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E02-07E7-4512-996B-CE413C66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325-E217-44C5-884E-CB8FDA2A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3E0-20B3-4322-AE87-AED18CBF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386-260B-4008-9576-853C70B7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A10-5DCF-4D90-B5AE-3B7FF918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8F5-37D6-4C19-941B-A92EE9E4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90C-BD96-47C8-BECA-D3FE5528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E33-7053-4D0E-A50C-C746A0D3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B53-CD51-4575-AED8-1EA40EFE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9B8-E171-4107-9105-C35B32AE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5D9-8C17-4523-94C7-AF7938D9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CC9-4FF5-400E-B5AA-F6D5FE94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3BD2-6863-4D5C-94EE-F01900370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Para “limpiar” todos los caracteres del texto del objeto respuesta (de la clase Entry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desde índice 0 al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1-04-16T14:41:26Z</dcterms:modified>
  <cp:revision>208</cp:revision>
  <dc:subject/>
  <dc:title>Sin título de diapositiva</dc:title>
</cp:coreProperties>
</file>