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102-C0E0-4143-BD2E-76EB6500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F99-11DF-487F-99BA-BB836067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90D-9DF6-493E-A6D6-A9E38DAF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E3A-08E9-4663-BD90-DBF51A99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383-9146-4227-819C-F17E8E19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1E1-E084-4DE7-A0A5-226DCF1B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B1F-ED98-479D-B7E6-A76FEC8B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48A-B58A-4C6E-B0DA-A93A3B43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3A7-8E74-48C3-8EF0-F48295D0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981-D628-46B7-BC06-84416A17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E4F-DBDB-4AD4-8FDE-B52CAE3E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971-EBAC-42E3-BEF0-679C9DA0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158C-435A-4459-BF05-20712D08F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01-09T13:34:24Z</dcterms:modified>
  <cp:revision>59</cp:revision>
  <dc:subject/>
  <dc:title>Sin título de diapositiva</dc:title>
</cp:coreProperties>
</file>