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C6E-0827-425D-975A-3513F3E6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4FD-B4A3-4344-8718-D0B08F4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24B-D1A5-4088-BC38-CCE6F0F3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29B-9D23-45F3-ADD3-4611B0A4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D36-7A41-489C-8A6C-6EA67F3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EC2-3F86-42CA-A683-39328DC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5FF-5F87-42CE-8972-50E1117E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D0A-EA9A-4C42-BAD6-3993FCE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792-B3CC-40AB-A4DB-06996B1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43D-8AAA-4FDE-AF7D-D1FD7E1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CA8-3ACA-4856-A19A-C4B759A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365-1949-4456-AF66-A83204A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75D3-5CA1-4B3D-AF53-D2B16796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180,16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1-04-19T11:53:52Z</dcterms:modified>
  <cp:revision>95</cp:revision>
  <dc:subject/>
  <dc:title>Sin título de diapositiva</dc:title>
</cp:coreProperties>
</file>