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24-A521-4B8E-91F0-FF21F429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05F-94FA-4BB4-84FD-870CDD5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D2A-DDD4-4894-BBF0-20DFAF0A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12A-BA2D-48C5-A051-EE77E73A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97F-73DD-463B-A571-323AD08C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2A4-093B-42C1-AB45-C8159F6A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4A3-10E6-4076-9DA4-800D6981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9B7-E3F3-4F9F-83DB-E52FBCCD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6B0-6DD1-45F4-83F9-EB90D376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50C-D216-443A-AC60-8E56E59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98B-9147-454F-BB3E-EB3DAAFC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9ED-6AE1-45DF-AF86-DB57231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67D2-1B75-4C15-8AC3-1F964D24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1880" y="480960"/>
          <a:ext cx="8396280" cy="67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96280" cy="67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1-14T13:37:06Z</dcterms:modified>
  <cp:revision>60</cp:revision>
  <dc:subject/>
  <dc:title>Sin título de diapositiva</dc:title>
</cp:coreProperties>
</file>