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6DB-3021-46BA-9E86-DC09B3AB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4B7-E559-40C5-91E3-1631A0F0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CE4-D6ED-4D38-B662-B7B611A9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423-10CB-4463-A2EC-3D0A8F00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D1E-BD0E-4A36-BEC8-FA7586A9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A52-8C66-47DC-81B6-8B84D4C6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27B-AAAE-4F07-817B-B6F34BFF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B91-95E9-460C-97D1-70ECD7C9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972-8617-4B90-A163-37DE94A8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A33-86FF-413D-A494-73A16344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070-F722-4BE8-9F35-8DCC8CF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C26-389F-4111-9114-7995236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5515-725D-4AB2-8FB8-B546019BF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8:22Z</dcterms:modified>
  <cp:revision>65</cp:revision>
  <dc:subject/>
  <dc:title>Sin título de diapositiva</dc:title>
</cp:coreProperties>
</file>