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960" y="0"/>
            <a:ext cx="2967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7400" y="731520"/>
            <a:ext cx="4975200" cy="37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960" y="9413640"/>
            <a:ext cx="2967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9EF5-5E46-44CB-91F6-AA91CDF718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14F0-A789-4830-B783-2FAF0EF25D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21EC-5389-4575-B8F3-9332DBAB69A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F5DA-B9EB-4D4F-825C-1EE8C5AB4E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62E2-226E-4E39-9FA5-B3692BBACF9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45C8-7919-4B61-A6F0-BC5923457D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8F84-E385-485A-A96B-6450C65BE5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1377-1D3F-43C9-AE09-37AFBF920E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4BD2-5C1F-46BE-8729-A34F99C1BA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2E30-CD0B-48F1-B016-1513DBAF7C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2F6C-1B7F-4D74-86A0-68E4DFF82C0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2967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: lectura/escritura/asi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55960" y="9414000"/>
            <a:ext cx="2967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C4A1-C75B-4C5E-A124-3B78E92BC5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87400" y="731880"/>
            <a:ext cx="4975200" cy="3730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88480" y="4707000"/>
            <a:ext cx="49705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5B9-4E1D-4890-8665-878CDD7E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E45-0814-4522-A3D2-DC9205C5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26A-8A84-4D32-9E0A-E33D7A46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ACE-B560-4C1F-BA9C-F02B962C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C26-D96D-43F1-B66D-3707FF8B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287-71D1-4A3C-8C17-754AF3E8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AD4-C04B-4BD2-8590-59F67CC09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5E1-434C-417A-88C9-7CFDC09A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C57-3749-4834-9959-F8675F33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D5B-F9E8-42B6-91AD-451FC0CD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D1D5-DB93-4AFB-B9CE-E8D9B9CC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86E-869F-48DC-97BC-A261BD3C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9773-D8F7-41D1-9CE6-5416DB766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542880" y="655560"/>
          <a:ext cx="8205840" cy="59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655560"/>
                    <a:ext cx="8205840" cy="59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1640" y="371520"/>
          <a:ext cx="8737920" cy="78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37920" cy="78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371520" y="407880"/>
          <a:ext cx="8759880" cy="779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407880"/>
                    <a:ext cx="8759880" cy="77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519120" y="493560"/>
          <a:ext cx="8253360" cy="757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253360" cy="757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469800" y="407880"/>
          <a:ext cx="8390160" cy="58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39016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469800" y="482760"/>
          <a:ext cx="8550360" cy="69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50360" cy="69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469800" y="482760"/>
          <a:ext cx="8514000" cy="70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14000" cy="70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69800" y="482760"/>
          <a:ext cx="8612280" cy="777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12280" cy="77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469800" y="482760"/>
          <a:ext cx="8588520" cy="77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7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5280" y="395280"/>
          <a:ext cx="863748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3748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44600" y="457200"/>
          <a:ext cx="8663040" cy="622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66304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Pytho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print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input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da instrucción en una lí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put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766800" y="839880"/>
          <a:ext cx="778356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839880"/>
                    <a:ext cx="778356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9280" y="473040"/>
            <a:ext cx="864072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inpu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y lo guarda en la variable ind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44600" y="482760"/>
          <a:ext cx="8513640" cy="65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13640" cy="65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1007640"/>
            <a:ext cx="856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ón que lee un nº desde el teclado y lo entrega com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611280" y="549360"/>
          <a:ext cx="8304120" cy="822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8304120" cy="82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2-01-07T19:37:47Z</dcterms:modified>
  <cp:revision>101</cp:revision>
  <dc:subject/>
  <dc:title>Sin título de diapositiva</dc:title>
</cp:coreProperties>
</file>