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39800"/>
            <a:ext cx="49352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690800"/>
            <a:ext cx="5437080" cy="4443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/enero 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3A9FDF4-7946-49EC-BADE-D93AF45F12D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/enero 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EF2C22C-01F6-42B8-B538-9C4236A413A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5240" cy="37036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0760" y="4690800"/>
            <a:ext cx="54370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/enero 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8A28E18-0777-4F38-8623-8A7F12E7992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5240" cy="37036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0760" y="4690800"/>
            <a:ext cx="54370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96F6-90BA-4256-9E3D-064F09E2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CCD7-E16B-4D3C-9362-FE3F6078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3689-DBAB-407C-B81F-482DEA6DF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7242-2918-447E-AA5A-EC034AA7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CEDB-895D-4387-A3FF-AA060023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05EA-0727-4AD0-BB93-CD51281E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96F3-5632-4F6F-88CC-70CB95D3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A9C7-49B6-4201-B0A5-7E1B19FE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6165-39D5-45DF-97FA-CE51584F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0758-5837-4682-A236-563D0D25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E8E3-AB6D-41C5-A21F-391DB30E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422F-CAC2-4D68-917A-04C28144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1490-4B18-4BF2-B255-AFCDA1A16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cuela de Verano 2012</a:t>
            </a: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mputación I: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troducción a la Program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Alvarez Ru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. de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alvarez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: 2 Pruebas (60%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3"/>
          <p:cNvGraphicFramePr/>
          <p:nvPr/>
        </p:nvGraphicFramePr>
        <p:xfrm>
          <a:off x="798480" y="2025720"/>
          <a:ext cx="7153200" cy="379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480" y="2025720"/>
                    <a:ext cx="7153200" cy="37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: 4 tareas (40%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738360" y="2025720"/>
          <a:ext cx="7048440" cy="359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2025720"/>
                    <a:ext cx="704844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todología pedagó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todología téc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pós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fundir estud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ciplina de Computación (Informát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uela de Ingeniería U. de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traer estudi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bsanar” pr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spectiva de asignatura para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apa Concep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7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8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9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1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3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8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20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23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24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AutoShape 27"/>
          <p:cNvCxnSpPr>
            <a:stCxn id="69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" name="AutoShape 28"/>
          <p:cNvCxnSpPr>
            <a:stCxn id="70" idx="0"/>
            <a:endCxn id="56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" name="Text Box 29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30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 pedagóg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rientación al aprendiz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lases centradas en alumnos y resolución de probl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yudantías-laboratorios: alumnos resuelven problemas en laboratorio con supervisión de profesor ayud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areas: alumnos resuelven problemas en laboratorios supervisados y abier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Hor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Object 3"/>
          <p:cNvGraphicFramePr/>
          <p:nvPr/>
        </p:nvGraphicFramePr>
        <p:xfrm>
          <a:off x="1200240" y="2313000"/>
          <a:ext cx="6419880" cy="379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2313000"/>
                    <a:ext cx="6419880" cy="37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tructura de una cl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roducción (30-4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esor plantea un problema y presenta contenidos para resolver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rcicio (10-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umnos resuelven un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luciones (10-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esor presenta y analiza solu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 téc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iente internet/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enguaje 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digma de orientación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1-04T11:43:13Z</cp:lastPrinted>
  <dcterms:modified xsi:type="dcterms:W3CDTF">2012-01-07T19:32:36Z</dcterms:modified>
  <cp:revision>31</cp:revision>
  <dc:subject/>
  <dc:title>Un curso intensivo de Introducción a la Programación Orientada a Objetos en Java  para estudiantes de secundaria </dc:title>
</cp:coreProperties>
</file>